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wmf" ContentType="image/x-wmf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557-C21F-43A5-B0D4-F5DC99FB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0FB-66BB-4688-B196-7B6E7914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A80-A420-40FA-A0A7-46D6CDFE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E83-D97C-4C5C-8471-0CB46512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8895-DF7B-464A-AD7E-882A72AE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CDC7-D020-4F01-BE72-B520D763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5D46-9A44-436E-A39D-BBAA9EEF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ED51-FF39-4D5E-A81E-049E8A7D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0C1A-CFB3-4463-A58C-AF031723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EBD7-8913-45DA-8F57-A669B72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2536-4500-42AD-926E-DBFF8321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320-FDC3-47E9-80A0-9DD0238D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2EC4-BB69-4D86-ABF9-42C7ABFC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ADE5-B7C0-43DD-831E-B5F58838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1109-CCC9-4B76-8AA8-782B07B5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E019-3179-441A-8FE7-BBC59203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E293-E0CC-44C8-BFA0-8609FA99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934-B041-4A16-829B-1CF434E5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15E-6488-4F01-BD9A-16159306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CFA-58DE-446B-80F2-F2D22987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03F-8722-400F-978E-D570AFDC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60D-0FBF-4CC6-BE54-D0E23663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8CE-9247-4F55-8F62-941B393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955-AB2E-4582-A433-BD65243E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0BC9-1DE3-4AFF-8633-150D8198CC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9268-B769-4E83-A279-04953CD004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Творческий проект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Универсальный переносной ящик для инструмент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4653000"/>
            <a:ext cx="8521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ранец, представляет собой смесь всех выше представленных вариантов (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хранение навалом,  ячейки, плотное закрывание, неудобство хранения большого инструмента)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и дедушкиной холщовой сум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060404_171154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5040360" cy="37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Рассмотрев  представленные выше образцы, я решил изготовить усовершенствованный вариант типичной плотницкой «разноски». Назовём его </a:t>
            </a:r>
            <a:r>
              <a:rPr b="1" lang="en-US" sz="3200" spc="-1" strike="noStrike">
                <a:solidFill>
                  <a:srgbClr val="2adef6"/>
                </a:solidFill>
                <a:latin typeface="Georgia"/>
              </a:rPr>
              <a:t>«</a:t>
            </a:r>
            <a:r>
              <a:rPr b="1" i="1" lang="en-US" sz="3200" spc="-1" strike="noStrike">
                <a:solidFill>
                  <a:srgbClr val="2adef6"/>
                </a:solidFill>
                <a:latin typeface="Georgia"/>
              </a:rPr>
              <a:t>Универсальный переносной ящик для инструмента».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Для развития идей построим опорную схему размыш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9280" y="765000"/>
            <a:ext cx="8964000" cy="5687280"/>
            <a:chOff x="179280" y="765000"/>
            <a:chExt cx="8964000" cy="5687280"/>
          </a:xfrm>
        </p:grpSpPr>
        <p:cxnSp>
          <p:nvCxnSpPr>
            <p:cNvPr id="141" name="_s23571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7418520" y="3393360"/>
              <a:ext cx="649440" cy="111960"/>
            </a:xfrm>
            <a:prstGeom prst="bentConnector3">
              <a:avLst>
                <a:gd name="adj1" fmla="val 175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23569"/>
            <p:cNvCxnSpPr/>
            <p:nvPr/>
          </p:nvCxnSpPr>
          <p:spPr>
            <a:xfrm flipV="1" rot="16200000">
              <a:off x="4484520" y="3372120"/>
              <a:ext cx="645480" cy="184680"/>
            </a:xfrm>
            <a:prstGeom prst="bentConnector3">
              <a:avLst>
                <a:gd name="adj1" fmla="val 176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23567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1232640" y="3421080"/>
              <a:ext cx="645480" cy="59760"/>
            </a:xfrm>
            <a:prstGeom prst="bentConnector3">
              <a:avLst>
                <a:gd name="adj1" fmla="val 176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23565"/>
            <p:cNvCxnSpPr/>
            <p:nvPr/>
          </p:nvCxnSpPr>
          <p:spPr>
            <a:xfrm flipV="1" rot="16200000">
              <a:off x="5835240" y="364680"/>
              <a:ext cx="645480" cy="3028320"/>
            </a:xfrm>
            <a:prstGeom prst="bentConnector3">
              <a:avLst>
                <a:gd name="adj1" fmla="val 176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23564"/>
            <p:cNvCxnSpPr/>
            <p:nvPr/>
          </p:nvCxnSpPr>
          <p:spPr>
            <a:xfrm flipH="1" flipV="1" rot="5400000">
              <a:off x="4228560" y="1972080"/>
              <a:ext cx="672840" cy="128160"/>
            </a:xfrm>
            <a:prstGeom prst="bentConnector3">
              <a:avLst>
                <a:gd name="adj1" fmla="val 170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0" name="_s23563"/>
            <p:cNvCxnSpPr/>
            <p:nvPr/>
          </p:nvCxnSpPr>
          <p:spPr>
            <a:xfrm flipH="1" flipV="1" rot="5400000">
              <a:off x="2536920" y="65160"/>
              <a:ext cx="1125000" cy="3096000"/>
            </a:xfrm>
            <a:prstGeom prst="bentConnector3">
              <a:avLst>
                <a:gd name="adj1" fmla="val 1011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1" name="_s23559"/>
            <p:cNvSpPr/>
            <p:nvPr/>
          </p:nvSpPr>
          <p:spPr>
            <a:xfrm>
              <a:off x="1753200" y="765000"/>
              <a:ext cx="5812920" cy="912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eorgia"/>
                </a:rPr>
                <a:t>ЯЩИК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23560"/>
            <p:cNvSpPr/>
            <p:nvPr/>
          </p:nvSpPr>
          <p:spPr>
            <a:xfrm>
              <a:off x="179280" y="2322720"/>
              <a:ext cx="2691000" cy="806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Georgia"/>
                </a:rPr>
                <a:t>ИЗГОТОВЛЕНИЕ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23561"/>
            <p:cNvSpPr/>
            <p:nvPr/>
          </p:nvSpPr>
          <p:spPr>
            <a:xfrm>
              <a:off x="3057480" y="2350440"/>
              <a:ext cx="2949480" cy="806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Georgia"/>
                </a:rPr>
                <a:t>ИСПОЛЬЗОВ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23562"/>
            <p:cNvSpPr/>
            <p:nvPr/>
          </p:nvSpPr>
          <p:spPr>
            <a:xfrm>
              <a:off x="6227640" y="2322720"/>
              <a:ext cx="2915640" cy="80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Georgia"/>
                </a:rPr>
                <a:t>ДОПОЛНИТЕЛЬНЫЕ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ffffff"/>
                  </a:solidFill>
                  <a:latin typeface="Georgia"/>
                </a:rPr>
                <a:t>ФУНК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23566"/>
            <p:cNvSpPr/>
            <p:nvPr/>
          </p:nvSpPr>
          <p:spPr>
            <a:xfrm>
              <a:off x="179280" y="3774240"/>
              <a:ext cx="2809800" cy="267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просто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доступ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Налич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материа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врем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инструме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отдел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23568"/>
            <p:cNvSpPr/>
            <p:nvPr/>
          </p:nvSpPr>
          <p:spPr>
            <a:xfrm>
              <a:off x="3132000" y="3774240"/>
              <a:ext cx="3167280" cy="2611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удобство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лёгкость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безопасность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надежность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универсальность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каждому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инструменту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своё место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23570"/>
            <p:cNvSpPr/>
            <p:nvPr/>
          </p:nvSpPr>
          <p:spPr>
            <a:xfrm>
              <a:off x="6455160" y="3774240"/>
              <a:ext cx="2688120" cy="2611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верстак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табурет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лестница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линейка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5084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Ящик изготавливается из доски. Внутри перегородка на два отделения. Ручка крепится шурупами к верхней гране боковых сто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834160" cy="37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4220640"/>
            <a:ext cx="865512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Для удобного размещения инструмента, можно изготовить боковые стенки из фанеры с ячейками для  стамесок, шила и других острых предметов. Ручку лучше опустить ниже верхнего контура, тогда ящик можно использовать, как опору для пиления до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71640" y="879480"/>
            <a:ext cx="4753080" cy="32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4149360"/>
            <a:ext cx="87282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Боковые стойки ящика пирамидальной формы не позволяют удобно разместить доску для пиления. поэтому чем шире будет эта поверхность, тем лучше. Стенки из фанеры облегчают вес изделия. Для хранения гвоздей, шурупов и т.д. можно изготовить снизу выдвижной ящ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69080" cy="33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4149360"/>
            <a:ext cx="890748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Скругление верхних углов боковых стоек придаст изделию более эстетичный вид. Ящик для мелких деталей, фурнитуры и т. п. можно сделать съёмным, т.к. это удобнее при работе, чем выдвижной (рис.3).  Так же на любой из стенок можно закрепить укладку из дерматина для хранения контрольно-измерительного, разметочного инструмента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4319640" cy="33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Georgia"/>
              </a:rPr>
              <a:t>Выбор и описание базового варианта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284720" y="1628640"/>
            <a:ext cx="4859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Это ящик, состоящий из двух частей: большого короба для инструмента и маленькой коробки (в нижней части ящика) для мелких вещей, так же предусмотрена ниша для безопасного хранения ножовки. На боковой стойке ящика - ячейки для хранения долота, стамесок, отвёрток, разметочного и другого инструмен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927240" cy="28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Georgia"/>
              </a:rPr>
              <a:t>Технологический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Georgia"/>
              </a:rPr>
              <a:t>этап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265200" cy="27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Georgia"/>
              </a:rPr>
              <a:t>Дизайн- спецификация. 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Georgia"/>
              </a:rPr>
              <a:t>Выбор материала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58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en-US" sz="2600" spc="-1" strike="noStrike">
                <a:solidFill>
                  <a:srgbClr val="ffffff"/>
                </a:solidFill>
                <a:latin typeface="Georgia"/>
              </a:rPr>
              <a:t>Универсальный переносной ящик для инструмента  </a:t>
            </a:r>
            <a:r>
              <a:rPr b="1" lang="en-US" sz="2600" spc="-1" strike="noStrike">
                <a:solidFill>
                  <a:srgbClr val="ffffff"/>
                </a:solidFill>
                <a:latin typeface="Georgia"/>
              </a:rPr>
              <a:t>состоит из двух основных частей: нижнего ящика для мелких деталей и верхнего ящика для большого инструмента, которые изготавливаются из деталей (смотри рис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70560" y="836640"/>
            <a:ext cx="3349440" cy="3087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03640" y="4149720"/>
            <a:ext cx="388944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851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Georgia"/>
              </a:rPr>
              <a:t>Организационный 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Georgia"/>
              </a:rPr>
              <a:t>этап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4249800" cy="42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017800" cy="14511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Georgia"/>
              </a:rPr>
              <a:t>Технология изготовления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836640"/>
          <a:ext cx="8713800" cy="5861160"/>
        </p:xfrm>
        <a:graphic>
          <a:graphicData uri="http://schemas.openxmlformats.org/drawingml/2006/table">
            <a:tbl>
              <a:tblPr/>
              <a:tblGrid>
                <a:gridCol w="649080"/>
                <a:gridCol w="2519640"/>
                <a:gridCol w="3240000"/>
                <a:gridCol w="2305080"/>
              </a:tblGrid>
              <a:tr h="1920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2adef6"/>
                          </a:solidFill>
                          <a:latin typeface="Georgia"/>
                        </a:rPr>
                        <a:t>«</a:t>
                      </a:r>
                      <a:r>
                        <a:rPr b="1" i="1" lang="en-US" sz="2000" spc="-1" strike="noStrike">
                          <a:solidFill>
                            <a:srgbClr val="2adef6"/>
                          </a:solidFill>
                          <a:latin typeface="Georgia"/>
                        </a:rPr>
                        <a:t>Универсаль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2adef6"/>
                          </a:solidFill>
                          <a:latin typeface="Georgia"/>
                        </a:rPr>
                        <a:t>переносной я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2adef6"/>
                          </a:solidFill>
                          <a:latin typeface="Georgia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2adef6"/>
                          </a:solidFill>
                          <a:latin typeface="Georgia"/>
                        </a:rPr>
                        <a:t>для инструмента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ерац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бражен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трумент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готовить деталь 1 (дно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арандаш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ейка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угольник, ножовк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готовить детали 2 (рейка продольна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арандаш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ейка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угольник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ожовка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банок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708360" y="3933720"/>
            <a:ext cx="2133720" cy="94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924360" y="5157720"/>
            <a:ext cx="1838160" cy="92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Georgia"/>
              </a:rPr>
              <a:t>Техника безопасности при выполнении работ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1.При пилении древесины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: пользуйся упорами и направителями;   не держи левую руку близко к полотну пилы; не сдувай опилки, сметай их щёткой-смёткой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2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.При строгании древесины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: надёжно закрепляй заготовку;  не проверяй остроту лезвия пальцами; рубанок клади лезвием от себя;не проверяй руками качество остроганной поверхно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3.Особое внимание уделяй безопасным приёмам работы на токарном станке: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изучи инструкцию по Т.Б. при работе на  станке; работай на станке с разрешения и под контролем учите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4.При работе на сверлильном станке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: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правильно установи сверло; надёжно закрепи деталь; плавно и равномерно подавай  сверло; заканчивая сверление, ослабляй нажим на сверл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Georgia"/>
              </a:rPr>
              <a:t>Техника безопасности при выполнении работ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5.Выполняя лакокрасочные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не держи долго открытыми банки с красками; при работе не подноси краски к лицу; работу выполняй в хорошо проветриваемом помещении;  используй защитные средства: перчатки, респиратор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после завершения работы вымой руки с мы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6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.При выполнении сборочных работ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: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используй инструменты по назначению;  не клади в карманы острые предметы;  не бери в рот гвозди,  шуру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7.Особая осторожность при работе с электровыжигател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работай в проветриваемом помещении;  проверяй состояние изоляции токопроводящих частей; по окончании работы не забывай выключать электровыжигатель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из розе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002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Georgia"/>
              </a:rPr>
              <a:t>Заключительный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Georgia"/>
              </a:rPr>
              <a:t>этап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2743200"/>
            <a:ext cx="30193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385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Georgia"/>
              </a:rPr>
              <a:t>Экологическое обоснование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21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Данное изделие изготовлено из экологически чистых материалов. Древесина и фанера не могут быть источником экологической опасности. Использование отходов производства при  изготовлении «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Универсального  переносного ящика  для инструмента»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озволит избежать их утилизации (сжигание, захоронение), которая способствует загрязнению окружающей среды. Лак имеет государственный сертификат и разрешён к примене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ри изготовлении изделия опасность могут представлять следующие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точение на станке СТД-120М (древесная пыль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выжигание (дым)     отделка (запах ла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ри соблюдении правил техники безопасности (рабочая форма, очки, респиратор, проветривание) эти опасности очень м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Использование изделия в быту тоже безопасно. Поэтому использование данного изделия не приведёт к нарушениям экологической среды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Georgia"/>
              </a:rPr>
              <a:t>Экономическое обоснование</a:t>
            </a:r>
            <a:r>
              <a:rPr b="1" lang="en-US" sz="3200" spc="-1" strike="noStrike">
                <a:solidFill>
                  <a:srgbClr val="ffffb7"/>
                </a:solidFill>
                <a:latin typeface="Georgia"/>
              </a:rPr>
              <a:t>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8455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Стоимость этого изделия очень мала, если учесть, что все материалы - это отходы производства. Лак пришлось куп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Работа выполнялась в учебное время, на школьном оборудов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В эту стоимость не входят затраты на оплату труда рабоче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ree"/>
          <p:cNvSpPr/>
          <p:nvPr/>
        </p:nvSpPr>
        <p:spPr>
          <a:xfrm>
            <a:off x="6859440" y="404640"/>
            <a:ext cx="2284560" cy="21718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7931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еклам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8455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Изгото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столярных   издел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экологически чистая древес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европейский дизай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отличное ка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оступные це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DownRibbonSharp"/>
          <p:cNvSpPr/>
          <p:nvPr/>
        </p:nvSpPr>
        <p:spPr>
          <a:xfrm>
            <a:off x="468360" y="5084640"/>
            <a:ext cx="8064360" cy="1584360"/>
          </a:xfrm>
          <a:custGeom>
            <a:avLst/>
            <a:gdLst>
              <a:gd name="textAreaLeft" fmla="*/ 2016000 w 8064360"/>
              <a:gd name="textAreaRight" fmla="*/ 6048360 w 8064360"/>
              <a:gd name="textAreaTop" fmla="*/ 19800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Georgia"/>
              </a:rPr>
              <a:t>мастер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Monotype Corsiva"/>
              </a:rPr>
              <a:t>«У Роман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ubRRectCallout"/>
          <p:cNvSpPr/>
          <p:nvPr/>
        </p:nvSpPr>
        <p:spPr>
          <a:xfrm>
            <a:off x="5292720" y="3068640"/>
            <a:ext cx="3240000" cy="2376360"/>
          </a:xfrm>
          <a:custGeom>
            <a:avLst/>
            <a:gdLst>
              <a:gd name="textAreaLeft" fmla="*/ 21600 w 3240000"/>
              <a:gd name="textAreaRight" fmla="*/ 3211560 w 3240000"/>
              <a:gd name="textAreaTop" fmla="*/ 15840 h 2376360"/>
              <a:gd name="textAreaBottom" fmla="*/ 1882080 h 237636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У Роман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пр. Славы д.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9-15ча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49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Самооценк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594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Я считаю, что изделие удовлетворяет предложенным требованиям. Ящик имеет несколько отделов, что удобно в использовании. Ножовка хранится в безопасном чехле. Изделие можно использовать как табурет (отдых), опору для пиления, сверления (верстак), подставку для высотных работ (лесенка), измерения линейных размер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Словарь терминов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Верстак-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основное оборудование рабочего места. В переводе с немецкого означает «мастерская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Дерматин </a:t>
            </a:r>
            <a:r>
              <a:rPr b="0" lang="en-US" sz="2200" spc="-1" strike="noStrike">
                <a:solidFill>
                  <a:srgbClr val="ffffb7"/>
                </a:solidFill>
                <a:latin typeface="Georgi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(от греч. dermatinos - кожаный), хлопчатобумажная ткань с нитроцеллюлозным покрытием, нанесённым на одну или обе стороны ткани; заменитель кож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Деталь-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изделие, изготовленное из однородного материала без сборочных операций. В переводе с французского означает «подробность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Долото </a:t>
            </a:r>
            <a:r>
              <a:rPr b="0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деревообрабатывающий. инструмент - заточенная стальная пластина для выдалбливания отверстий, пазов и т.д. В переводе с немецкого «долбящее железо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Инструмент</a:t>
            </a:r>
            <a:r>
              <a:rPr b="0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орудие труда, предназначенное для обработки материалов и контроля результатов работы. Имеет латинское происхождение, в переводе означает «орудие для работы»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Универсальный </a:t>
            </a:r>
            <a:r>
              <a:rPr b="0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происходит от латинского слова, означающего в переводе «всеобщий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Фанера </a:t>
            </a:r>
            <a:r>
              <a:rPr b="0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слоистый древесный материал из склеенных между собой листов лущеного шпона с взаимно перпендикулярным расположением волокон древесины каждого лис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Список литератур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1. Справочник по трудовому обучению: Пособие для учащихся 5-7 классов. Под ред. И. А. Карабан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2. Буглак В. И. Плотник.- Мн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Народная асвета, 198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3. Леонтьев Д. П. Сделай сам. – Л.: Детская литера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3924"/>
                </a:solidFill>
                <a:latin typeface="Georgia"/>
              </a:rPr>
              <a:t>Идея.</a:t>
            </a:r>
            <a:br>
              <a:rPr sz="4800"/>
            </a:br>
            <a:r>
              <a:rPr b="1" lang="en-US" sz="3200" spc="-1" strike="noStrike">
                <a:solidFill>
                  <a:srgbClr val="ffffb7"/>
                </a:solidFill>
                <a:latin typeface="Georgia"/>
              </a:rPr>
              <a:t>Выбор и обоснование темы проекта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Мне нравятся уроки технологии, наверное, потому что сам люблю мастерить. Этому меня научил дедушка. Я каждые каникулы провожу у него в деревне. У него много всяких инструментов. Прошлым летом мы вместе помогали строить дом нашим знакомым. Инструменты у дедушки хранятся в сарае, но найти их бывает сложно, т. к. не все имеют постоянное место.  Я хотел навести порядок, но дедушка не разрешил, говорит, что он так привык и знает где что леж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   </a:t>
            </a: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Тогда я решил сделать ящик для инструментов и подарить его де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Посоветовавшись с учителем, мы решили, что ящик должен обладать следующим функциями</a:t>
            </a:r>
            <a:r>
              <a:rPr b="0" lang="en-US" sz="2400" spc="-1" strike="noStrike">
                <a:solidFill>
                  <a:srgbClr val="ffffb7"/>
                </a:solidFill>
                <a:latin typeface="Georgia"/>
              </a:rPr>
              <a:t>: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Georgia"/>
              </a:rPr>
              <a:t>«</a:t>
            </a:r>
            <a:r>
              <a:rPr b="1" i="1" lang="en-US" sz="3200" spc="-1" strike="noStrike">
                <a:solidFill>
                  <a:srgbClr val="ffffb7"/>
                </a:solidFill>
                <a:latin typeface="Georgia"/>
              </a:rPr>
              <a:t>Универсальный переносной ящик для инструмента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848040" cy="2656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02320" cy="2656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887640" cy="244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716360" y="4076640"/>
            <a:ext cx="382104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Схема размышлений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68360" y="1052640"/>
            <a:ext cx="8674560" cy="5544360"/>
            <a:chOff x="468360" y="1052640"/>
            <a:chExt cx="8674560" cy="5544360"/>
          </a:xfrm>
        </p:grpSpPr>
        <p:cxnSp>
          <p:nvCxnSpPr>
            <p:cNvPr id="105" name="_s8253"/>
            <p:cNvCxnSpPr>
              <a:stCxn id="106" idx="3"/>
              <a:endCxn id="107" idx="2"/>
            </p:cNvCxnSpPr>
            <p:nvPr/>
          </p:nvCxnSpPr>
          <p:spPr>
            <a:xfrm flipV="1">
              <a:off x="4561560" y="1897920"/>
              <a:ext cx="407880" cy="4323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8" name="_s8251"/>
            <p:cNvCxnSpPr>
              <a:stCxn id="109" idx="1"/>
              <a:endCxn id="107" idx="2"/>
            </p:cNvCxnSpPr>
            <p:nvPr/>
          </p:nvCxnSpPr>
          <p:spPr>
            <a:xfrm rot="10800000">
              <a:off x="4968360" y="1897560"/>
              <a:ext cx="266040" cy="3583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8249"/>
            <p:cNvCxnSpPr>
              <a:stCxn id="111" idx="3"/>
              <a:endCxn id="107" idx="2"/>
            </p:cNvCxnSpPr>
            <p:nvPr/>
          </p:nvCxnSpPr>
          <p:spPr>
            <a:xfrm flipV="1">
              <a:off x="4485240" y="1897560"/>
              <a:ext cx="484200" cy="326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8247"/>
            <p:cNvCxnSpPr>
              <a:stCxn id="113" idx="1"/>
              <a:endCxn id="107" idx="2"/>
            </p:cNvCxnSpPr>
            <p:nvPr/>
          </p:nvCxnSpPr>
          <p:spPr>
            <a:xfrm rot="10800000">
              <a:off x="4968360" y="1898280"/>
              <a:ext cx="266040" cy="214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8237"/>
            <p:cNvCxnSpPr>
              <a:stCxn id="115" idx="3"/>
              <a:endCxn id="107" idx="2"/>
            </p:cNvCxnSpPr>
            <p:nvPr/>
          </p:nvCxnSpPr>
          <p:spPr>
            <a:xfrm flipV="1">
              <a:off x="4561560" y="1897920"/>
              <a:ext cx="407880" cy="2067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8236"/>
            <p:cNvCxnSpPr>
              <a:stCxn id="117" idx="1"/>
              <a:endCxn id="107" idx="2"/>
            </p:cNvCxnSpPr>
            <p:nvPr/>
          </p:nvCxnSpPr>
          <p:spPr>
            <a:xfrm rot="10800000">
              <a:off x="4968360" y="1897560"/>
              <a:ext cx="266040" cy="919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8235"/>
            <p:cNvCxnSpPr>
              <a:stCxn id="119" idx="3"/>
              <a:endCxn id="107" idx="2"/>
            </p:cNvCxnSpPr>
            <p:nvPr/>
          </p:nvCxnSpPr>
          <p:spPr>
            <a:xfrm flipV="1">
              <a:off x="4561560" y="1897560"/>
              <a:ext cx="407880" cy="88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" name="_s8231"/>
            <p:cNvSpPr/>
            <p:nvPr/>
          </p:nvSpPr>
          <p:spPr>
            <a:xfrm>
              <a:off x="2050920" y="1052640"/>
              <a:ext cx="5831640" cy="845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 u="sng">
                  <a:solidFill>
                    <a:srgbClr val="fc3924"/>
                  </a:solidFill>
                  <a:uFillTx/>
                  <a:latin typeface="Georgia"/>
                </a:rPr>
                <a:t>Ящик для инструмента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8232"/>
            <p:cNvSpPr/>
            <p:nvPr/>
          </p:nvSpPr>
          <p:spPr>
            <a:xfrm>
              <a:off x="468360" y="2274120"/>
              <a:ext cx="4093560" cy="10101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переноска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инструмент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8233"/>
            <p:cNvSpPr/>
            <p:nvPr/>
          </p:nvSpPr>
          <p:spPr>
            <a:xfrm>
              <a:off x="5234400" y="2274120"/>
              <a:ext cx="3837600" cy="10836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хран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инструмент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8234"/>
            <p:cNvSpPr/>
            <p:nvPr/>
          </p:nvSpPr>
          <p:spPr>
            <a:xfrm>
              <a:off x="468360" y="3496320"/>
              <a:ext cx="4093560" cy="9396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удобство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пользовани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8246"/>
            <p:cNvSpPr/>
            <p:nvPr/>
          </p:nvSpPr>
          <p:spPr>
            <a:xfrm>
              <a:off x="5234400" y="3496320"/>
              <a:ext cx="3837600" cy="1086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простота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изготовлени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8248"/>
            <p:cNvSpPr/>
            <p:nvPr/>
          </p:nvSpPr>
          <p:spPr>
            <a:xfrm>
              <a:off x="538920" y="4653000"/>
              <a:ext cx="3946320" cy="10162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компактност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8250"/>
            <p:cNvSpPr/>
            <p:nvPr/>
          </p:nvSpPr>
          <p:spPr>
            <a:xfrm>
              <a:off x="5234400" y="4940640"/>
              <a:ext cx="3908520" cy="1080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эстетичност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8252"/>
            <p:cNvSpPr/>
            <p:nvPr/>
          </p:nvSpPr>
          <p:spPr>
            <a:xfrm>
              <a:off x="538920" y="5846040"/>
              <a:ext cx="4022640" cy="750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безопасност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21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Плотник, столяр, наверное, самая древняя профессия на земле. Дедушка рассказывал, что мастеровые люди всегда ценились. Каждый мастер имел свой инструмент и бережно к нему относился. Острые инструменты (топор, долото, рубанок) заворачивали в ткань и переносили в сумках из холщевой ткани. Каких то особых ящиков раньше не было. Но во второй половине 20 века, начинают появляться разнообразные уклад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483840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-образец типичной плотницкой «разноски», в которой практически навалом хранятся все инструменты, приспособления, гвозди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060404_165736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18508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4797360"/>
            <a:ext cx="84502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укладка-чемодан, предназначена для переноски необходимых инструментов. При переноске закрывается, что обеспечивает сохранность содержимого и оберегает от трав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060404_170200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968720" cy="372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4797000"/>
            <a:ext cx="8007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вариант укладки из тканевой основы, имеет много ячеек для размещения инструмента, компактный, легкий, но большой инструмен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060404_165937" descr=""/>
          <p:cNvPicPr/>
          <p:nvPr/>
        </p:nvPicPr>
        <p:blipFill>
          <a:blip r:embed="rId1"/>
          <a:stretch/>
        </p:blipFill>
        <p:spPr>
          <a:xfrm>
            <a:off x="2124000" y="876240"/>
            <a:ext cx="53276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4941720"/>
            <a:ext cx="80074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портфель,  гибрид деревянного чемодана и тканевой укладки с ячей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060404_170914" descr=""/>
          <p:cNvPicPr/>
          <p:nvPr/>
        </p:nvPicPr>
        <p:blipFill>
          <a:blip r:embed="rId1"/>
          <a:stretch/>
        </p:blipFill>
        <p:spPr>
          <a:xfrm>
            <a:off x="2124000" y="876240"/>
            <a:ext cx="5112000" cy="383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7:16:53Z</dcterms:created>
  <dc:creator>Московченко</dc:creator>
  <dc:description/>
  <dc:language>en-US</dc:language>
  <cp:lastModifiedBy>Московченко</cp:lastModifiedBy>
  <dcterms:modified xsi:type="dcterms:W3CDTF">2009-03-09T15:57:53Z</dcterms:modified>
  <cp:revision>11</cp:revision>
  <dc:subject/>
  <dc:title>  Творческий проект  «Универсальный переносной ящик для инструмента»</dc:title>
</cp:coreProperties>
</file>