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wmf" ContentType="image/x-wmf"/>
  <Override PartName="/ppt/media/image15.png" ContentType="image/png"/>
  <Override PartName="/ppt/media/image3.jpeg" ContentType="image/jpeg"/>
  <Override PartName="/ppt/media/image5.jpeg" ContentType="image/jpeg"/>
  <Override PartName="/ppt/media/image18.wmf" ContentType="image/x-wmf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CE0C-4923-4B6C-9C71-C850CDE10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EADD-33CA-4D23-A239-BFD534F6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F923-6768-4D60-A819-B69A642A1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73F1-BB19-43E4-9B80-85FF92AC1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3A8C-9297-4CD8-ACFF-4D389295A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92C6-C634-4C9A-B614-51916841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B673-B546-4D7F-B08F-0107C9E4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EEDE-9F68-4F4B-A5A6-A52D181B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73F7-7901-4EC2-A2B6-97C4AE17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3388-0916-4BBB-A3B2-C1185C7A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1636-0CC1-4AAB-9E96-B44F095E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359D-DC16-45FA-A56D-CE0FF502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E0AE-20FA-425C-B241-148C20EC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C392-DF05-4F78-8944-B0B44E63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94F5-90D5-4AC0-B4BB-D25EE03E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2F7F-AF04-4F60-87D2-B27C10112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684D-4814-4289-9A30-A22405771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7BC5-A6BB-4D71-AA43-C4E05BE8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EDD2-0463-4555-A330-4CC659FE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F072-7452-4086-B159-0E994C97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577C-0109-48CF-B916-336FFDC2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8B58-D9ED-4FB3-AD1B-0DC0C5B2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217A-DBF1-4CF7-B064-301E36B9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8D6B-B012-4B1C-BF72-2D5C617F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3C9E-9E1B-4A4E-AE5B-C654028E7D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AC59-5FBE-4A0A-ABA0-D6D7E054E6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Georgia"/>
              </a:rPr>
              <a:t>Творческий проект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«</a:t>
            </a:r>
            <a:r>
              <a:rPr b="1" i="1" lang="en-US" sz="4000" spc="-1" strike="noStrike">
                <a:solidFill>
                  <a:srgbClr val="ffffb7"/>
                </a:solidFill>
                <a:latin typeface="Arial Black"/>
              </a:rPr>
              <a:t>Универсальный переносной ящик для инструмента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Georgia"/>
              </a:rPr>
              <a:t>Историческая справ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3640" y="4653000"/>
            <a:ext cx="8521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ранец, представляет собой смесь всех выше представленных вариантов (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хранение навалом,  ячейки, плотное закрывание, неудобство хранения большого инструмента)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и дедушкиной холщовой сум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060404_171154" descr=""/>
          <p:cNvPicPr/>
          <p:nvPr/>
        </p:nvPicPr>
        <p:blipFill>
          <a:blip r:embed="rId1"/>
          <a:stretch/>
        </p:blipFill>
        <p:spPr>
          <a:xfrm>
            <a:off x="2124000" y="836640"/>
            <a:ext cx="5040360" cy="377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Georgia"/>
              </a:rPr>
              <a:t>Банк идей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052280"/>
            <a:ext cx="8007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Рассмотрев  представленные выше образцы, я решил изготовить усовершенствованный вариант типичной плотницкой «разноски». Назовём его </a:t>
            </a:r>
            <a:r>
              <a:rPr b="1" lang="en-US" sz="3200" spc="-1" strike="noStrike">
                <a:solidFill>
                  <a:srgbClr val="2adef6"/>
                </a:solidFill>
                <a:latin typeface="Georgia"/>
              </a:rPr>
              <a:t>«</a:t>
            </a:r>
            <a:r>
              <a:rPr b="1" i="1" lang="en-US" sz="3200" spc="-1" strike="noStrike">
                <a:solidFill>
                  <a:srgbClr val="2adef6"/>
                </a:solidFill>
                <a:latin typeface="Georgia"/>
              </a:rPr>
              <a:t>Универсальный переносной ящик для инструмента».</a:t>
            </a: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Для развития идей построим опорную схему размышл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Georgia"/>
              </a:rPr>
              <a:t>Банк идей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79280" y="765000"/>
            <a:ext cx="8964000" cy="5687280"/>
            <a:chOff x="179280" y="765000"/>
            <a:chExt cx="8964000" cy="5687280"/>
          </a:xfrm>
        </p:grpSpPr>
        <p:cxnSp>
          <p:nvCxnSpPr>
            <p:cNvPr id="141" name="_s23571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7418520" y="3393360"/>
              <a:ext cx="649440" cy="111960"/>
            </a:xfrm>
            <a:prstGeom prst="bentConnector3">
              <a:avLst>
                <a:gd name="adj1" fmla="val 1758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4" name="_s23569"/>
            <p:cNvCxnSpPr/>
            <p:nvPr/>
          </p:nvCxnSpPr>
          <p:spPr>
            <a:xfrm flipV="1" rot="16200000">
              <a:off x="4484520" y="3372120"/>
              <a:ext cx="645480" cy="184680"/>
            </a:xfrm>
            <a:prstGeom prst="bentConnector3">
              <a:avLst>
                <a:gd name="adj1" fmla="val 1768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5" name="_s23567"/>
            <p:cNvCxnSpPr>
              <a:stCxn id="146" idx="0"/>
              <a:endCxn id="147" idx="2"/>
            </p:cNvCxnSpPr>
            <p:nvPr/>
          </p:nvCxnSpPr>
          <p:spPr>
            <a:xfrm flipV="1" rot="16200000">
              <a:off x="1232640" y="3421080"/>
              <a:ext cx="645480" cy="59760"/>
            </a:xfrm>
            <a:prstGeom prst="bentConnector3">
              <a:avLst>
                <a:gd name="adj1" fmla="val 1768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8" name="_s23565"/>
            <p:cNvCxnSpPr/>
            <p:nvPr/>
          </p:nvCxnSpPr>
          <p:spPr>
            <a:xfrm flipV="1" rot="16200000">
              <a:off x="5835240" y="364680"/>
              <a:ext cx="645480" cy="3028320"/>
            </a:xfrm>
            <a:prstGeom prst="bentConnector3">
              <a:avLst>
                <a:gd name="adj1" fmla="val 1768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9" name="_s23564"/>
            <p:cNvCxnSpPr/>
            <p:nvPr/>
          </p:nvCxnSpPr>
          <p:spPr>
            <a:xfrm flipH="1" flipV="1" rot="5400000">
              <a:off x="4228560" y="1972080"/>
              <a:ext cx="672840" cy="128160"/>
            </a:xfrm>
            <a:prstGeom prst="bentConnector3">
              <a:avLst>
                <a:gd name="adj1" fmla="val 1702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0" name="_s23563"/>
            <p:cNvCxnSpPr/>
            <p:nvPr/>
          </p:nvCxnSpPr>
          <p:spPr>
            <a:xfrm flipH="1" flipV="1" rot="5400000">
              <a:off x="2536920" y="65160"/>
              <a:ext cx="1125000" cy="3096000"/>
            </a:xfrm>
            <a:prstGeom prst="bentConnector3">
              <a:avLst>
                <a:gd name="adj1" fmla="val 1011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51" name="_s23559"/>
            <p:cNvSpPr/>
            <p:nvPr/>
          </p:nvSpPr>
          <p:spPr>
            <a:xfrm>
              <a:off x="1753200" y="765000"/>
              <a:ext cx="5812920" cy="9129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Georgia"/>
                </a:rPr>
                <a:t>ЯЩИК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_s23560"/>
            <p:cNvSpPr/>
            <p:nvPr/>
          </p:nvSpPr>
          <p:spPr>
            <a:xfrm>
              <a:off x="179280" y="2322720"/>
              <a:ext cx="2691000" cy="8064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ffffff"/>
                  </a:solidFill>
                  <a:latin typeface="Georgia"/>
                </a:rPr>
                <a:t>ИЗГОТОВЛЕНИЕ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_s23561"/>
            <p:cNvSpPr/>
            <p:nvPr/>
          </p:nvSpPr>
          <p:spPr>
            <a:xfrm>
              <a:off x="3057480" y="2350440"/>
              <a:ext cx="2949480" cy="8064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Georgia"/>
                </a:rPr>
                <a:t>ИСПОЛЬЗОВАН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23562"/>
            <p:cNvSpPr/>
            <p:nvPr/>
          </p:nvSpPr>
          <p:spPr>
            <a:xfrm>
              <a:off x="6227640" y="2322720"/>
              <a:ext cx="2915640" cy="8020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Georgia"/>
                </a:rPr>
                <a:t>ДОПОЛНИТЕЛЬНЫЕ </a:t>
              </a:r>
              <a:br>
                <a:rPr sz="1800"/>
              </a:br>
              <a:r>
                <a:rPr b="1" i="1" lang="en-US" sz="1800" spc="-1" strike="noStrike">
                  <a:solidFill>
                    <a:srgbClr val="ffffff"/>
                  </a:solidFill>
                  <a:latin typeface="Georgia"/>
                </a:rPr>
                <a:t>ФУНКЦИ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_s23566"/>
            <p:cNvSpPr/>
            <p:nvPr/>
          </p:nvSpPr>
          <p:spPr>
            <a:xfrm>
              <a:off x="179280" y="3774240"/>
              <a:ext cx="2809800" cy="26780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eorgia"/>
                </a:rPr>
                <a:t>простот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eorgia"/>
                </a:rPr>
                <a:t>доступност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eorgia"/>
                </a:rPr>
                <a:t>Налич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eorgia"/>
                </a:rPr>
                <a:t>материал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eorgia"/>
                </a:rPr>
                <a:t>врем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eorgia"/>
                </a:rPr>
                <a:t>инструмен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eorgia"/>
                </a:rPr>
                <a:t>отделк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23568"/>
            <p:cNvSpPr/>
            <p:nvPr/>
          </p:nvSpPr>
          <p:spPr>
            <a:xfrm>
              <a:off x="3132000" y="3774240"/>
              <a:ext cx="3167280" cy="26110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Georgia"/>
                </a:rPr>
                <a:t>удобство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Georgia"/>
                </a:rPr>
                <a:t>лёгкость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Georgia"/>
                </a:rPr>
                <a:t>безопасность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Georgia"/>
                </a:rPr>
                <a:t>надежность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Georgia"/>
                </a:rPr>
                <a:t>универсальность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Georgia"/>
                </a:rPr>
                <a:t>каждому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Georgia"/>
                </a:rPr>
                <a:t>инструменту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Georgia"/>
                </a:rPr>
                <a:t>своё место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23570"/>
            <p:cNvSpPr/>
            <p:nvPr/>
          </p:nvSpPr>
          <p:spPr>
            <a:xfrm>
              <a:off x="6455160" y="3774240"/>
              <a:ext cx="2688120" cy="26110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Georgia"/>
                </a:rPr>
                <a:t>верстак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Georgia"/>
                </a:rPr>
                <a:t>табурет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Georgia"/>
                </a:rPr>
                <a:t>лестница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Georgia"/>
                </a:rPr>
                <a:t>линейка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Georgia"/>
              </a:rPr>
              <a:t>Банк идей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5084280"/>
            <a:ext cx="80074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Ящик изготавливается из доски. Внутри перегородка на два отделения. Ручка крепится шурупами к верхней гране боковых стое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03280" y="1052640"/>
            <a:ext cx="5834160" cy="372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Georgia"/>
              </a:rPr>
              <a:t>Банк идей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4220640"/>
            <a:ext cx="865512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Для удобного размещения инструмента, можно изготовить боковые стенки из фанеры с ячейками для  стамесок, шила и других острых предметов. Ручку лучше опустить ниже верхнего контура, тогда ящик можно использовать, как опору для пиления дос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771640" y="879480"/>
            <a:ext cx="4753080" cy="326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Georgia"/>
              </a:rPr>
              <a:t>Банк идей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8920" y="4149360"/>
            <a:ext cx="872820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Боковые стойки ящика пирамидальной формы не позволяют удобно разместить доску для пиления. поэтому чем шире будет эта поверхность, тем лучше. Стенки из фанеры облегчают вес изделия. Для хранения гвоздей, шурупов и т.д. можно изготовить снизу выдвижной ящи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4969080" cy="332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Georgia"/>
              </a:rPr>
              <a:t>Банк идей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-360" y="4149360"/>
            <a:ext cx="890748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Скругление верхних углов боковых стоек придаст изделию более эстетичный вид. Ящик для мелких деталей, фурнитуры и т. п. можно сделать съёмным, т.к. это удобнее при работе, чем выдвижной (рис.3).  Так же на любой из стенок можно закрепить укладку из дерматина для хранения контрольно-измерительного, разметочного инструмента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763640" y="907920"/>
            <a:ext cx="4319640" cy="331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Georgia"/>
              </a:rPr>
              <a:t>Выбор и описание базового варианта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284720" y="1628640"/>
            <a:ext cx="48592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Это ящик, состоящий из двух частей: большого короба для инструмента и маленькой коробки (в нижней части ящика) для мелких вещей, так же предусмотрена ниша для безопасного хранения ножовки. На боковой стойке ящика - ячейки для хранения долота, стамесок, отвёрток, разметочного и другого инструмен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927240" cy="282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6000" spc="-1" strike="noStrike">
                <a:solidFill>
                  <a:srgbClr val="ffffb7"/>
                </a:solidFill>
                <a:latin typeface="Georgia"/>
              </a:rPr>
              <a:t>Технологический</a:t>
            </a:r>
            <a:br>
              <a:rPr sz="6000"/>
            </a:br>
            <a:r>
              <a:rPr b="1" lang="en-US" sz="6000" spc="-1" strike="noStrike">
                <a:solidFill>
                  <a:srgbClr val="ffffb7"/>
                </a:solidFill>
                <a:latin typeface="Georgia"/>
              </a:rPr>
              <a:t>этап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916360" y="3716280"/>
            <a:ext cx="3265200" cy="272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Georgia"/>
              </a:rPr>
              <a:t>Дизайн- спецификация. </a:t>
            </a:r>
            <a:br>
              <a:rPr sz="3200"/>
            </a:br>
            <a:r>
              <a:rPr b="1" lang="en-US" sz="3200" spc="-1" strike="noStrike">
                <a:solidFill>
                  <a:srgbClr val="ffffb7"/>
                </a:solidFill>
                <a:latin typeface="Georgia"/>
              </a:rPr>
              <a:t>Выбор материала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458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i="1" lang="en-US" sz="2600" spc="-1" strike="noStrike">
                <a:solidFill>
                  <a:srgbClr val="ffffff"/>
                </a:solidFill>
                <a:latin typeface="Georgia"/>
              </a:rPr>
              <a:t>Универсальный переносной ящик для инструмента  </a:t>
            </a:r>
            <a:r>
              <a:rPr b="1" lang="en-US" sz="2600" spc="-1" strike="noStrike">
                <a:solidFill>
                  <a:srgbClr val="ffffff"/>
                </a:solidFill>
                <a:latin typeface="Georgia"/>
              </a:rPr>
              <a:t>состоит из двух основных частей: нижнего ящика для мелких деталей и верхнего ящика для большого инструмента, которые изготавливаются из деталей (смотри рис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470560" y="836640"/>
            <a:ext cx="3349440" cy="30877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003640" y="4149720"/>
            <a:ext cx="3889440" cy="244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3851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Georgia"/>
              </a:rPr>
              <a:t>Организационный </a:t>
            </a:r>
            <a:br>
              <a:rPr sz="6000"/>
            </a:br>
            <a:r>
              <a:rPr b="1" lang="en-US" sz="6000" spc="-1" strike="noStrike">
                <a:solidFill>
                  <a:srgbClr val="ffffb7"/>
                </a:solidFill>
                <a:latin typeface="Georgia"/>
              </a:rPr>
              <a:t>этап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4249800" cy="42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2017800" cy="14511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851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Georgia"/>
              </a:rPr>
              <a:t>Технология изготовления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50920" y="836640"/>
          <a:ext cx="8713800" cy="5861160"/>
        </p:xfrm>
        <a:graphic>
          <a:graphicData uri="http://schemas.openxmlformats.org/drawingml/2006/table">
            <a:tbl>
              <a:tblPr/>
              <a:tblGrid>
                <a:gridCol w="649080"/>
                <a:gridCol w="2519640"/>
                <a:gridCol w="3240000"/>
                <a:gridCol w="2305080"/>
              </a:tblGrid>
              <a:tr h="19202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2adef6"/>
                          </a:solidFill>
                          <a:latin typeface="Georgia"/>
                        </a:rPr>
                        <a:t>«</a:t>
                      </a:r>
                      <a:r>
                        <a:rPr b="1" i="1" lang="en-US" sz="2000" spc="-1" strike="noStrike">
                          <a:solidFill>
                            <a:srgbClr val="2adef6"/>
                          </a:solidFill>
                          <a:latin typeface="Georgia"/>
                        </a:rPr>
                        <a:t>Универсальный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2adef6"/>
                          </a:solidFill>
                          <a:latin typeface="Georgia"/>
                        </a:rPr>
                        <a:t>переносной ящ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2adef6"/>
                          </a:solidFill>
                          <a:latin typeface="Georgia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2adef6"/>
                          </a:solidFill>
                          <a:latin typeface="Georgia"/>
                        </a:rPr>
                        <a:t>для инструмента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ерация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ображение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струменты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Изготовить деталь 1 (дно)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карандаш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линейка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угольник, ножовка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7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Изготовить детали 2 (рейка продольная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карандаш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линейка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угольник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ножовка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рубанок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708360" y="3933720"/>
            <a:ext cx="2133720" cy="9432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3924360" y="5157720"/>
            <a:ext cx="1838160" cy="92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b7"/>
                </a:solidFill>
                <a:latin typeface="Georgia"/>
              </a:rPr>
              <a:t>Техника безопасности при выполнении работ.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ff"/>
                </a:solidFill>
                <a:uFillTx/>
                <a:latin typeface="Georgia"/>
              </a:rPr>
              <a:t>1.При пилении древесины</a:t>
            </a: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: пользуйся упорами и направителями;   не держи левую руку близко к полотну пилы; не сдувай опилки, сметай их щёткой-смёткой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Georgia"/>
              </a:rPr>
              <a:t>2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Georgia"/>
              </a:rPr>
              <a:t>.При строгании древесины</a:t>
            </a: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: надёжно закрепляй заготовку;  не проверяй остроту лезвия пальцами; рубанок клади лезвием от себя;не проверяй руками качество остроганной поверхност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ff"/>
                </a:solidFill>
                <a:uFillTx/>
                <a:latin typeface="Georgia"/>
              </a:rPr>
              <a:t>3.Особое внимание уделяй безопасным приёмам работы на токарном станке:</a:t>
            </a:r>
            <a:r>
              <a:rPr b="1" lang="ru-RU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изучи инструкцию по Т.Б. при работе на  станке; работай на станке с разрешения и под контролем учител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ff"/>
                </a:solidFill>
                <a:uFillTx/>
                <a:latin typeface="Georgia"/>
              </a:rPr>
              <a:t>4.При работе на сверлильном станке</a:t>
            </a:r>
            <a:r>
              <a:rPr b="0" lang="ru-RU" sz="2200" spc="-1" strike="noStrike" u="sng">
                <a:solidFill>
                  <a:srgbClr val="ffffff"/>
                </a:solidFill>
                <a:uFillTx/>
                <a:latin typeface="Georgia"/>
              </a:rPr>
              <a:t>:</a:t>
            </a: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 правильно установи сверло; надёжно закрепи деталь; плавно и равномерно подавай  сверло; заканчивая сверление, ослабляй нажим на сверл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b7"/>
                </a:solidFill>
                <a:latin typeface="Georgia"/>
              </a:rPr>
              <a:t>Техника безопасности при выполнении работ.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eorgia"/>
              </a:rPr>
              <a:t>5.Выполняя лакокрасочные рабо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не держи долго открытыми банки с красками; при работе не подноси краски к лицу; работу выполняй в хорошо проветриваемом помещении;  используй защитные средства: перчатки, респиратор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после завершения работы вымой руки с мыл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eorgia"/>
              </a:rPr>
              <a:t>6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eorgia"/>
              </a:rPr>
              <a:t>.При выполнении сборочных работ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: 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используй инструменты по назначению;  не клади в карманы острые предметы;  не бери в рот гвозди,  шуруп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eorgia"/>
              </a:rPr>
              <a:t>7.Особая осторожность при работе с электровыжигателе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работай в проветриваемом помещении;  проверяй состояние изоляции токопроводящих частей; по окончании работы не забывай выключать электровыжигатель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из розет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800244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Georgia"/>
              </a:rPr>
              <a:t>Заключительный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Georgia"/>
              </a:rPr>
              <a:t>этап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55640" y="2743200"/>
            <a:ext cx="30193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3851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Georgia"/>
              </a:rPr>
              <a:t>Экологическое обоснование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5215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Данное изделие изготовлено из экологически чистых материалов. Древесина и фанера не могут быть источником экологической опасности. Использование отходов производства при  изготовлении «</a:t>
            </a:r>
            <a:r>
              <a:rPr b="1" i="1" lang="en-US" sz="2000" spc="-1" strike="noStrike">
                <a:solidFill>
                  <a:srgbClr val="ffffff"/>
                </a:solidFill>
                <a:latin typeface="Georgia"/>
              </a:rPr>
              <a:t>Универсального  переносного ящика  для инструмента» </a:t>
            </a: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позволит избежать их утилизации (сжигание, захоронение), которая способствует загрязнению окружающей среды. Лак имеет государственный сертификат и разрешён к применен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При изготовлении изделия опасность могут представлять следующие работ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точение на станке СТД-120М (древесная пыль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выжигание (дым)     отделка (запах лак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При соблюдении правил техники безопасности (рабочая форма, очки, респиратор, проветривание) эти опасности очень ма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Использование изделия в быту тоже безопасно. Поэтому использование данного изделия не приведёт к нарушениям экологической среды обще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385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Georgia"/>
              </a:rPr>
              <a:t>Экономическое обоснование</a:t>
            </a:r>
            <a:r>
              <a:rPr b="1" lang="en-US" sz="3200" spc="-1" strike="noStrike">
                <a:solidFill>
                  <a:srgbClr val="ffffb7"/>
                </a:solidFill>
                <a:latin typeface="Georgia"/>
              </a:rPr>
              <a:t>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-360" y="1484280"/>
            <a:ext cx="88455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Стоимость этого изделия очень мала, если учесть, что все материалы - это отходы производства. Лак пришлось купи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Работа выполнялась в учебное время, на школьном оборудован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В эту стоимость не входят затраты на оплату труда рабочег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ree"/>
          <p:cNvSpPr/>
          <p:nvPr/>
        </p:nvSpPr>
        <p:spPr>
          <a:xfrm>
            <a:off x="6859440" y="404640"/>
            <a:ext cx="2284560" cy="217188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7931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Реклама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884556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eorgia"/>
              </a:rPr>
              <a:t>Изготовл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eorgia"/>
              </a:rPr>
              <a:t>столярных   издел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экологически чистая древес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европейский дизай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отличное ка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доступные це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DownRibbonSharp"/>
          <p:cNvSpPr/>
          <p:nvPr/>
        </p:nvSpPr>
        <p:spPr>
          <a:xfrm>
            <a:off x="468360" y="5084640"/>
            <a:ext cx="8064360" cy="1584360"/>
          </a:xfrm>
          <a:custGeom>
            <a:avLst/>
            <a:gdLst>
              <a:gd name="textAreaLeft" fmla="*/ 2016000 w 8064360"/>
              <a:gd name="textAreaRight" fmla="*/ 6048360 w 8064360"/>
              <a:gd name="textAreaTop" fmla="*/ 198000 h 1584360"/>
              <a:gd name="textAreaBottom" fmla="*/ 15847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100" y="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2700"/>
                </a:moveTo>
                <a:lnTo>
                  <a:pt x="5400" y="2700"/>
                </a:lnTo>
                <a:lnTo>
                  <a:pt x="5400" y="18900"/>
                </a:lnTo>
              </a:path>
              <a:path fill="none" w="21600" h="21600">
                <a:moveTo>
                  <a:pt x="5400" y="2700"/>
                </a:moveTo>
                <a:lnTo>
                  <a:pt x="8100" y="0"/>
                </a:lnTo>
              </a:path>
              <a:path fill="none" w="21600" h="21600">
                <a:moveTo>
                  <a:pt x="13500" y="2700"/>
                </a:moveTo>
                <a:lnTo>
                  <a:pt x="16200" y="2700"/>
                </a:lnTo>
                <a:lnTo>
                  <a:pt x="16200" y="18900"/>
                </a:lnTo>
              </a:path>
              <a:path fill="none" w="21600" h="21600">
                <a:moveTo>
                  <a:pt x="16200" y="2700"/>
                </a:moveTo>
                <a:lnTo>
                  <a:pt x="13500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66"/>
                </a:solidFill>
                <a:latin typeface="Georgia"/>
              </a:rPr>
              <a:t>мастер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Monotype Corsiva"/>
              </a:rPr>
              <a:t>«У Романа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ubRRectCallout"/>
          <p:cNvSpPr/>
          <p:nvPr/>
        </p:nvSpPr>
        <p:spPr>
          <a:xfrm>
            <a:off x="5292720" y="3068640"/>
            <a:ext cx="3240000" cy="2376360"/>
          </a:xfrm>
          <a:custGeom>
            <a:avLst/>
            <a:gdLst>
              <a:gd name="textAreaLeft" fmla="*/ 21600 w 3240000"/>
              <a:gd name="textAreaRight" fmla="*/ 3211560 w 3240000"/>
              <a:gd name="textAreaTop" fmla="*/ 15840 h 2376360"/>
              <a:gd name="textAreaBottom" fmla="*/ 1882080 h 237636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Monotype Corsiva"/>
              </a:rPr>
              <a:t>«У Романа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Monotype Corsiva"/>
              </a:rPr>
              <a:t>пр. Славы д.6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Monotype Corsiva"/>
              </a:rPr>
              <a:t>9-15ча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07640" y="188640"/>
            <a:ext cx="4969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Georgia"/>
              </a:rPr>
              <a:t>Самооценка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5946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Я считаю, что изделие удовлетворяет предложенным требованиям. Ящик имеет несколько отделов, что удобно в использовании. Ножовка хранится в безопасном чехле. Изделие можно использовать как табурет (отдых), опору для пиления, сверления (верстак), подставку для высотных работ (лесенка), измерения линейных размер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851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Georgia"/>
              </a:rPr>
              <a:t>Словарь терминов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b7"/>
                </a:solidFill>
                <a:uFillTx/>
                <a:latin typeface="Georgia"/>
              </a:rPr>
              <a:t>Верстак- 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основное оборудование рабочего места. В переводе с немецкого означает «мастерская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b7"/>
                </a:solidFill>
                <a:uFillTx/>
                <a:latin typeface="Georgia"/>
              </a:rPr>
              <a:t>Дерматин </a:t>
            </a:r>
            <a:r>
              <a:rPr b="0" lang="en-US" sz="2200" spc="-1" strike="noStrike">
                <a:solidFill>
                  <a:srgbClr val="ffffb7"/>
                </a:solidFill>
                <a:latin typeface="Georgia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 (от греч. dermatinos - кожаный), хлопчатобумажная ткань с нитроцеллюлозным покрытием, нанесённым на одну или обе стороны ткани; заменитель кож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b7"/>
                </a:solidFill>
                <a:uFillTx/>
                <a:latin typeface="Georgia"/>
              </a:rPr>
              <a:t>Деталь-</a:t>
            </a: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изделие, изготовленное из однородного материала без сборочных операций. В переводе с французского означает «подробность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b7"/>
                </a:solidFill>
                <a:uFillTx/>
                <a:latin typeface="Georgia"/>
              </a:rPr>
              <a:t>Долото </a:t>
            </a:r>
            <a:r>
              <a:rPr b="0" lang="en-US" sz="2200" spc="-1" strike="noStrike" u="sng">
                <a:solidFill>
                  <a:srgbClr val="ffffb7"/>
                </a:solidFill>
                <a:uFillTx/>
                <a:latin typeface="Georgia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 деревообрабатывающий. инструмент - заточенная стальная пластина для выдалбливания отверстий, пазов и т.д. В переводе с немецкого «долбящее железо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b7"/>
                </a:solidFill>
                <a:uFillTx/>
                <a:latin typeface="Georgia"/>
              </a:rPr>
              <a:t>Инструмент</a:t>
            </a:r>
            <a:r>
              <a:rPr b="0" lang="en-US" sz="2200" spc="-1" strike="noStrike" u="sng">
                <a:solidFill>
                  <a:srgbClr val="ffffb7"/>
                </a:solidFill>
                <a:uFillTx/>
                <a:latin typeface="Georgia"/>
              </a:rPr>
              <a:t>- 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орудие труда, предназначенное для обработки материалов и контроля результатов работы. Имеет латинское происхождение, в переводе означает «орудие для работы»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b7"/>
                </a:solidFill>
                <a:uFillTx/>
                <a:latin typeface="Georgia"/>
              </a:rPr>
              <a:t>Универсальный </a:t>
            </a:r>
            <a:r>
              <a:rPr b="0" lang="en-US" sz="2200" spc="-1" strike="noStrike" u="sng">
                <a:solidFill>
                  <a:srgbClr val="ffffb7"/>
                </a:solidFill>
                <a:uFillTx/>
                <a:latin typeface="Georgia"/>
              </a:rPr>
              <a:t>–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 происходит от латинского слова, означающего в переводе «всеобщий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b7"/>
                </a:solidFill>
                <a:uFillTx/>
                <a:latin typeface="Georgia"/>
              </a:rPr>
              <a:t>Фанера </a:t>
            </a:r>
            <a:r>
              <a:rPr b="0" lang="en-US" sz="2200" spc="-1" strike="noStrike" u="sng">
                <a:solidFill>
                  <a:srgbClr val="ffffb7"/>
                </a:solidFill>
                <a:uFillTx/>
                <a:latin typeface="Georgia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 слоистый древесный материал из склеенных между собой листов лущеного шпона с взаимно перпендикулярным расположением волокон древесины каждого лист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851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Georgia"/>
              </a:rPr>
              <a:t>Список литературы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1. Справочник по трудовому обучению: Пособие для учащихся 5-7 классов. Под ред. И. А. Карабано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2. Буглак В. И. Плотник.- Мн.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Народная асвета, 198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3. Леонтьев Д. П. Сделай сам. – Л.: Детская литерату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3851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3924"/>
                </a:solidFill>
                <a:latin typeface="Georgia"/>
              </a:rPr>
              <a:t>Идея.</a:t>
            </a:r>
            <a:br>
              <a:rPr sz="4800"/>
            </a:br>
            <a:r>
              <a:rPr b="1" lang="en-US" sz="3200" spc="-1" strike="noStrike">
                <a:solidFill>
                  <a:srgbClr val="ffffb7"/>
                </a:solidFill>
                <a:latin typeface="Georgia"/>
              </a:rPr>
              <a:t>Выбор и обоснование темы проекта.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Georgia"/>
              </a:rPr>
              <a:t>    </a:t>
            </a:r>
            <a:r>
              <a:rPr b="1" lang="en-US" sz="2400" spc="-1" strike="noStrike">
                <a:solidFill>
                  <a:srgbClr val="ffffb7"/>
                </a:solidFill>
                <a:latin typeface="Georgia"/>
              </a:rPr>
              <a:t>Мне нравятся уроки технологии, наверное, потому что сам люблю мастерить. Этому меня научил дедушка. Я каждые каникулы провожу у него в деревне. У него много всяких инструментов. Прошлым летом мы вместе помогали строить дом нашим знакомым. Инструменты у дедушки хранятся в сарае, но найти их бывает сложно, т. к. не все имеют постоянное место.  Я хотел навести порядок, но дедушка не разрешил, говорит, что он так привык и знает где что лежи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Georgia"/>
              </a:rPr>
              <a:t>   </a:t>
            </a:r>
            <a:r>
              <a:rPr b="1" lang="en-US" sz="2400" spc="-1" strike="noStrike">
                <a:solidFill>
                  <a:srgbClr val="ffffb7"/>
                </a:solidFill>
                <a:latin typeface="Georgia"/>
              </a:rPr>
              <a:t>Тогда я решил сделать ящик для инструментов и подарить его дед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Georgia"/>
              </a:rPr>
              <a:t>    </a:t>
            </a:r>
            <a:r>
              <a:rPr b="1" lang="en-US" sz="2400" spc="-1" strike="noStrike">
                <a:solidFill>
                  <a:srgbClr val="ffffb7"/>
                </a:solidFill>
                <a:latin typeface="Georgia"/>
              </a:rPr>
              <a:t>Посоветовавшись с учителем, мы решили, что ящик должен обладать следующим функциями</a:t>
            </a:r>
            <a:r>
              <a:rPr b="0" lang="en-US" sz="2400" spc="-1" strike="noStrike">
                <a:solidFill>
                  <a:srgbClr val="ffffb7"/>
                </a:solidFill>
                <a:latin typeface="Georgia"/>
              </a:rPr>
              <a:t>:</a:t>
            </a: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Georgia"/>
              </a:rPr>
              <a:t>«</a:t>
            </a:r>
            <a:r>
              <a:rPr b="1" i="1" lang="en-US" sz="3200" spc="-1" strike="noStrike">
                <a:solidFill>
                  <a:srgbClr val="ffffb7"/>
                </a:solidFill>
                <a:latin typeface="Georgia"/>
              </a:rPr>
              <a:t>Универсальный переносной ящик для инструмента»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3848040" cy="26560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3802320" cy="26560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468360" y="4076640"/>
            <a:ext cx="3887640" cy="2448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4716360" y="4076640"/>
            <a:ext cx="3821040" cy="244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3851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Georgia"/>
              </a:rPr>
              <a:t>Схема размышлений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68360" y="1052640"/>
            <a:ext cx="8674560" cy="5544360"/>
            <a:chOff x="468360" y="1052640"/>
            <a:chExt cx="8674560" cy="5544360"/>
          </a:xfrm>
        </p:grpSpPr>
        <p:cxnSp>
          <p:nvCxnSpPr>
            <p:cNvPr id="105" name="_s8253"/>
            <p:cNvCxnSpPr>
              <a:stCxn id="106" idx="3"/>
              <a:endCxn id="107" idx="2"/>
            </p:cNvCxnSpPr>
            <p:nvPr/>
          </p:nvCxnSpPr>
          <p:spPr>
            <a:xfrm flipV="1">
              <a:off x="4561560" y="1897920"/>
              <a:ext cx="407880" cy="4323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8" name="_s8251"/>
            <p:cNvCxnSpPr>
              <a:stCxn id="109" idx="1"/>
              <a:endCxn id="107" idx="2"/>
            </p:cNvCxnSpPr>
            <p:nvPr/>
          </p:nvCxnSpPr>
          <p:spPr>
            <a:xfrm rot="10800000">
              <a:off x="4968360" y="1897560"/>
              <a:ext cx="266040" cy="3583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0" name="_s8249"/>
            <p:cNvCxnSpPr>
              <a:stCxn id="111" idx="3"/>
              <a:endCxn id="107" idx="2"/>
            </p:cNvCxnSpPr>
            <p:nvPr/>
          </p:nvCxnSpPr>
          <p:spPr>
            <a:xfrm flipV="1">
              <a:off x="4485240" y="1897560"/>
              <a:ext cx="484200" cy="326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2" name="_s8247"/>
            <p:cNvCxnSpPr>
              <a:stCxn id="113" idx="1"/>
              <a:endCxn id="107" idx="2"/>
            </p:cNvCxnSpPr>
            <p:nvPr/>
          </p:nvCxnSpPr>
          <p:spPr>
            <a:xfrm rot="10800000">
              <a:off x="4968360" y="1898280"/>
              <a:ext cx="266040" cy="2141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8237"/>
            <p:cNvCxnSpPr>
              <a:stCxn id="115" idx="3"/>
              <a:endCxn id="107" idx="2"/>
            </p:cNvCxnSpPr>
            <p:nvPr/>
          </p:nvCxnSpPr>
          <p:spPr>
            <a:xfrm flipV="1">
              <a:off x="4561560" y="1897920"/>
              <a:ext cx="407880" cy="2067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8236"/>
            <p:cNvCxnSpPr>
              <a:stCxn id="117" idx="1"/>
              <a:endCxn id="107" idx="2"/>
            </p:cNvCxnSpPr>
            <p:nvPr/>
          </p:nvCxnSpPr>
          <p:spPr>
            <a:xfrm rot="10800000">
              <a:off x="4968360" y="1897560"/>
              <a:ext cx="266040" cy="919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8" name="_s8235"/>
            <p:cNvCxnSpPr>
              <a:stCxn id="119" idx="3"/>
              <a:endCxn id="107" idx="2"/>
            </p:cNvCxnSpPr>
            <p:nvPr/>
          </p:nvCxnSpPr>
          <p:spPr>
            <a:xfrm flipV="1">
              <a:off x="4561560" y="1897560"/>
              <a:ext cx="407880" cy="881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7" name="_s8231"/>
            <p:cNvSpPr/>
            <p:nvPr/>
          </p:nvSpPr>
          <p:spPr>
            <a:xfrm>
              <a:off x="2050920" y="1052640"/>
              <a:ext cx="5831640" cy="8456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 u="sng">
                  <a:solidFill>
                    <a:srgbClr val="fc3924"/>
                  </a:solidFill>
                  <a:uFillTx/>
                  <a:latin typeface="Georgia"/>
                </a:rPr>
                <a:t>Ящик для инструмента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_s8232"/>
            <p:cNvSpPr/>
            <p:nvPr/>
          </p:nvSpPr>
          <p:spPr>
            <a:xfrm>
              <a:off x="468360" y="2274120"/>
              <a:ext cx="4093560" cy="10101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3924"/>
                  </a:solidFill>
                  <a:latin typeface="Georgia"/>
                </a:rPr>
                <a:t>переноска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3924"/>
                  </a:solidFill>
                  <a:latin typeface="Georgia"/>
                </a:rPr>
                <a:t>инструмент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8233"/>
            <p:cNvSpPr/>
            <p:nvPr/>
          </p:nvSpPr>
          <p:spPr>
            <a:xfrm>
              <a:off x="5234400" y="2274120"/>
              <a:ext cx="3837600" cy="10836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3924"/>
                  </a:solidFill>
                  <a:latin typeface="Georgia"/>
                </a:rPr>
                <a:t>хранени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3924"/>
                  </a:solidFill>
                  <a:latin typeface="Georgia"/>
                </a:rPr>
                <a:t>инструмент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8234"/>
            <p:cNvSpPr/>
            <p:nvPr/>
          </p:nvSpPr>
          <p:spPr>
            <a:xfrm>
              <a:off x="468360" y="3496320"/>
              <a:ext cx="4093560" cy="9396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3924"/>
                  </a:solidFill>
                  <a:latin typeface="Georgia"/>
                </a:rPr>
                <a:t>удобство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3924"/>
                  </a:solidFill>
                  <a:latin typeface="Georgia"/>
                </a:rPr>
                <a:t>пользования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8246"/>
            <p:cNvSpPr/>
            <p:nvPr/>
          </p:nvSpPr>
          <p:spPr>
            <a:xfrm>
              <a:off x="5234400" y="3496320"/>
              <a:ext cx="3837600" cy="10861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3924"/>
                  </a:solidFill>
                  <a:latin typeface="Georgia"/>
                </a:rPr>
                <a:t>простота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3924"/>
                  </a:solidFill>
                  <a:latin typeface="Georgia"/>
                </a:rPr>
                <a:t>изготовления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8248"/>
            <p:cNvSpPr/>
            <p:nvPr/>
          </p:nvSpPr>
          <p:spPr>
            <a:xfrm>
              <a:off x="538920" y="4653000"/>
              <a:ext cx="3946320" cy="10162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3924"/>
                  </a:solidFill>
                  <a:latin typeface="Georgia"/>
                </a:rPr>
                <a:t>компактность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8250"/>
            <p:cNvSpPr/>
            <p:nvPr/>
          </p:nvSpPr>
          <p:spPr>
            <a:xfrm>
              <a:off x="5234400" y="4940640"/>
              <a:ext cx="3908520" cy="10807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3924"/>
                  </a:solidFill>
                  <a:latin typeface="Georgia"/>
                </a:rPr>
                <a:t>эстетичность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8252"/>
            <p:cNvSpPr/>
            <p:nvPr/>
          </p:nvSpPr>
          <p:spPr>
            <a:xfrm>
              <a:off x="538920" y="5846040"/>
              <a:ext cx="4022640" cy="7509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c3924"/>
                  </a:solidFill>
                  <a:latin typeface="Georgia"/>
                </a:rPr>
                <a:t>безопасность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Georgia"/>
              </a:rPr>
              <a:t>Историческая справ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215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Плотник, столяр, наверное, самая древняя профессия на земле. Дедушка рассказывал, что мастеровые люди всегда ценились. Каждый мастер имел свой инструмент и бережно к нему относился. Острые инструменты (топор, долото, рубанок) заворачивали в ткань и переносили в сумках из холщевой ткани. Каких то особых ящиков раньше не было. Но во второй половине 20 века, начинают появляться разнообразные уклад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Georgia"/>
              </a:rPr>
              <a:t>Историческая справ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55280" y="483840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-образец типичной плотницкой «разноски», в которой практически навалом хранятся все инструменты, приспособления, гвозди и т. 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060404_165736" descr=""/>
          <p:cNvPicPr/>
          <p:nvPr/>
        </p:nvPicPr>
        <p:blipFill>
          <a:blip r:embed="rId1"/>
          <a:stretch/>
        </p:blipFill>
        <p:spPr>
          <a:xfrm>
            <a:off x="2050920" y="1052640"/>
            <a:ext cx="5185080" cy="38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Georgia"/>
              </a:rPr>
              <a:t>Историческая справ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4797360"/>
            <a:ext cx="84502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укладка-чемодан, предназначена для переноски необходимых инструментов. При переноске закрывается, что обеспечивает сохранность содержимого и оберегает от трав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060404_170200" descr=""/>
          <p:cNvPicPr/>
          <p:nvPr/>
        </p:nvPicPr>
        <p:blipFill>
          <a:blip r:embed="rId1"/>
          <a:stretch/>
        </p:blipFill>
        <p:spPr>
          <a:xfrm>
            <a:off x="2195640" y="1125360"/>
            <a:ext cx="4968720" cy="372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Georgia"/>
              </a:rPr>
              <a:t>Историческая справ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4797000"/>
            <a:ext cx="80074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вариант укладки из тканевой основы, имеет много ячеек для размещения инструмента, компактный, легкий, но большой инструмен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060404_165937" descr=""/>
          <p:cNvPicPr/>
          <p:nvPr/>
        </p:nvPicPr>
        <p:blipFill>
          <a:blip r:embed="rId1"/>
          <a:stretch/>
        </p:blipFill>
        <p:spPr>
          <a:xfrm>
            <a:off x="2124000" y="876240"/>
            <a:ext cx="5327640" cy="39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Georgia"/>
              </a:rPr>
              <a:t>Историческая справ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4941720"/>
            <a:ext cx="800748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портфель,  гибрид деревянного чемодана и тканевой укладки с ячейк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060404_170914" descr=""/>
          <p:cNvPicPr/>
          <p:nvPr/>
        </p:nvPicPr>
        <p:blipFill>
          <a:blip r:embed="rId1"/>
          <a:stretch/>
        </p:blipFill>
        <p:spPr>
          <a:xfrm>
            <a:off x="2124000" y="876240"/>
            <a:ext cx="5112000" cy="383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7:16:53Z</dcterms:created>
  <dc:creator>Московченко</dc:creator>
  <dc:description/>
  <dc:language>en-US</dc:language>
  <cp:lastModifiedBy>Московченко</cp:lastModifiedBy>
  <dcterms:modified xsi:type="dcterms:W3CDTF">2009-03-09T15:57:53Z</dcterms:modified>
  <cp:revision>11</cp:revision>
  <dc:subject/>
  <dc:title>  Творческий проект  «Универсальный переносной ящик для инструмента»</dc:title>
</cp:coreProperties>
</file>