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B29-841B-4D08-AC39-9841BC3F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7E2-CD56-4AE9-BBB0-A540C5F1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21D-708C-4F93-8220-9FB96778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67B-794A-4091-8CA4-6833E805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59D-FB6B-4257-A015-32F1AF6A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AFF-C307-4861-9A1C-D3A3CF0B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4A7-1DFD-4152-9E25-45070104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D80-9471-4F55-8E58-DC95F9CE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E9B-0F45-4A90-B341-E7072F55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95C-8AAC-4319-BD92-84260AA0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D2F-91C8-43AB-9427-D82C3D40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F75-1721-4598-8DA9-541B77BC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E92F-2F80-46BB-A16F-9951E6593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ОУ СОШ №45 г. Белг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Технолог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Учитель: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Московче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Николай Никола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4419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роме основных движений сверлильный станок имеет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Georgia"/>
              </a:rPr>
              <a:t>вспомогательное движение – это перемещение шпиндельной бабки вдоль колонк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для установки нужного расстояния между шпинделем и станиной в соответствии с высотой 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Scan10100"/>
          <p:cNvPicPr/>
          <p:nvPr/>
        </p:nvPicPr>
        <p:blipFill>
          <a:blip r:embed="rId1"/>
          <a:stretch/>
        </p:blipFill>
        <p:spPr>
          <a:xfrm>
            <a:off x="4941720" y="457200"/>
            <a:ext cx="39182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Georgia"/>
              </a:rPr>
              <a:t>Кинематическая схем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условное изображение подвижны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кинематика"/>
          <p:cNvPicPr/>
          <p:nvPr/>
        </p:nvPicPr>
        <p:blipFill>
          <a:blip r:embed="rId1"/>
          <a:stretch/>
        </p:blipFill>
        <p:spPr>
          <a:xfrm>
            <a:off x="304920" y="1219320"/>
            <a:ext cx="2970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Untitled-Scanned-01"/>
          <p:cNvPicPr/>
          <p:nvPr/>
        </p:nvPicPr>
        <p:blipFill>
          <a:blip r:embed="rId2"/>
          <a:stretch/>
        </p:blipFill>
        <p:spPr>
          <a:xfrm>
            <a:off x="1447920" y="4800600"/>
            <a:ext cx="2743200" cy="174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Untitled-Scanned-04"/>
          <p:cNvPicPr/>
          <p:nvPr/>
        </p:nvPicPr>
        <p:blipFill>
          <a:blip r:embed="rId3"/>
          <a:stretch/>
        </p:blipFill>
        <p:spPr>
          <a:xfrm>
            <a:off x="5410080" y="1295280"/>
            <a:ext cx="3159360" cy="183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Untitled-Scanned-05"/>
          <p:cNvPicPr/>
          <p:nvPr/>
        </p:nvPicPr>
        <p:blipFill>
          <a:blip r:embed="rId4"/>
          <a:stretch/>
        </p:blipFill>
        <p:spPr>
          <a:xfrm>
            <a:off x="5105520" y="4038480"/>
            <a:ext cx="3647880" cy="1803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2819520" y="3733920"/>
            <a:ext cx="4343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2518200" y="61714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тов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869800" y="31996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ечн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412240" y="594288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ённ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580920" y="380880"/>
            <a:ext cx="5257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 предприятиях сверлильные станки обслуживают 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сверловщики</a:t>
            </a:r>
            <a:r>
              <a:rPr b="0" i="1" lang="ru-RU" sz="2400" spc="-1" strike="noStrike">
                <a:solidFill>
                  <a:srgbClr val="ff33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eorgia"/>
              </a:rPr>
              <a:t>Они должны зн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устройство ста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уметь его налаживать и обслуж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ыбирать правильную скорость сверления, уметь пользоваться различными приспособлениями для свер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затачивать инструм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збираться в черте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Untitled-Scanned-06"/>
          <p:cNvPicPr/>
          <p:nvPr/>
        </p:nvPicPr>
        <p:blipFill>
          <a:blip r:embed="rId1"/>
          <a:stretch/>
        </p:blipFill>
        <p:spPr>
          <a:xfrm>
            <a:off x="457200" y="762120"/>
            <a:ext cx="27417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Правила техники безопасности при строг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1</a:t>
            </a: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.   </a:t>
            </a: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Работать на станке только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2. Одежду застегнуть на все пуговицы, надеть защитные 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3.   Проверить надежность крепления патрона на шпинделе, сверла — в патроне, заготовки — в ти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4.   Не отходить от станка, не выключ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5.   После   окончания   сверления   не   останавливать   патрон рукой, не убирать заготовку до полной остановки свер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6.   В случае отключения электрического тока немедленно нажать кнопку «Стоп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7.   Очищать станок только после его выключения, пользуясь щеткой-см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0" i="1" lang="ru-RU" sz="4800" spc="-1" strike="noStrike">
                <a:solidFill>
                  <a:srgbClr val="ff3300"/>
                </a:solidFill>
                <a:latin typeface="Georgia"/>
              </a:rPr>
              <a:t>Сверление отверст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Georgia"/>
              </a:rPr>
              <a:t>в бойке киян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181120" y="456840"/>
            <a:ext cx="3962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Технологическая ка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«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Сверление отверстия в бойке кия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80" descr="IMG_0658"/>
          <p:cNvPicPr/>
          <p:nvPr/>
        </p:nvPicPr>
        <p:blipFill>
          <a:blip r:embed="rId1"/>
          <a:stretch/>
        </p:blipFill>
        <p:spPr>
          <a:xfrm>
            <a:off x="5715000" y="380988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82" descr="тех карта2"/>
          <p:cNvPicPr/>
          <p:nvPr/>
        </p:nvPicPr>
        <p:blipFill>
          <a:blip r:embed="rId2"/>
          <a:stretch/>
        </p:blipFill>
        <p:spPr>
          <a:xfrm>
            <a:off x="304920" y="304920"/>
            <a:ext cx="496224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Georgi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Используя записи в тетради, определи количество основных частей станка и  продолжи заполнять следующую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дз"/>
          <p:cNvPicPr/>
          <p:nvPr/>
        </p:nvPicPr>
        <p:blipFill>
          <a:blip r:embed="rId1"/>
          <a:stretch/>
        </p:blipFill>
        <p:spPr>
          <a:xfrm>
            <a:off x="228600" y="3505320"/>
            <a:ext cx="86868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г. Бел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МОУ СОШ №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trudovik</a:t>
            </a: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45.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ucoz</a:t>
            </a: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ru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Тема: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 Устройство и управление                                                         сверлильным станк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образовательная: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Создать условия для изучения устройства сверлильного станка и формирования умений по управлению станком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развивающая: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Способствовать развитию представления о видах технологических машин и способах обработки  материалов резань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воспитательная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: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  Прививать навыки аккуратности, ответственности, умение работать в коллективе, стремление к соблюдению безопасных приёмов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6" descr="Scan10101"/>
          <p:cNvPicPr/>
          <p:nvPr/>
        </p:nvPicPr>
        <p:blipFill>
          <a:blip r:embed="rId1"/>
          <a:stretch/>
        </p:blipFill>
        <p:spPr>
          <a:xfrm>
            <a:off x="6095880" y="1905120"/>
            <a:ext cx="252432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Устройство и управление сверлильным стан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Scan10100"/>
          <p:cNvPicPr/>
          <p:nvPr/>
        </p:nvPicPr>
        <p:blipFill>
          <a:blip r:embed="rId2"/>
          <a:stretch/>
        </p:blipFill>
        <p:spPr>
          <a:xfrm>
            <a:off x="1143000" y="2286000"/>
            <a:ext cx="263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   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верлильный станок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– технологическая машина, предназначенная для выполнения и обработки отверстий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Сверлильный станок, как и любая технологическая машина, состоит из следующих составных част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двигате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рабочего орг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передаточного механизм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органов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Scan10100"/>
          <p:cNvPicPr/>
          <p:nvPr/>
        </p:nvPicPr>
        <p:blipFill>
          <a:blip r:embed="rId1"/>
          <a:stretch/>
        </p:blipFill>
        <p:spPr>
          <a:xfrm>
            <a:off x="228600" y="1371600"/>
            <a:ext cx="312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танок св цифрами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станок св с ообозначениями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IMG_0663"/>
          <p:cNvPicPr/>
          <p:nvPr/>
        </p:nvPicPr>
        <p:blipFill>
          <a:blip r:embed="rId1"/>
          <a:stretch/>
        </p:blipFill>
        <p:spPr>
          <a:xfrm>
            <a:off x="4495680" y="762120"/>
            <a:ext cx="4343400" cy="217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Основным инструментом сверлильного станка является свер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Для того чтобы сверло резало материал, оно должно вращаться и перемещаться вдоль оси будущего отверс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IMG_0666"/>
          <p:cNvPicPr/>
          <p:nvPr/>
        </p:nvPicPr>
        <p:blipFill>
          <a:blip r:embed="rId2"/>
          <a:stretch/>
        </p:blipFill>
        <p:spPr>
          <a:xfrm>
            <a:off x="533520" y="762120"/>
            <a:ext cx="3706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При работе сверлильного станк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</a:rPr>
              <a:t>осуществляется два  основных движен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вращения шпинд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и его поступательное перемещение в вертикальном направлен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Вращение шпинделя называют  главным движением, или движением резания а его поступательное  перемещение – движением по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Untitled-Scanned-09"/>
          <p:cNvPicPr/>
          <p:nvPr/>
        </p:nvPicPr>
        <p:blipFill>
          <a:blip r:embed="rId1"/>
          <a:stretch/>
        </p:blipFill>
        <p:spPr>
          <a:xfrm>
            <a:off x="2362320" y="3657600"/>
            <a:ext cx="449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n</cp:lastModifiedBy>
  <dcterms:modified xsi:type="dcterms:W3CDTF">2009-03-10T13:26:4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