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03A-9223-4D51-BAFE-C3B0CA1E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EEE-D793-4E40-921A-E574ED85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BBC-4063-4499-B440-092583B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BA3-8866-42EA-B851-BF576D67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147-141A-4CBE-ABBE-97ADC90C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F8A-8ADE-43C7-80C4-6B1D476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C9D-A04D-4E9E-B347-10FFDEC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A5C-75C4-43E5-B740-DEEA162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48C-7DDC-48E0-B63A-F7370CF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9CD-A709-4720-A5CD-D0165ED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C4D-27ED-401B-BF0B-8DEE738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EF2-C2E9-4DA7-B5DB-59571F6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1170-F8BF-4AA9-83AF-47AF82A9F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У СОШ №45 г. Белг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хн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Учитель: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Московч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иколай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роме основных движений сверлильный станок имеет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вспомогательное движение – это перемещение шпиндельной бабки вдоль колонк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для установки нужного расстояния между шпинделем и станиной в соответствии с высотой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can10100"/>
          <p:cNvPicPr/>
          <p:nvPr/>
        </p:nvPicPr>
        <p:blipFill>
          <a:blip r:embed="rId1"/>
          <a:stretch/>
        </p:blipFill>
        <p:spPr>
          <a:xfrm>
            <a:off x="4941720" y="457200"/>
            <a:ext cx="3918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Georgia"/>
              </a:rPr>
              <a:t>Кинематическая схем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ловное изображение подвиж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кинематика"/>
          <p:cNvPicPr/>
          <p:nvPr/>
        </p:nvPicPr>
        <p:blipFill>
          <a:blip r:embed="rId1"/>
          <a:stretch/>
        </p:blipFill>
        <p:spPr>
          <a:xfrm>
            <a:off x="304920" y="1219320"/>
            <a:ext cx="297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Untitled-Scanned-01"/>
          <p:cNvPicPr/>
          <p:nvPr/>
        </p:nvPicPr>
        <p:blipFill>
          <a:blip r:embed="rId2"/>
          <a:stretch/>
        </p:blipFill>
        <p:spPr>
          <a:xfrm>
            <a:off x="1447920" y="4800600"/>
            <a:ext cx="274320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Untitled-Scanned-04"/>
          <p:cNvPicPr/>
          <p:nvPr/>
        </p:nvPicPr>
        <p:blipFill>
          <a:blip r:embed="rId3"/>
          <a:stretch/>
        </p:blipFill>
        <p:spPr>
          <a:xfrm>
            <a:off x="5410080" y="1295280"/>
            <a:ext cx="3159360" cy="183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Untitled-Scanned-05"/>
          <p:cNvPicPr/>
          <p:nvPr/>
        </p:nvPicPr>
        <p:blipFill>
          <a:blip r:embed="rId4"/>
          <a:stretch/>
        </p:blipFill>
        <p:spPr>
          <a:xfrm>
            <a:off x="5105520" y="4038480"/>
            <a:ext cx="364788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2819520" y="3733920"/>
            <a:ext cx="4343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518200" y="61714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тов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869800" y="31996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ч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2240" y="5942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ён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80920" y="380880"/>
            <a:ext cx="5257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 предприятиях сверлильные станки обслуживают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сверловщики</a:t>
            </a:r>
            <a:r>
              <a:rPr b="0" i="1" lang="ru-RU" sz="2400" spc="-1" strike="noStrike">
                <a:solidFill>
                  <a:srgbClr val="ff33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Они должны зн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стройство ста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меть его налаживать и обслуж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ыбирать правильную скорость сверления, уметь пользоваться различными приспособлениями для свер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затачивать инстру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збираться в черте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Untitled-Scanned-06"/>
          <p:cNvPicPr/>
          <p:nvPr/>
        </p:nvPicPr>
        <p:blipFill>
          <a:blip r:embed="rId1"/>
          <a:stretch/>
        </p:blipFill>
        <p:spPr>
          <a:xfrm>
            <a:off x="457200" y="762120"/>
            <a:ext cx="27417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Правила техники безопасности при строг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.  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Работать на станке только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2. Одежду застегнуть на все пуговицы, надеть защитные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3.   Проверить надежность крепления патрона на шпинделе, сверла — в патроне, заготовки — в т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4.   Не отходить от станка, не выключ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5.   После   окончания   сверления   не   останавливать   патрон рукой, не убирать заготовку до полной остановки св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6.   В случае отключения электрического тока немедленно нажать кнопку «Стоп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7.   Очищать станок только после его выключения, пользуясь щеткой-см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Сверление отверст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в бойке ки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181120" y="456840"/>
            <a:ext cx="3962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ехнологическая к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«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Сверление отверстия в бойке ки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80" descr="IMG_0658"/>
          <p:cNvPicPr/>
          <p:nvPr/>
        </p:nvPicPr>
        <p:blipFill>
          <a:blip r:embed="rId1"/>
          <a:stretch/>
        </p:blipFill>
        <p:spPr>
          <a:xfrm>
            <a:off x="5715000" y="38098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2" descr="тех карта2"/>
          <p:cNvPicPr/>
          <p:nvPr/>
        </p:nvPicPr>
        <p:blipFill>
          <a:blip r:embed="rId2"/>
          <a:stretch/>
        </p:blipFill>
        <p:spPr>
          <a:xfrm>
            <a:off x="304920" y="304920"/>
            <a:ext cx="496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спользуя записи в тетради, определи количество основных частей станка и  продолжи заполнять следующую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дз"/>
          <p:cNvPicPr/>
          <p:nvPr/>
        </p:nvPicPr>
        <p:blipFill>
          <a:blip r:embed="rId1"/>
          <a:stretch/>
        </p:blipFill>
        <p:spPr>
          <a:xfrm>
            <a:off x="228600" y="3505320"/>
            <a:ext cx="86868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г. 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МОУ СОШ №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trudovik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45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ucoz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ru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 Устройство и управление                                                         сверлильным стан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образовательн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оздать условия для изучения устройства сверлильного станка и формирования умений по управлению станком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азвивающ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пособствовать развитию представления о видах технологических машин и способах обработки  материалов резан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воспитательная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  Прививать навыки аккуратности, ответственности, умение работать в коллективе, стремление к соблюдению безопасных приём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" descr="Scan10101"/>
          <p:cNvPicPr/>
          <p:nvPr/>
        </p:nvPicPr>
        <p:blipFill>
          <a:blip r:embed="rId1"/>
          <a:stretch/>
        </p:blipFill>
        <p:spPr>
          <a:xfrm>
            <a:off x="6095880" y="1905120"/>
            <a:ext cx="25243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Устройство и управление сверлильным ста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can10100"/>
          <p:cNvPicPr/>
          <p:nvPr/>
        </p:nvPicPr>
        <p:blipFill>
          <a:blip r:embed="rId2"/>
          <a:stretch/>
        </p:blipFill>
        <p:spPr>
          <a:xfrm>
            <a:off x="1143000" y="228600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ерлильный стано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– технологическая машина, предназначенная для выполнения и обработки отверстий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Сверлильный станок, как и любая технологическая машина, состоит из следующих составных част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вига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рабочего орг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передаточного механизм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рганов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100"/>
          <p:cNvPicPr/>
          <p:nvPr/>
        </p:nvPicPr>
        <p:blipFill>
          <a:blip r:embed="rId1"/>
          <a:stretch/>
        </p:blipFill>
        <p:spPr>
          <a:xfrm>
            <a:off x="228600" y="1371600"/>
            <a:ext cx="312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танок св цифрами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станок св с ообозначениями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663"/>
          <p:cNvPicPr/>
          <p:nvPr/>
        </p:nvPicPr>
        <p:blipFill>
          <a:blip r:embed="rId1"/>
          <a:stretch/>
        </p:blipFill>
        <p:spPr>
          <a:xfrm>
            <a:off x="4495680" y="762120"/>
            <a:ext cx="4343400" cy="217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сновным инструментом сверлильного станка является свер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ля того чтобы сверло резало материал, оно должно вращаться и перемещаться вдоль оси будущего отверс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IMG_0666"/>
          <p:cNvPicPr/>
          <p:nvPr/>
        </p:nvPicPr>
        <p:blipFill>
          <a:blip r:embed="rId2"/>
          <a:stretch/>
        </p:blipFill>
        <p:spPr>
          <a:xfrm>
            <a:off x="533520" y="762120"/>
            <a:ext cx="370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При работе сверлильного станк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осуществляется два  основных движен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вращения шпинд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 его поступательное перемещение в вертикальном направлен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Вращение шпинделя называют  главным движением, или движением резания а его поступательное  перемещение – движением по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Untitled-Scanned-09"/>
          <p:cNvPicPr/>
          <p:nvPr/>
        </p:nvPicPr>
        <p:blipFill>
          <a:blip r:embed="rId1"/>
          <a:stretch/>
        </p:blipFill>
        <p:spPr>
          <a:xfrm>
            <a:off x="2362320" y="3657600"/>
            <a:ext cx="449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n</cp:lastModifiedBy>
  <dcterms:modified xsi:type="dcterms:W3CDTF">2009-03-10T13:26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