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8250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824400" cy="680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567400" y="0"/>
            <a:ext cx="42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3209400" y="510840"/>
            <a:ext cx="3403800" cy="25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1309320" y="3233880"/>
            <a:ext cx="7203960" cy="30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6468840"/>
            <a:ext cx="425592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567400" y="6468840"/>
            <a:ext cx="425592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AB99-2426-4FCE-97EA-8919A45A77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2097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309320" y="3233880"/>
            <a:ext cx="7203960" cy="30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с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5E6-F8CC-456B-9AB8-4C82A409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C0C-809B-402E-B507-E28AC548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CB1-8B33-4B64-8E5E-BBB8811C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A76-8FF5-4D74-A6D5-CEBDC115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43CB-97F7-465B-9F3B-9D72C777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A709-A017-464C-85AA-47E1DBC1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D2A0-7B41-4029-8D27-377EEA0C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12BA-0C61-4EDE-A459-33925A4E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23BA-6CE4-426F-BD50-3793691F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BF1E-1ED5-4075-9E06-10E05E45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D46B-48CE-4DB9-B1A5-6D0D71E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AB8-A41B-4E28-8605-C6EF382B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DE8D-898F-4A5E-B1D0-569651CE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DCDB-CA80-4C91-BF0B-FC0AE16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DC13-4A2F-4EF4-AC6B-59B5CBCB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EC37-17D4-4430-AF81-D82B9E6C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DFB9-84A2-4E1C-B07B-C8B5077C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FA0-2AFE-40CF-89D9-82526125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0DD-193A-4DB9-AC12-4A404554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01F-427B-4268-8C7E-4E96C410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465-4724-49C9-AE62-EBA1E31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D9D-C944-4646-A7F6-335ED7A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63A-0ADD-462A-9582-0ABB4391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DDA-8698-4083-A558-5464C01B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8F22-EF80-429C-8E92-A4285DFC03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7CD0-D0FF-42B1-B039-FCA01F1C1A8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66"/>
                </a:solidFill>
                <a:latin typeface="Times New Roman"/>
              </a:rPr>
              <a:t>Технология создания изделий из металла </a:t>
            </a:r>
            <a:br>
              <a:rPr sz="6600"/>
            </a:br>
            <a:r>
              <a:rPr b="1" lang="ru-RU" sz="6600" spc="-1" strike="noStrike">
                <a:solidFill>
                  <a:srgbClr val="ffcc66"/>
                </a:solidFill>
                <a:latin typeface="Times New Roman"/>
              </a:rPr>
              <a:t>на основе конструкторской и технологической документации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D713-D1A3-4804-95B2-232F0AA43B7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52574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Опиливаемая поверхность заготовки над  уровнем губок тис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8840" y="518148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Выбираемая длина напиль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38480" cy="4496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809880" cy="4496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 flipH="1">
            <a:off x="15235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99840" y="32767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219320" y="27432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21932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743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839880" y="2516040"/>
            <a:ext cx="423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.1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3200400"/>
            <a:ext cx="129564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029200" y="2286000"/>
            <a:ext cx="14479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276720"/>
            <a:ext cx="213372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473600">
            <a:off x="5714640" y="3352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0…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238400">
            <a:off x="3200040" y="167652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9B3-DC4A-4472-BA52-8D8AC31971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5486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0" y="58672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Положение корпуса и ног работающего при опиливан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99C-07B5-43BC-B47D-367482E172F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Координация усилий рук при опиливани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410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457200" y="45720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ординация усилий р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5029200"/>
            <a:ext cx="3429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33"/>
                </a:solidFill>
                <a:latin typeface="Times New Roman"/>
              </a:rPr>
              <a:t>Исходное поло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885840" y="3124080"/>
            <a:ext cx="762120" cy="1905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648320" y="3962160"/>
            <a:ext cx="1218960" cy="1066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859360" y="346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438280"/>
            <a:ext cx="76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2438280"/>
            <a:ext cx="0" cy="213372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438280"/>
            <a:ext cx="76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438280"/>
            <a:ext cx="0" cy="68580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E7B-83E4-4D2D-9E2B-500C42C6CBC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43382" r="0" b="18950"/>
          <a:stretch/>
        </p:blipFill>
        <p:spPr>
          <a:xfrm>
            <a:off x="1523880" y="2971800"/>
            <a:ext cx="5943600" cy="2590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685800" y="5867280"/>
            <a:ext cx="808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Опиливание поперечным (а) и продольным (б) штрих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14945" t="2284" r="40233" b="58906"/>
          <a:stretch/>
        </p:blipFill>
        <p:spPr>
          <a:xfrm>
            <a:off x="3048120" y="152280"/>
            <a:ext cx="2971800" cy="2590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4419720" y="2286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510552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457200"/>
            <a:ext cx="228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57200"/>
            <a:ext cx="0" cy="914400"/>
          </a:xfrm>
          <a:prstGeom prst="line">
            <a:avLst/>
          </a:prstGeom>
          <a:ln w="5724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733920"/>
            <a:ext cx="228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733920"/>
            <a:ext cx="0" cy="838080"/>
          </a:xfrm>
          <a:prstGeom prst="line">
            <a:avLst/>
          </a:prstGeom>
          <a:ln w="5724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2D2-7458-4DB6-8E48-3751E5A784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5943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Опиливание перекрестным штрихом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572000" cy="5791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 rot="1465800">
            <a:off x="5184720" y="4800600"/>
            <a:ext cx="227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105520" y="4800600"/>
            <a:ext cx="304560" cy="533520"/>
          </a:xfrm>
          <a:prstGeom prst="line">
            <a:avLst/>
          </a:prstGeom>
          <a:ln w="3816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9591800">
            <a:off x="4114800" y="22824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9537200">
            <a:off x="4114440" y="30456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228600"/>
            <a:ext cx="304920" cy="457200"/>
          </a:xfrm>
          <a:prstGeom prst="line">
            <a:avLst/>
          </a:prstGeom>
          <a:ln w="3816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E63-22FB-408D-A254-52366074DB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86692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Arial"/>
              </a:rPr>
              <a:t>Опиливание круговым штрихо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5410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5B3-4ED1-4605-8C06-D4CCDB48C51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58669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Arial"/>
              </a:rPr>
              <a:t>Очистка напильник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>
            <a:lum bright="-6000"/>
          </a:blip>
          <a:srcRect l="27413" t="38357" r="6764" b="14376"/>
          <a:stretch/>
        </p:blipFill>
        <p:spPr>
          <a:xfrm>
            <a:off x="2057400" y="152280"/>
            <a:ext cx="4952880" cy="5791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A8E-BD21-4A6A-AE06-4BE3FE4A727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онтроль качества опилива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886" t="9588" r="67258" b="19181"/>
          <a:stretch/>
        </p:blipFill>
        <p:spPr>
          <a:xfrm>
            <a:off x="228600" y="1371600"/>
            <a:ext cx="3276720" cy="441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533520" y="5867280"/>
            <a:ext cx="808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а – линейкой; б - угольник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38054" t="2741" r="2655" b="20551"/>
          <a:stretch/>
        </p:blipFill>
        <p:spPr>
          <a:xfrm>
            <a:off x="3733920" y="1371600"/>
            <a:ext cx="5181480" cy="441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5943600" y="137160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о уголь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236232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ряемая сторона дета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а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22860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од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990720" y="2133360"/>
            <a:ext cx="838080" cy="1522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91A-0685-4043-8081-767F72BBD43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152280" y="5866920"/>
            <a:ext cx="9524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Контроль опиливания штангенциркулем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629400" cy="5639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709-79D8-487C-8789-82576527CB0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авила  безопасности труд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готовка должна быть надежно закреплена в тис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96216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 rot="1090800">
            <a:off x="5257440" y="373356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541008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5410080"/>
            <a:ext cx="762120" cy="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4C3-38E2-4044-A330-D447AF866C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Тема урока : </a:t>
            </a:r>
            <a:br>
              <a:rPr sz="5400"/>
            </a:b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«Опиливание металла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33920" cy="4952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CFA-E00C-4282-86BA-169AC6412A6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чка напильника должна быть исправной, без трещин и прочно насажена на хвостовик напиль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90720" y="2057400"/>
            <a:ext cx="7162560" cy="762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2">
            <a:lum contrast="36000"/>
          </a:blip>
          <a:srcRect l="28126" t="7413" r="5409" b="75830"/>
          <a:stretch/>
        </p:blipFill>
        <p:spPr>
          <a:xfrm>
            <a:off x="990720" y="3200400"/>
            <a:ext cx="7162560" cy="3124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983-8614-4185-8FBB-64C0E48DE4A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рабочем ходе напильника не допускаются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дары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чки о заготов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724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5FE-92B7-40DB-AC28-42CD69E2F61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256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льзя охватывать носок напильника левой рукой. При обратном ходе может привести к травм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льцев ру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05920" cy="441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162920" y="48006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ПАСНО</a:t>
            </a: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DBC-EBC1-4A65-9AD5-27104B5FF4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2560" y="228600"/>
            <a:ext cx="80805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авила безопасной насадки и снятия рукоятки напильник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50812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281952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048120" y="2057400"/>
            <a:ext cx="281916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228600" y="5334120"/>
            <a:ext cx="25146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насаживай рукоятку, ударяя по напильник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52578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Ударом о верста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52578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Ударом молотко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5029200"/>
            <a:ext cx="12952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Ударами молотком по кольц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91520" y="525780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С помощью тиск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0280" y="213372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НЯТ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21337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НАСАД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13372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ОПА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5DA-70C4-4A68-B26C-ED822C97622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льзя сдувать опилки или удалять их голыми руками. Для уборки верстака использовать щетку-смет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444760" y="2475000"/>
            <a:ext cx="4254480" cy="190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497232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6E0-2D3A-4451-9A57-E1C8AD8C592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шпиль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с немецкого)  - скре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Личн</a:t>
            </a:r>
            <a:r>
              <a:rPr b="1" i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ό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для чистовой отделки или иной    гладкой поверхности (сл. Ожегова С.И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рачевы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рвать, сдирать, отдирать         (сл. Ожегова С.И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C75-C7CB-43BC-98AD-4A7106942EA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перация </a:t>
            </a:r>
            <a:r>
              <a:rPr b="0" i="1" lang="ru-RU" sz="4400" spc="-1" strike="noStrike">
                <a:solidFill>
                  <a:srgbClr val="ffcc66"/>
                </a:solidFill>
                <a:latin typeface="Times New Roman"/>
              </a:rPr>
              <a:t>опиливания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еталлов характерна тем, что с ее помощью, применяя различные по форме напильники и снимая небольшие слои металла, можно придавать изделию более точную форму, требуемые размеры и ровность поверхности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DD5-3534-46AF-BFC5-77E70218D2D7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Цель урока</a:t>
            </a: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: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лучить знания о процессе опиливания металла,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знакомиться с инструментом для опиливания поверхностей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формировать умения опиливания заготовок из сортового прокат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вать умения организовывать  свою деятельнос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473-627B-46B8-978A-8823CA8931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0" name=""/>
          <p:cNvSpPr txBox="1"/>
          <p:nvPr/>
        </p:nvSpPr>
        <p:spPr>
          <a:xfrm>
            <a:off x="-533880" y="-360"/>
            <a:ext cx="10287000" cy="60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Форма профиля рабочей части напильни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739" t="0" r="1739" b="1334"/>
          <a:stretch/>
        </p:blipFill>
        <p:spPr>
          <a:xfrm>
            <a:off x="228600" y="685800"/>
            <a:ext cx="8686800" cy="5867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914400" y="201924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981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574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905120"/>
            <a:ext cx="2133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лоск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6002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828800"/>
            <a:ext cx="1752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вадрат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114800"/>
            <a:ext cx="190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ехгран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4191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уг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60958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лукруг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958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мбическ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6095880"/>
            <a:ext cx="1828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ожевид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C08-EE78-48D5-8697-79BFB69EC7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Элементы напильника и 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иды насечек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140" t="1407" r="47733" b="8575"/>
          <a:stretch/>
        </p:blipFill>
        <p:spPr>
          <a:xfrm>
            <a:off x="380880" y="1295280"/>
            <a:ext cx="411804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52270" t="1407" r="1755" b="8575"/>
          <a:stretch/>
        </p:blipFill>
        <p:spPr>
          <a:xfrm>
            <a:off x="4800600" y="1295280"/>
            <a:ext cx="403848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80880" y="628668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6172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лементы напильн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6210360"/>
            <a:ext cx="4038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иды насече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137160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востов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е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98108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чая ч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коя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548640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я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48640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87692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2670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с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2971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EFB-50A1-4898-B1D9-4579A8D5AE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2280" y="914400"/>
          <a:ext cx="8839440" cy="5594400"/>
        </p:xfrm>
        <a:graphic>
          <a:graphicData uri="http://schemas.openxmlformats.org/drawingml/2006/table">
            <a:tbl>
              <a:tblPr/>
              <a:tblGrid>
                <a:gridCol w="1981440"/>
                <a:gridCol w="3124080"/>
                <a:gridCol w="1523880"/>
                <a:gridCol w="221004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напиль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напиль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асечек на 10 м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лщина срезаемого металла, м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АЧЕВ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-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черновое опиливани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ЧН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-2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1-0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чистовое опиливани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РХАТН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5-0,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ля точной отделк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457200" y="152280"/>
            <a:ext cx="808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 количеству зубьев насеч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621-C0EE-4CE4-A22E-A027E6B002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3440" y="228600"/>
            <a:ext cx="7089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о назначени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523880"/>
          <a:ext cx="8610120" cy="3922560"/>
        </p:xfrm>
        <a:graphic>
          <a:graphicData uri="http://schemas.openxmlformats.org/drawingml/2006/table">
            <a:tbl>
              <a:tblPr/>
              <a:tblGrid>
                <a:gridCol w="2153160"/>
                <a:gridCol w="2151720"/>
                <a:gridCol w="2153520"/>
                <a:gridCol w="215172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 назна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фил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шпил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шин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слесарных рабо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обработки мелких деталей и отверстий (прой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опиливания мягких металлов, кожи, резины, древес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ханизированные напиль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E8F-1917-40DE-8334-4006C63D2D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352680" y="152280"/>
            <a:ext cx="25909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Напильни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3733920"/>
            <a:ext cx="3276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по форме профи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733920"/>
            <a:ext cx="259092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по количеств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зубьев насеч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3733920"/>
            <a:ext cx="25146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по назнач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419720"/>
            <a:ext cx="335304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4419720"/>
            <a:ext cx="259092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4419720"/>
            <a:ext cx="251460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ОБЩ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НА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НАДФИЛ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20-112 насечек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 РАШП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 МАШИ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3335" t="0" r="0" b="0"/>
          <a:stretch/>
        </p:blipFill>
        <p:spPr>
          <a:xfrm>
            <a:off x="2971800" y="4495680"/>
            <a:ext cx="3200400" cy="21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1600200" y="838080"/>
            <a:ext cx="6095880" cy="27432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5943600" cy="259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648320" y="609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523880" y="35812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3581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581280"/>
            <a:ext cx="53316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914400"/>
            <a:ext cx="99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востови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1219320"/>
            <a:ext cx="1600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бочая ч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2590920"/>
            <a:ext cx="99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коятк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3200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ятк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914400"/>
            <a:ext cx="1295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чк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00400"/>
            <a:ext cx="99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н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89548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бр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59092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с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66880" y="243828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952880"/>
            <a:ext cx="7617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лоски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4876920"/>
            <a:ext cx="838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Квадратн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570708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Трехгранн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5715000"/>
            <a:ext cx="6858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Кругл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640080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олукруглые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640080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Ромбически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640080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Ножевидн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2743200"/>
            <a:ext cx="121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ашпильная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91440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сновная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1828800"/>
            <a:ext cx="1143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спомога- тельная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95880" y="2133720"/>
            <a:ext cx="533520" cy="228600"/>
          </a:xfrm>
          <a:prstGeom prst="line">
            <a:avLst/>
          </a:prstGeom>
          <a:ln w="2844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248520" y="1219320"/>
            <a:ext cx="457200" cy="228600"/>
          </a:xfrm>
          <a:prstGeom prst="line">
            <a:avLst/>
          </a:prstGeom>
          <a:ln w="2844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4419720"/>
          <a:ext cx="2590920" cy="2273040"/>
        </p:xfrm>
        <a:graphic>
          <a:graphicData uri="http://schemas.openxmlformats.org/drawingml/2006/table">
            <a:tbl>
              <a:tblPr/>
              <a:tblGrid>
                <a:gridCol w="914400"/>
                <a:gridCol w="838440"/>
                <a:gridCol w="838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рачевы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12 насе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 – 0,5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лично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-26 насе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0,3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бархат- ны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-80 насе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05 – 0,01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E2F-D484-4E64-806D-173D419940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Приемы опилив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3962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04920" y="5562720"/>
            <a:ext cx="8839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Arial"/>
              </a:rPr>
              <a:t>Положение рук при опиливании:</a:t>
            </a:r>
            <a:br>
              <a:rPr sz="4000"/>
            </a:b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а, б - правая рука; в – левая ру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648320"/>
            <a:ext cx="838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724280"/>
            <a:ext cx="685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724280"/>
            <a:ext cx="762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9600" y="19810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DF1-3F26-4F41-8FE6-1D2D55DB3F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ven</cp:lastModifiedBy>
  <dcterms:modified xsi:type="dcterms:W3CDTF">2011-04-19T10:01:3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