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9825038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824400" cy="680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2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567400" y="0"/>
            <a:ext cx="42559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3209400" y="510840"/>
            <a:ext cx="3403800" cy="25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1309320" y="3233880"/>
            <a:ext cx="7203960" cy="30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6468840"/>
            <a:ext cx="425592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567400" y="6468840"/>
            <a:ext cx="425592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BA4E-8BBF-4FB1-912F-5E3B74336B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20976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309320" y="3233880"/>
            <a:ext cx="7203960" cy="30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с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9D9-9885-47D1-B1E1-5460C7C7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EB5C-2EFC-4BD1-B502-9A16DB7C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4E5-9FF6-4731-8249-5CDF33E6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27D-169E-4735-9C5C-9D37A246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18FC-678B-4293-9C30-5D5A8E36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4D79-BE63-4801-954F-D7045F54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DD32-932E-4913-8A18-A913BA57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CEDB-AC47-410F-A09F-1C4D3E78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85FF-2955-454A-9824-3D1D1B66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B655-21FB-453B-88E0-987584D0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0F47-AEEF-4312-B19F-2AA0EF70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D03-7434-4909-A09D-F065A915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9378-8D1B-428E-822A-A8BE39D2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E27F-4AA4-4502-8817-2B441DF2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5AEC-6659-44BA-B961-D98C5E91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5FBB-62D1-4751-A9F9-60F11CEF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A1AD-B297-419D-B27A-8ECFAB3E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CEC-3D5E-432E-A7D6-A2E872DC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0B0-5203-4149-ABA4-45730B93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011-2939-4CDE-8E48-84CEB43C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663-6918-4EA7-BCF1-0378A023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CD8-46F5-4749-B426-97510FF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339-86C3-4893-AD54-8859F18D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5C0-14DB-438D-869D-8DEA5A05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8451-3E97-4F6D-A1E5-C8B9783249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F6C8-6605-423A-A790-E2ECA27080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66"/>
                </a:solidFill>
                <a:latin typeface="Times New Roman"/>
              </a:rPr>
              <a:t>Технология создания изделий из металла </a:t>
            </a:r>
            <a:br>
              <a:rPr sz="6600"/>
            </a:br>
            <a:r>
              <a:rPr b="1" lang="ru-RU" sz="6600" spc="-1" strike="noStrike">
                <a:solidFill>
                  <a:srgbClr val="ffcc66"/>
                </a:solidFill>
                <a:latin typeface="Times New Roman"/>
              </a:rPr>
              <a:t>на основе конструкторской и технологической документации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51F4-3683-44D4-BF21-6A016D19380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60" y="5257440"/>
            <a:ext cx="4724280" cy="1066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4000"/>
          </a:bodyPr>
          <a:p>
            <a:pPr marL="288000" indent="-28800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Опиливаемая поверхность заготовки над  уровнем губок тис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28840" y="518148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Выбираемая длина напильн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038480" cy="4496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809880" cy="4496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 flipH="1">
            <a:off x="1523520" y="27432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599840" y="32767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219320" y="274320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219320" y="3276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2743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839880" y="2516040"/>
            <a:ext cx="4237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.10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3200400"/>
            <a:ext cx="129564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029200" y="2286000"/>
            <a:ext cx="144792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3276720"/>
            <a:ext cx="213372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473600">
            <a:off x="5714640" y="3352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0…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238400">
            <a:off x="3200040" y="167652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EB8B-4B0A-4EFC-8487-F3B5574F4B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4114800" cy="5486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0" y="58672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Положение корпуса и ног работающего при опиливан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094-D063-47DB-9309-B4EF8B9B320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57150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Координация усилий рук при опиливании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5410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457200" y="457200"/>
            <a:ext cx="3429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ординация усилий ру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5029200"/>
            <a:ext cx="34290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33"/>
                </a:solidFill>
                <a:latin typeface="Times New Roman"/>
              </a:rPr>
              <a:t>Исходное полож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885840" y="3124080"/>
            <a:ext cx="762120" cy="1905120"/>
          </a:xfrm>
          <a:prstGeom prst="line">
            <a:avLst/>
          </a:prstGeom>
          <a:ln w="349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648320" y="3962160"/>
            <a:ext cx="1218960" cy="10666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859360" y="346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2438280"/>
            <a:ext cx="7632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2438280"/>
            <a:ext cx="0" cy="213372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438280"/>
            <a:ext cx="76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2438280"/>
            <a:ext cx="0" cy="68580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434-7351-4303-9DA2-CF2E5F01796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0" t="43382" r="0" b="18950"/>
          <a:stretch/>
        </p:blipFill>
        <p:spPr>
          <a:xfrm>
            <a:off x="1523880" y="2971800"/>
            <a:ext cx="5943600" cy="2590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685800" y="5867280"/>
            <a:ext cx="808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Опиливание поперечным (а) и продольным (б) штрих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14945" t="2284" r="40233" b="58906"/>
          <a:stretch/>
        </p:blipFill>
        <p:spPr>
          <a:xfrm>
            <a:off x="3048120" y="152280"/>
            <a:ext cx="2971800" cy="2590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4419720" y="2286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510552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457200"/>
            <a:ext cx="228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57200"/>
            <a:ext cx="0" cy="914400"/>
          </a:xfrm>
          <a:prstGeom prst="line">
            <a:avLst/>
          </a:prstGeom>
          <a:ln w="57240">
            <a:solidFill>
              <a:srgbClr val="ff00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3733920"/>
            <a:ext cx="228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3733920"/>
            <a:ext cx="0" cy="838080"/>
          </a:xfrm>
          <a:prstGeom prst="line">
            <a:avLst/>
          </a:prstGeom>
          <a:ln w="57240">
            <a:solidFill>
              <a:srgbClr val="ff00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873-7F27-47F5-B0CE-64091F26B41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59432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Опиливание перекрестным штрихом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4572000" cy="5791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 rot="1465800">
            <a:off x="5184720" y="4800600"/>
            <a:ext cx="227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105520" y="4800600"/>
            <a:ext cx="304560" cy="533520"/>
          </a:xfrm>
          <a:prstGeom prst="line">
            <a:avLst/>
          </a:prstGeom>
          <a:ln w="38160">
            <a:solidFill>
              <a:srgbClr val="ff00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9591800">
            <a:off x="4114800" y="22824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9537200">
            <a:off x="4114440" y="30456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38480" y="228600"/>
            <a:ext cx="304920" cy="457200"/>
          </a:xfrm>
          <a:prstGeom prst="line">
            <a:avLst/>
          </a:prstGeom>
          <a:ln w="38160">
            <a:solidFill>
              <a:srgbClr val="ff00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7E6-377C-42A8-BD49-50A58B3C564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86692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66"/>
                </a:solidFill>
                <a:latin typeface="Arial"/>
              </a:rPr>
              <a:t>Опиливание круговым штрихо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620120" cy="5410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C3E-C909-471D-8B0B-F979C6D6F10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586692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66"/>
                </a:solidFill>
                <a:latin typeface="Arial"/>
              </a:rPr>
              <a:t>Очистка напильник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>
            <a:lum bright="-6000"/>
          </a:blip>
          <a:srcRect l="27413" t="38357" r="6764" b="14376"/>
          <a:stretch/>
        </p:blipFill>
        <p:spPr>
          <a:xfrm>
            <a:off x="2057400" y="152280"/>
            <a:ext cx="4952880" cy="5791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962-AF29-497A-BD04-516A2BBE98A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онтроль качества опиливани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886" t="9588" r="67258" b="19181"/>
          <a:stretch/>
        </p:blipFill>
        <p:spPr>
          <a:xfrm>
            <a:off x="228600" y="1371600"/>
            <a:ext cx="3276720" cy="4419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533520" y="5867280"/>
            <a:ext cx="808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а – линейкой; б - угольник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rcRect l="38054" t="2741" r="2655" b="20551"/>
          <a:stretch/>
        </p:blipFill>
        <p:spPr>
          <a:xfrm>
            <a:off x="3733920" y="1371600"/>
            <a:ext cx="5181480" cy="4419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5943600" y="1371600"/>
            <a:ext cx="236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еро уголь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2362320"/>
            <a:ext cx="2057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веряемая сторона дета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495680"/>
            <a:ext cx="838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а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22860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лод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990720" y="2133360"/>
            <a:ext cx="838080" cy="15228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94DC-662C-4096-8EE2-58967347638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152280" y="5866920"/>
            <a:ext cx="9524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Контроль опиливания штангенциркулем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629400" cy="5639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412-B0AA-4E13-AF5C-D74017F5392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авила  безопасности труд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готовка должна быть надежно закреплена в тиск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590920" y="2743200"/>
            <a:ext cx="396216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42" name=""/>
          <p:cNvSpPr/>
          <p:nvPr/>
        </p:nvSpPr>
        <p:spPr>
          <a:xfrm rot="1090800">
            <a:off x="5257440" y="373356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5410080"/>
            <a:ext cx="7617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5410080"/>
            <a:ext cx="762120" cy="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B560-68E3-4F6D-8459-EBB4903FAB6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Тема урока : </a:t>
            </a:r>
            <a:br>
              <a:rPr sz="5400"/>
            </a:b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«Опиливание металла</a:t>
            </a: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3733920" cy="4952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524-9206-4DCD-B623-DE3C643CB19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чка напильника должна быть исправной, без трещин и прочно насажена на хвостовик напиль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990720" y="2057400"/>
            <a:ext cx="7162560" cy="762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2">
            <a:lum contrast="36000"/>
          </a:blip>
          <a:srcRect l="28126" t="7413" r="5409" b="75830"/>
          <a:stretch/>
        </p:blipFill>
        <p:spPr>
          <a:xfrm>
            <a:off x="990720" y="3200400"/>
            <a:ext cx="7162560" cy="3124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68B-BCCA-4F38-BB78-29DF0B9E5B7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рабочем ходе напильника не допускаются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дары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чки о заготов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238880" cy="4724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27E-CD44-4AD7-948B-B580EEBA5FC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256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льзя охватывать носок напильника левой рукой. При обратном ходе может привести к травме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льцев ру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305920" cy="4419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7162920" y="48006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33"/>
                </a:solidFill>
                <a:latin typeface="Times New Roman"/>
              </a:rPr>
              <a:t>ОПАСНО</a:t>
            </a: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E93-0FD3-436C-879F-07FCD7DB108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2560" y="228600"/>
            <a:ext cx="80805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авила безопасной насадки и снятия рукоятки напильника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250812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6172200" y="2057400"/>
            <a:ext cx="281952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3048120" y="2057400"/>
            <a:ext cx="2819160" cy="3809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58" name=""/>
          <p:cNvSpPr/>
          <p:nvPr/>
        </p:nvSpPr>
        <p:spPr>
          <a:xfrm>
            <a:off x="228600" y="5334120"/>
            <a:ext cx="25146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 насаживай рукоятку, ударяя по напильник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5257800"/>
            <a:ext cx="1067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Ударом о верста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5257800"/>
            <a:ext cx="1067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Ударом молотко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72200" y="5029200"/>
            <a:ext cx="129528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) Ударами молотком по кольцу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91520" y="5257800"/>
            <a:ext cx="15238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) С помощью тисков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0280" y="213372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НЯТ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2133720"/>
            <a:ext cx="14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НАСАД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213372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33"/>
                </a:solidFill>
                <a:latin typeface="Times New Roman"/>
              </a:rPr>
              <a:t>ОПА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1C2-CD44-4527-976E-6AE71B35DA6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льзя сдувать опилки или удалять их голыми руками. Для уборки верстака использовать щетку-смет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444760" y="2475000"/>
            <a:ext cx="4254480" cy="190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981080" y="2133720"/>
            <a:ext cx="497232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4B2-1635-49B6-BF99-3B300AFA263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шпиль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 с немецкого)  - скре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Личн</a:t>
            </a:r>
            <a:r>
              <a:rPr b="1" i="1" lang="el-G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ό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для чистовой отделки или иной    гладкой поверхности (сл. Ожегова С.И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рачевый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– рвать, сдирать, отдирать         (сл. Ожегова С.И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04F-E86C-4954-BF2A-D540E5F9DDE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перация </a:t>
            </a:r>
            <a:r>
              <a:rPr b="0" i="1" lang="ru-RU" sz="4400" spc="-1" strike="noStrike">
                <a:solidFill>
                  <a:srgbClr val="ffcc66"/>
                </a:solidFill>
                <a:latin typeface="Times New Roman"/>
              </a:rPr>
              <a:t>опиливания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еталлов характерна тем, что с ее помощью, применяя различные по форме напильники и снимая небольшие слои металла, можно придавать изделию более точную форму, требуемые размеры и ровность поверхности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517-85A9-448B-816F-148F771DDA9C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15192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Цель урока</a:t>
            </a: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: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лучить знания о процессе опиливания металла,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знакомиться с инструментом для опиливания поверхностей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формировать умения опиливания заготовок из сортового прокат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звивать умения организовывать  свою деятельность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BD1-C450-49C3-876F-3C5C18DFE2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00" name=""/>
          <p:cNvSpPr txBox="1"/>
          <p:nvPr/>
        </p:nvSpPr>
        <p:spPr>
          <a:xfrm>
            <a:off x="-533880" y="-360"/>
            <a:ext cx="10287000" cy="60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Форма профиля рабочей части напильни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739" t="0" r="1739" b="1334"/>
          <a:stretch/>
        </p:blipFill>
        <p:spPr>
          <a:xfrm>
            <a:off x="228600" y="685800"/>
            <a:ext cx="8686800" cy="5867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914400" y="201924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981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ос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20574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905120"/>
            <a:ext cx="2133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лоск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6002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1828800"/>
            <a:ext cx="1752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вадрат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114800"/>
            <a:ext cx="1905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рехгран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4191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ругл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60958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лукругл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958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мбическ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6095880"/>
            <a:ext cx="1828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ожевид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A8D-B924-4862-9A41-DFEFFF6BEE6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Элементы напильника и </a:t>
            </a:r>
            <a:br>
              <a:rPr sz="3600"/>
            </a:b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иды насечек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6140" t="1407" r="47733" b="8575"/>
          <a:stretch/>
        </p:blipFill>
        <p:spPr>
          <a:xfrm>
            <a:off x="380880" y="1295280"/>
            <a:ext cx="411804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52270" t="1407" r="1755" b="8575"/>
          <a:stretch/>
        </p:blipFill>
        <p:spPr>
          <a:xfrm>
            <a:off x="4800600" y="1295280"/>
            <a:ext cx="403848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380880" y="628668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6172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Элементы напильни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6210360"/>
            <a:ext cx="4038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62485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иды насече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137160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востов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1600"/>
            <a:ext cx="1219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е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1981080"/>
            <a:ext cx="18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чая ча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2670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укоя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548640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ят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48640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ан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876920"/>
            <a:ext cx="914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бр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42670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со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6600" y="29718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D89-E8C1-44E3-9EAC-F88A1865EB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52280" y="914400"/>
          <a:ext cx="8839440" cy="5594400"/>
        </p:xfrm>
        <a:graphic>
          <a:graphicData uri="http://schemas.openxmlformats.org/drawingml/2006/table">
            <a:tbl>
              <a:tblPr/>
              <a:tblGrid>
                <a:gridCol w="1981440"/>
                <a:gridCol w="3124080"/>
                <a:gridCol w="1523880"/>
                <a:gridCol w="2210040"/>
              </a:tblGrid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мер напиль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напильни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насечек на 10 м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олщина срезаемого металла, м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-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РАЧЕВЫ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1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-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черновое опиливани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ЧНЫ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-2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1-0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чистовое опиливание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АРХАТНЫ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05-0,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ля точной отделк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457200" y="152280"/>
            <a:ext cx="808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о количеству зубьев насеч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C5BE-C237-4074-96A3-ED68F40A570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3440" y="228600"/>
            <a:ext cx="70894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По назначению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1523880"/>
          <a:ext cx="8610120" cy="3922560"/>
        </p:xfrm>
        <a:graphic>
          <a:graphicData uri="http://schemas.openxmlformats.org/drawingml/2006/table">
            <a:tbl>
              <a:tblPr/>
              <a:tblGrid>
                <a:gridCol w="2153160"/>
                <a:gridCol w="2151720"/>
                <a:gridCol w="2153520"/>
                <a:gridCol w="215172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го назна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дфил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шпил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шинн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слесарных рабо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обработки мелких деталей и отверстий (прой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ля опиливания мягких металлов, кожи, резины, древеси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ханизированные напильни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7783-224E-4AC0-8EAE-E7C02172F5F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352680" y="152280"/>
            <a:ext cx="259092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Напильни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5480" y="3733920"/>
            <a:ext cx="32767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по форме профи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733920"/>
            <a:ext cx="259092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по количеств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Times New Roman"/>
              </a:rPr>
              <a:t>зубьев насеч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3733920"/>
            <a:ext cx="25146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imes New Roman"/>
              </a:rPr>
              <a:t>по назначе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4419720"/>
            <a:ext cx="3353040" cy="2286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4419720"/>
            <a:ext cx="2590920" cy="2286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4419720"/>
            <a:ext cx="2514600" cy="2286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. ОБЩ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ЗНАЧ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2. НАДФИЛ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20-112 насечек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. РАШПИ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. МАШИННЫ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3335" t="0" r="0" b="0"/>
          <a:stretch/>
        </p:blipFill>
        <p:spPr>
          <a:xfrm>
            <a:off x="2971800" y="4495680"/>
            <a:ext cx="3200400" cy="213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1600200" y="838080"/>
            <a:ext cx="6095880" cy="274320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676520" y="914400"/>
            <a:ext cx="5943600" cy="259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4648320" y="609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523880" y="3581280"/>
            <a:ext cx="53352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3581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4267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581280"/>
            <a:ext cx="53316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914400"/>
            <a:ext cx="99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востови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1219320"/>
            <a:ext cx="1600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бочая ча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2590920"/>
            <a:ext cx="99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коятк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32004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ятк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914400"/>
            <a:ext cx="1295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чк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00400"/>
            <a:ext cx="99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ан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289548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бр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59092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с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666880" y="243828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952880"/>
            <a:ext cx="7617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лоски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4876920"/>
            <a:ext cx="8380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Квадратны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5707080"/>
            <a:ext cx="914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Трехгранны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5715000"/>
            <a:ext cx="6858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Круглы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6400800"/>
            <a:ext cx="914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олукруглые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6400800"/>
            <a:ext cx="914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Ромбически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6400800"/>
            <a:ext cx="914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Ножевидные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2743200"/>
            <a:ext cx="1219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Рашпильная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91440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сновная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1828800"/>
            <a:ext cx="1143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спомога- тельная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095880" y="2133720"/>
            <a:ext cx="533520" cy="228600"/>
          </a:xfrm>
          <a:prstGeom prst="line">
            <a:avLst/>
          </a:prstGeom>
          <a:ln w="2844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248520" y="1219320"/>
            <a:ext cx="457200" cy="228600"/>
          </a:xfrm>
          <a:prstGeom prst="line">
            <a:avLst/>
          </a:prstGeom>
          <a:ln w="28440">
            <a:solidFill>
              <a:srgbClr val="ff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2280" y="4419720"/>
          <a:ext cx="2590920" cy="2273040"/>
        </p:xfrm>
        <a:graphic>
          <a:graphicData uri="http://schemas.openxmlformats.org/drawingml/2006/table">
            <a:tbl>
              <a:tblPr/>
              <a:tblGrid>
                <a:gridCol w="914400"/>
                <a:gridCol w="838440"/>
                <a:gridCol w="8380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драчевы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12 насеч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2 – 0,5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лично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-26 насеч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0,3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бархат- ный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-80 насече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05 – 0,01м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91C-0E89-4983-81DB-42A03FA498E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Приемы опилива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3962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04920" y="5562720"/>
            <a:ext cx="8839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66"/>
                </a:solidFill>
                <a:latin typeface="Arial"/>
              </a:rPr>
              <a:t>Положение рук при опиливании:</a:t>
            </a:r>
            <a:br>
              <a:rPr sz="4000"/>
            </a:br>
            <a:r>
              <a:rPr b="0" i="1" lang="ru-RU" sz="3600" spc="-1" strike="noStrike">
                <a:solidFill>
                  <a:srgbClr val="ffcc66"/>
                </a:solidFill>
                <a:latin typeface="Arial"/>
              </a:rPr>
              <a:t>а, б - правая рука; в – левая ру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4648320"/>
            <a:ext cx="838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4724280"/>
            <a:ext cx="685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4724280"/>
            <a:ext cx="762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9600" y="19810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4D7-9A87-4839-9F7A-56BB3F14D6D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ven</cp:lastModifiedBy>
  <dcterms:modified xsi:type="dcterms:W3CDTF">2011-04-19T10:01:31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