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8250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824400" cy="680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567400" y="0"/>
            <a:ext cx="42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3209400" y="510840"/>
            <a:ext cx="3403800" cy="25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1309320" y="3233880"/>
            <a:ext cx="7203960" cy="30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6468840"/>
            <a:ext cx="425592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567400" y="6468840"/>
            <a:ext cx="425592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F2D-8F67-4DCF-9291-FCA33A2423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2097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309320" y="3233880"/>
            <a:ext cx="7203960" cy="30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с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F5F-8550-4E0D-A54B-4433A118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F84-07B1-4B20-A8B3-A9E1A1FF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A19-5D45-4F71-A883-A39FA692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202-2AF6-446F-86DD-D4398A78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E115-E173-4EC3-9A06-15BEAFA5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1C9A-ACBE-483C-89BA-F2C51F3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530C-F0AE-4DF7-9B42-0242CF7B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3932-1737-40AF-A52E-E76AC1E8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49B0-27E9-494D-9EB9-D8C5582E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1258-7D73-40C6-96B8-282D1A2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F62F-E7DE-4A88-BC5B-063D107C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6AE-454F-4D40-8E0D-188F303B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5F04-6F24-4A82-B0F8-AA2F39D5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9B33-4A5F-4710-B899-374EC51B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ACD0-5A89-4153-AB00-5B92706F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DDD5-77FA-4B97-88A9-4BC2CFCC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5FAF-EAFB-4681-A4CB-C1B832FB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B9A-A22C-44A6-A06E-1701B444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3B6-0E2E-4169-9EBE-E55895D5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45D-9E89-485F-8CD0-27CC41BD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2A9-36E4-4B71-8327-518A560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ECA-E8FE-490E-9CC0-6EFB288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1E9-DBF5-4DC2-AF24-A54B476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251-907A-4570-93FE-371B92EF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5B76-88C1-4BA9-8702-B41C2DC3F9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2C3D-E9FA-4A7D-9C08-60C5CB8DA6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66"/>
                </a:solidFill>
                <a:latin typeface="Times New Roman"/>
              </a:rPr>
              <a:t>Технология создания изделий из металла </a:t>
            </a:r>
            <a:br>
              <a:rPr sz="6600"/>
            </a:br>
            <a:r>
              <a:rPr b="1" lang="ru-RU" sz="6600" spc="-1" strike="noStrike">
                <a:solidFill>
                  <a:srgbClr val="ffcc66"/>
                </a:solidFill>
                <a:latin typeface="Times New Roman"/>
              </a:rPr>
              <a:t>на основе конструкторской и технологической документации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91FC-4CBE-47F1-BF77-93615C9BBA5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52574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Опиливаемая поверхность заготовки над  уровнем губок тис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8840" y="518148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Выбираемая длина напиль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38480" cy="4496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4496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 flipH="1">
            <a:off x="15235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99840" y="32767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219320" y="27432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21932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743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839880" y="2516040"/>
            <a:ext cx="423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.1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3200400"/>
            <a:ext cx="129564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029200" y="2286000"/>
            <a:ext cx="14479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276720"/>
            <a:ext cx="213372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473600">
            <a:off x="5714640" y="3352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0…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238400">
            <a:off x="3200040" y="167652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069-B6AB-4519-A2F5-32F57709FD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5486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0" y="58672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Положение корпуса и ног работающего при опиливан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5CA-46BF-486B-9974-DEA6F8EDE74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Координация усилий рук при опиливани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41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457200" y="45720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ординация усилий р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5029200"/>
            <a:ext cx="3429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33"/>
                </a:solidFill>
                <a:latin typeface="Times New Roman"/>
              </a:rPr>
              <a:t>Исходное поло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885840" y="3124080"/>
            <a:ext cx="762120" cy="1905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648320" y="3962160"/>
            <a:ext cx="1218960" cy="1066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859360" y="346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438280"/>
            <a:ext cx="76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2438280"/>
            <a:ext cx="0" cy="213372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438280"/>
            <a:ext cx="76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438280"/>
            <a:ext cx="0" cy="68580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8C5-9B19-4A4E-AFB4-D0F2377D31B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43382" r="0" b="18950"/>
          <a:stretch/>
        </p:blipFill>
        <p:spPr>
          <a:xfrm>
            <a:off x="1523880" y="2971800"/>
            <a:ext cx="5943600" cy="2590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685800" y="5867280"/>
            <a:ext cx="808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Опиливание поперечным (а) и продольным (б) штрих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14945" t="2284" r="40233" b="58906"/>
          <a:stretch/>
        </p:blipFill>
        <p:spPr>
          <a:xfrm>
            <a:off x="3048120" y="152280"/>
            <a:ext cx="2971800" cy="2590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4419720" y="2286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10552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457200"/>
            <a:ext cx="228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57200"/>
            <a:ext cx="0" cy="914400"/>
          </a:xfrm>
          <a:prstGeom prst="line">
            <a:avLst/>
          </a:prstGeom>
          <a:ln w="5724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733920"/>
            <a:ext cx="228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733920"/>
            <a:ext cx="0" cy="838080"/>
          </a:xfrm>
          <a:prstGeom prst="line">
            <a:avLst/>
          </a:prstGeom>
          <a:ln w="5724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190-91B9-4176-8D00-4E37D8E4E25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5943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Опиливание перекрестным штрихо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572000" cy="5791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 rot="1465800">
            <a:off x="5184720" y="4800600"/>
            <a:ext cx="227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105520" y="4800600"/>
            <a:ext cx="304560" cy="533520"/>
          </a:xfrm>
          <a:prstGeom prst="line">
            <a:avLst/>
          </a:prstGeom>
          <a:ln w="3816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9591800">
            <a:off x="4114800" y="22824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9537200">
            <a:off x="4114440" y="30456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28600"/>
            <a:ext cx="304920" cy="457200"/>
          </a:xfrm>
          <a:prstGeom prst="line">
            <a:avLst/>
          </a:prstGeom>
          <a:ln w="3816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44E-0989-4A11-B687-E8A87F8FDF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86692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Опиливание круговым штрихо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541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E3A-6414-481B-976B-F8E1687662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58669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Очистка напильни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lum bright="-6000"/>
          </a:blip>
          <a:srcRect l="27413" t="38357" r="6764" b="14376"/>
          <a:stretch/>
        </p:blipFill>
        <p:spPr>
          <a:xfrm>
            <a:off x="2057400" y="152280"/>
            <a:ext cx="4952880" cy="5791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03A-4323-4219-831F-808344390B6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онтроль качества опилива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886" t="9588" r="67258" b="19181"/>
          <a:stretch/>
        </p:blipFill>
        <p:spPr>
          <a:xfrm>
            <a:off x="228600" y="1371600"/>
            <a:ext cx="3276720" cy="441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533520" y="5867280"/>
            <a:ext cx="808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а – линейкой; б - угольник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38054" t="2741" r="2655" b="20551"/>
          <a:stretch/>
        </p:blipFill>
        <p:spPr>
          <a:xfrm>
            <a:off x="3733920" y="1371600"/>
            <a:ext cx="5181480" cy="441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5943600" y="137160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о уголь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236232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ряемая сторона дета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а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22860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од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990720" y="2133360"/>
            <a:ext cx="838080" cy="1522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53A-E7A6-4113-B845-88980243B30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152280" y="5866920"/>
            <a:ext cx="9524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Контроль опиливания штангенциркуле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629400" cy="5639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8B5-116E-411B-8A2E-1656D28A71D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вила  безопасности труд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готовка должна быть надежно закреплена в тис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96216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 rot="1090800">
            <a:off x="5257440" y="373356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541008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5410080"/>
            <a:ext cx="762120" cy="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F6F-ADD4-40C1-AD00-34519B9BC8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Тема урока : </a:t>
            </a:r>
            <a:br>
              <a:rPr sz="5400"/>
            </a:b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«Опиливание металла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33920" cy="4952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5DF-EFCD-4C83-91A9-9A9AA58A939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чка напильника должна быть исправной, без трещин и прочно насажена на хвостовик напиль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90720" y="2057400"/>
            <a:ext cx="7162560" cy="762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>
            <a:lum contrast="36000"/>
          </a:blip>
          <a:srcRect l="28126" t="7413" r="5409" b="75830"/>
          <a:stretch/>
        </p:blipFill>
        <p:spPr>
          <a:xfrm>
            <a:off x="990720" y="3200400"/>
            <a:ext cx="7162560" cy="3124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371-38F1-4ECE-A167-FC6E26693CE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рабочем ходе напильника не допускаются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дары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чки о заготов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724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D0A-F7F7-46B3-81B5-E827CFF9C15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256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льзя охватывать носок напильника левой рукой. При обратном ходе может привести к травм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льцев ру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441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162920" y="48006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ПАСНО</a:t>
            </a: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8BF-B423-4304-A05A-40C647F5F4A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2560" y="228600"/>
            <a:ext cx="80805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авила безопасной насадки и снятия рукоятки напильни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50812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281952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048120" y="2057400"/>
            <a:ext cx="281916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228600" y="5334120"/>
            <a:ext cx="25146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насаживай рукоятку, ударяя по напильник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52578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Ударом о верста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52578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Ударом молотк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5029200"/>
            <a:ext cx="12952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Ударами молотком по кольц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91520" y="525780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С помощью тиск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0280" y="213372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НЯТ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21337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АСАД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13372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ОПА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CF8-06CE-4F47-8ADF-E3E248F84B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льзя сдувать опилки или удалять их голыми руками. Для уборки верстака использовать щетку-смет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444760" y="2475000"/>
            <a:ext cx="4254480" cy="190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497232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234-681C-454A-902A-32C0D086B62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шпиль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с немецкого)  - скре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Личн</a:t>
            </a:r>
            <a:r>
              <a:rPr b="1" i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ό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для чистовой отделки или иной    гладкой поверхности (сл. Ожегова С.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рачевы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рвать, сдирать, отдирать         (сл. Ожегова С.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BD5-304A-4B53-A498-246E499B38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перация </a:t>
            </a:r>
            <a:r>
              <a:rPr b="0" i="1" lang="ru-RU" sz="4400" spc="-1" strike="noStrike">
                <a:solidFill>
                  <a:srgbClr val="ffcc66"/>
                </a:solidFill>
                <a:latin typeface="Times New Roman"/>
              </a:rPr>
              <a:t>опиливания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еталлов характерна тем, что с ее помощью, применяя различные по форме напильники и снимая небольшие слои металла, можно придавать изделию более точную форму, требуемые размеры и ровность поверхности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374-E7F5-418E-8B9E-37CC143950EB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Цель урока</a:t>
            </a: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: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лучить знания о процессе опиливания металла,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знакомиться с инструментом для опиливания поверхностей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формировать умения опиливания заготовок из сортового прокат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вать умения организовывать  свою деятельнос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D5B-A4CA-4F4C-8EE5-DE022343F7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0" name=""/>
          <p:cNvSpPr txBox="1"/>
          <p:nvPr/>
        </p:nvSpPr>
        <p:spPr>
          <a:xfrm>
            <a:off x="-533880" y="-360"/>
            <a:ext cx="10287000" cy="60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Форма профиля рабочей части напильни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739" t="0" r="1739" b="1334"/>
          <a:stretch/>
        </p:blipFill>
        <p:spPr>
          <a:xfrm>
            <a:off x="228600" y="685800"/>
            <a:ext cx="8686800" cy="5867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914400" y="201924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905120"/>
            <a:ext cx="2133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лоск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6002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828800"/>
            <a:ext cx="1752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вадрат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114800"/>
            <a:ext cx="190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ехгран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4191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уг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60958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лукруг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958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мбическ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609588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ожевид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343-95F8-4337-92A6-311E3D9692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Элементы напильника и 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иды насечек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140" t="1407" r="47733" b="8575"/>
          <a:stretch/>
        </p:blipFill>
        <p:spPr>
          <a:xfrm>
            <a:off x="380880" y="1295280"/>
            <a:ext cx="411804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52270" t="1407" r="1755" b="8575"/>
          <a:stretch/>
        </p:blipFill>
        <p:spPr>
          <a:xfrm>
            <a:off x="4800600" y="1295280"/>
            <a:ext cx="403848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80880" y="628668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6172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лементы напильн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6210360"/>
            <a:ext cx="4038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иды насече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137160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востов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е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98108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чая ч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оя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548640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я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48640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87692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2670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с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971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E2A-405F-4B91-A0B0-7AAD16B6E4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2280" y="914400"/>
          <a:ext cx="8839440" cy="5594400"/>
        </p:xfrm>
        <a:graphic>
          <a:graphicData uri="http://schemas.openxmlformats.org/drawingml/2006/table">
            <a:tbl>
              <a:tblPr/>
              <a:tblGrid>
                <a:gridCol w="1981440"/>
                <a:gridCol w="3124080"/>
                <a:gridCol w="1523880"/>
                <a:gridCol w="221004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напиль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напиль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асечек на 10 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лщина срезаемого металла, 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АЧЕВ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-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черновое опили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-2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1-0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чистовое опили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РХАТН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5-0,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ля точной отделк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457200" y="152280"/>
            <a:ext cx="808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количеству зубьев насеч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A1A-5A5E-4903-BF7A-D961533654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3440" y="228600"/>
            <a:ext cx="7089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о назначени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523880"/>
          <a:ext cx="8610120" cy="3922560"/>
        </p:xfrm>
        <a:graphic>
          <a:graphicData uri="http://schemas.openxmlformats.org/drawingml/2006/table">
            <a:tbl>
              <a:tblPr/>
              <a:tblGrid>
                <a:gridCol w="2153160"/>
                <a:gridCol w="2151720"/>
                <a:gridCol w="2153520"/>
                <a:gridCol w="215172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 назна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фи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шпи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шин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слесарных рабо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обработки мелких деталей и отверстий (прой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опиливания мягких металлов, кожи, резины, древес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ханизированные напиль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912-FA1D-4083-AD8D-CC862C45A1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52680" y="152280"/>
            <a:ext cx="25909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Напильни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3733920"/>
            <a:ext cx="3276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о форме профи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733920"/>
            <a:ext cx="259092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по количеств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зубьев насеч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733920"/>
            <a:ext cx="25146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о назнач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419720"/>
            <a:ext cx="335304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4419720"/>
            <a:ext cx="259092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4419720"/>
            <a:ext cx="251460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ОБЩ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НА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НАДФИЛ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20-112 насечек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 РАШП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 МАШИ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3335" t="0" r="0" b="0"/>
          <a:stretch/>
        </p:blipFill>
        <p:spPr>
          <a:xfrm>
            <a:off x="2971800" y="4495680"/>
            <a:ext cx="3200400" cy="21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1600200" y="838080"/>
            <a:ext cx="6095880" cy="27432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594360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648320" y="609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523880" y="35812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581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581280"/>
            <a:ext cx="53316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914400"/>
            <a:ext cx="99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востови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1219320"/>
            <a:ext cx="1600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бочая ч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2590920"/>
            <a:ext cx="99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коятк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3200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ятк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914400"/>
            <a:ext cx="1295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чк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00400"/>
            <a:ext cx="99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н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89548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бр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59092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66880" y="243828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952880"/>
            <a:ext cx="7617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лоски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4876920"/>
            <a:ext cx="838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Квадратн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570708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Трехгранн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5715000"/>
            <a:ext cx="685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Кругл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640080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олукруглые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640080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Ромбически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640080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Ножевидн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2743200"/>
            <a:ext cx="121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шпильна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91440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сновна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1828800"/>
            <a:ext cx="1143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спомога- тельная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95880" y="2133720"/>
            <a:ext cx="533520" cy="228600"/>
          </a:xfrm>
          <a:prstGeom prst="line">
            <a:avLst/>
          </a:prstGeom>
          <a:ln w="2844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248520" y="1219320"/>
            <a:ext cx="457200" cy="228600"/>
          </a:xfrm>
          <a:prstGeom prst="line">
            <a:avLst/>
          </a:prstGeom>
          <a:ln w="2844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4419720"/>
          <a:ext cx="2590920" cy="2273040"/>
        </p:xfrm>
        <a:graphic>
          <a:graphicData uri="http://schemas.openxmlformats.org/drawingml/2006/table">
            <a:tbl>
              <a:tblPr/>
              <a:tblGrid>
                <a:gridCol w="914400"/>
                <a:gridCol w="838440"/>
                <a:gridCol w="838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рачевы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12 насе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 – 0,5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лично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-26 насе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0,3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бархат- ны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-80 насе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05 – 0,01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8A8-762B-4CCF-ADDF-F646572821A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Приемы опилив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3962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04920" y="5562720"/>
            <a:ext cx="8839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Положение рук при опиливании:</a:t>
            </a:r>
            <a:br>
              <a:rPr sz="4000"/>
            </a:b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а, б - правая рука; в – левая ру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648320"/>
            <a:ext cx="838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724280"/>
            <a:ext cx="68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724280"/>
            <a:ext cx="7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9600" y="19810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803-962F-4B41-8BFC-CB21516DC3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ven</cp:lastModifiedBy>
  <dcterms:modified xsi:type="dcterms:W3CDTF">2011-04-19T10:01:3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