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213-0BB8-4508-9BAB-E6F3022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A02-3377-479E-899C-678F93C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617-2FFB-4B6D-B102-9A278F96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98A-EDEE-4EC6-B9DC-929FA505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6E35-F7C6-41A9-ABD9-0F29540D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151E-FD41-4A3F-8124-22F83128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0551-F711-4076-9D77-4387F5C1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9C4D-6EEF-4F6B-B407-5C4ECCB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6D2F-BFEA-436A-822A-7B069DD0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96C-C4E8-4130-A136-3A8B61B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6EA1-3CF4-4BFB-82C5-7D9CD60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1C0-1E9F-4FAA-8CCB-56C89DDC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546-D3DB-4615-BD84-F340F91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8E36-D5E5-4281-B99B-4414E93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64CB-2C2E-4E76-B84A-397C59A7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4401-DB48-49C2-AF23-508E1C7D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0525-3EE1-4094-87E7-ABD4713A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1D0-C90A-4153-A6E9-C1F0CD20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E14-2DEC-4EC9-84E6-4AB1737B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03E-00FE-4DEA-A854-67A9E26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058-0EB9-4BA4-AD4B-3F239FE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9FC-98F2-4015-94F7-3A7D568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AEC-F63A-44CF-8B3F-5B8DDD0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6A3-2BA7-4B81-8C57-801999C9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0F3-D799-47D7-AFDC-063C3A143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0F6-725A-44BD-8905-865E627DF8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</a:t>
            </a:r>
            <a:br>
              <a:rPr sz="24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Творческий проект «Декоративная рамка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17600" y="3860280"/>
            <a:ext cx="42260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DSC04570"/>
          <p:cNvPicPr/>
          <p:nvPr/>
        </p:nvPicPr>
        <p:blipFill>
          <a:blip r:embed="rId1"/>
          <a:stretch/>
        </p:blipFill>
        <p:spPr>
          <a:xfrm>
            <a:off x="2627280" y="1844640"/>
            <a:ext cx="34545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формление в паспар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1904760"/>
            <a:ext cx="405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парту дает небходимый картине «воздух» и помогает решать декоративные задачи во время художественного оформ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того, паспарту защищает бумагу, на которой сделан рисунок, от вредных веществ, содержащихся в воздух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готавливается паспарту как правило из листа бумаги или картона, в которых вырезается «окн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7" descr="ddd"/>
          <p:cNvPicPr/>
          <p:nvPr/>
        </p:nvPicPr>
        <p:blipFill>
          <a:blip r:embed="rId1"/>
          <a:stretch/>
        </p:blipFill>
        <p:spPr>
          <a:xfrm>
            <a:off x="684360" y="1882800"/>
            <a:ext cx="38876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Что такое паспарту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и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где его применяю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парту — это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н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ун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вю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тограф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ли специальны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с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наклейки их; в книгах, журналах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отной бумаг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а который наклеивается иллюстрац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тавляет собо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ежду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м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ображени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блегчая восприятие произведения и усиливая эстетическое воздейств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ериментируя с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ве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ктур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парт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ожно создать объемный эффект, зрительно уменьшить или увеличить части изображения, подчеркнуть теплые или холодные тона, направление линий, фактуру изображенных объектов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в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кту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парт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огут изменить восприятие работы в цел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готавливаетс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парт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з лист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умаг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в форме листа покрытого с двух сторон слоями бумаги (лицевая сторона покрывается цветным сло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ff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ернисаж дизайнерских идей изготовления и декорирования рамо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аспарту из ватма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532038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стек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4" descr="1d573a85a3a7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макаронных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издел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4" descr="5"/>
          <p:cNvPicPr/>
          <p:nvPr/>
        </p:nvPicPr>
        <p:blipFill>
          <a:blip r:embed="rId1"/>
          <a:stretch/>
        </p:blipFill>
        <p:spPr>
          <a:xfrm>
            <a:off x="209520" y="1557360"/>
            <a:ext cx="872496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4" descr="9"/>
          <p:cNvPicPr/>
          <p:nvPr/>
        </p:nvPicPr>
        <p:blipFill>
          <a:blip r:embed="rId1"/>
          <a:stretch/>
        </p:blipFill>
        <p:spPr>
          <a:xfrm>
            <a:off x="209520" y="101520"/>
            <a:ext cx="872496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бумажных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трубоч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r7140_large"/>
          <p:cNvPicPr/>
          <p:nvPr/>
        </p:nvPicPr>
        <p:blipFill>
          <a:blip r:embed="rId1"/>
          <a:stretch/>
        </p:blipFill>
        <p:spPr>
          <a:xfrm>
            <a:off x="539640" y="1557360"/>
            <a:ext cx="828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дере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дере"/>
          <p:cNvPicPr/>
          <p:nvPr/>
        </p:nvPicPr>
        <p:blipFill>
          <a:blip r:embed="rId1"/>
          <a:stretch/>
        </p:blipFill>
        <p:spPr>
          <a:xfrm>
            <a:off x="1116000" y="1125360"/>
            <a:ext cx="5616720" cy="331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дер"/>
          <p:cNvPicPr/>
          <p:nvPr/>
        </p:nvPicPr>
        <p:blipFill>
          <a:blip r:embed="rId2"/>
          <a:stretch/>
        </p:blipFill>
        <p:spPr>
          <a:xfrm>
            <a:off x="468360" y="4221000"/>
            <a:ext cx="4103640" cy="263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дерево"/>
          <p:cNvPicPr/>
          <p:nvPr/>
        </p:nvPicPr>
        <p:blipFill>
          <a:blip r:embed="rId3"/>
          <a:stretch/>
        </p:blipFill>
        <p:spPr>
          <a:xfrm>
            <a:off x="5508720" y="3429000"/>
            <a:ext cx="363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9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ревянные рам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4" descr="32764373_wwwwww"/>
          <p:cNvPicPr/>
          <p:nvPr/>
        </p:nvPicPr>
        <p:blipFill>
          <a:blip r:embed="rId1"/>
          <a:stretch/>
        </p:blipFill>
        <p:spPr>
          <a:xfrm>
            <a:off x="324000" y="1268280"/>
            <a:ext cx="88200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8512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Цель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оздать оригинальное оформление для моих работ и сделать подарок родителям к празднику Великой Пасхи!</a:t>
            </a:r>
            <a:br>
              <a:rPr sz="24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3772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сть изготовления данного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ум затрат на приобретение материа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ответствие уровню моего мастерства выполнению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иться оригинальности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ство и безопасность эксплуатации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4" descr="ram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1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_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бума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бумага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ramka-250x203"/>
          <p:cNvPicPr/>
          <p:nvPr/>
        </p:nvPicPr>
        <p:blipFill>
          <a:blip r:embed="rId1"/>
          <a:stretch/>
        </p:blipFill>
        <p:spPr>
          <a:xfrm>
            <a:off x="395280" y="271440"/>
            <a:ext cx="849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gallery_58_69_142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короб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4" descr="ramka_m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природного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материа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пробки"/>
          <p:cNvPicPr/>
          <p:nvPr/>
        </p:nvPicPr>
        <p:blipFill>
          <a:blip r:embed="rId1"/>
          <a:stretch/>
        </p:blipFill>
        <p:spPr>
          <a:xfrm>
            <a:off x="4376880" y="3270240"/>
            <a:ext cx="392040" cy="31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пробки"/>
          <p:cNvPicPr/>
          <p:nvPr/>
        </p:nvPicPr>
        <p:blipFill>
          <a:blip r:embed="rId2"/>
          <a:stretch/>
        </p:blipFill>
        <p:spPr>
          <a:xfrm>
            <a:off x="250920" y="1773360"/>
            <a:ext cx="432108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ракушки"/>
          <p:cNvPicPr/>
          <p:nvPr/>
        </p:nvPicPr>
        <p:blipFill>
          <a:blip r:embed="rId3"/>
          <a:stretch/>
        </p:blipFill>
        <p:spPr>
          <a:xfrm>
            <a:off x="4535640" y="3068640"/>
            <a:ext cx="46083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потолочного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плинту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4" descr="wall-decor-frames1"/>
          <p:cNvPicPr/>
          <p:nvPr/>
        </p:nvPicPr>
        <p:blipFill>
          <a:blip r:embed="rId1"/>
          <a:stretch/>
        </p:blipFill>
        <p:spPr>
          <a:xfrm>
            <a:off x="250920" y="1700280"/>
            <a:ext cx="8569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91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амки – от простого к сложному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50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м известно, что рама придает композиции законченный и гармоничный вид. При этом, она может быть совершенно разной по текстуре и используемому материалу: алюминиевой, пластиковой, деревянной и т. д. Рамки используются нами весьма разнообразно: для обрамления зеркал, картин, панно, фотограф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ревянные рам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wall-decor-frames4"/>
          <p:cNvPicPr/>
          <p:nvPr/>
        </p:nvPicPr>
        <p:blipFill>
          <a:blip r:embed="rId1"/>
          <a:stretch/>
        </p:blipFill>
        <p:spPr>
          <a:xfrm>
            <a:off x="468360" y="1268280"/>
            <a:ext cx="835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журные рам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wall-decor-frames13"/>
          <p:cNvPicPr/>
          <p:nvPr/>
        </p:nvPicPr>
        <p:blipFill>
          <a:blip r:embed="rId1"/>
          <a:stretch/>
        </p:blipFill>
        <p:spPr>
          <a:xfrm>
            <a:off x="539640" y="1312920"/>
            <a:ext cx="8353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мки из тк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6" name="Picture 4" descr="текстиль"/>
          <p:cNvPicPr/>
          <p:nvPr/>
        </p:nvPicPr>
        <p:blipFill>
          <a:blip r:embed="rId1"/>
          <a:stretch/>
        </p:blipFill>
        <p:spPr>
          <a:xfrm>
            <a:off x="539640" y="126828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loskutnaja_ramka_12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SL270079"/>
          <p:cNvPicPr/>
          <p:nvPr/>
        </p:nvPicPr>
        <p:blipFill>
          <a:blip r:embed="rId1"/>
          <a:stretch/>
        </p:blipFill>
        <p:spPr>
          <a:xfrm>
            <a:off x="4491000" y="1125360"/>
            <a:ext cx="4653000" cy="388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SL270072"/>
          <p:cNvPicPr/>
          <p:nvPr/>
        </p:nvPicPr>
        <p:blipFill>
          <a:blip r:embed="rId2"/>
          <a:stretch/>
        </p:blipFill>
        <p:spPr>
          <a:xfrm>
            <a:off x="250920" y="333360"/>
            <a:ext cx="4425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Технологическая последовательность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         декорирования рамок тканью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080" y="1341360"/>
            <a:ext cx="8521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ы и инструме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картон, ткань х/б, клей ПВА, вода, нитка х/б, иголка, ножницы, канцелярский но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езать из картона рамк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кроить из ткани полоски                    (по ширине - две ширины рамки + 1-3см,     по длине – 1,5-2 длины рамк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чить полоску ткани в растворе (ПВА+вода) и хорошо отжа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66800" y="549000"/>
            <a:ext cx="8053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ернуть стороны рамки тканью и сшить швом «вперед иголкой», стягивая нить и оформляя сбор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жить рамку на горизонтальную поверхность для полного высыхания ткани (24час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корирование поверхности рамки можно выполнять любыми красками      ( гуашью, акриловыми, аэрозольными и т.п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SC04570"/>
          <p:cNvPicPr/>
          <p:nvPr/>
        </p:nvPicPr>
        <p:blipFill>
          <a:blip r:embed="rId1"/>
          <a:stretch/>
        </p:blipFill>
        <p:spPr>
          <a:xfrm>
            <a:off x="2070000" y="333360"/>
            <a:ext cx="44816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нтроль кач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748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товое изделие отвечает следующим требован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гиенически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изделие выполнено из экологически чистых материалов, не    выделяющих вредные вещества, а значит безопас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луатационным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мка может быть использована, не только для фотографий, но и для оформления вышивки, рисунка и многих других моих работ. Не требует особого ухода (только протирать пы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ческим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мка выполнена аккуратно, цветовая гамма соответствует интерьеру маминой комн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ческим – 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имальные расходы, так как в работе использованы     имеющиеся дома материа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Экологическое обоснова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ребность использовать отходы становится с каждым годом все более актуальной. И это связано не только с экономией ресурсов. Сегодня загрязнение окружающей среды бытовыми отходами стало глобальным. Ученые считают: чтобы уменьшить образование отходов, нужно изменить образ жизни человека, а производство сделать, по возможности, безотход­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е изделие выполнено в основном из старых вещей, которые я не выбросила в мусор, а использовала в работе, поэтому оно не повлияет на загрязнение окружающей среды, и. подлежит последующей утилизации, а следовательно его можно считать экологически чистым!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ет, по крайней мере, десяток способов, как самим изготовить в домашних условиях декоративные рамки. И для этого вовсе не обязательно иметь домашнюю столярную мастерскую и владеть приемами обработки дерева. Хотя и желательн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у вас есть картон, декоративная бумага или ватман, ножницы и клей — этого уже достаточно, чтобы изготовить симпатичную и удобную рамку-паспарт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24000" y="87840"/>
            <a:ext cx="8424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"/>
              </a:rPr>
              <a:t>Экономическое обоснован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бестоимость:  С=С1+С2+А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 как мы не приобретали оборудо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лишь его использовали, то мы взяли амортизационные отчисления (Ао) состав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о = Со*0,05% = 72*0,05% =0,04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бестоимость издел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= С1+С2+Ао = 58,15+ 57,88+ 0,04 =116 руб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произведенных расчетов можно сделать вывод, что данное изделие имеет более низкую себестоимость, чем аналогичное,купленное в магазине, а значит экономически выгодно выполнять такие элементы декора  сами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8880" y="-360"/>
            <a:ext cx="838512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еклам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3267360" cy="2781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68360" y="3667320"/>
            <a:ext cx="84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ечно, искусственные цветы не могут заменить живые, но увы, – живые цветы так недолговечны, и к тому же дороги. Поэтому простые и одновременно яркие букеты, составленные из искусственных цветов, нарисованные – способны украсить унылые интерьеры общественных мест или создать яркое декоративное пятно в комнате. Изысканное искусство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корировани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– в принципе доступно каждому, кто имеет вкус, фантазию и жел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ПРОБУЙТ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 ВАС ВСЕ ПОЛУЧИТ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DSC04570"/>
          <p:cNvPicPr/>
          <p:nvPr/>
        </p:nvPicPr>
        <p:blipFill>
          <a:blip r:embed="rId2"/>
          <a:stretch/>
        </p:blipFill>
        <p:spPr>
          <a:xfrm>
            <a:off x="5867280" y="333360"/>
            <a:ext cx="26845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оценка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455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читаю, что со всеми задачами я справилась, благодаря знаниям и умениям, полученным  на уроках техноло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воплотила в жизнь интересную идею создания прекрасной многофункциональной рамки- прекрасного подарка моим родителям к празднику Великой Пасх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получила огромное удовольствие от проделанной работы и надеюсь,что моим родителям понравится мой подарок и  у всех будет прекрасное настрое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х успехов!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С праздником Ва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6" name="Picture 7" descr="i[9]"/>
          <p:cNvPicPr/>
          <p:nvPr/>
        </p:nvPicPr>
        <p:blipFill>
          <a:blip r:embed="rId1"/>
          <a:stretch/>
        </p:blipFill>
        <p:spPr>
          <a:xfrm>
            <a:off x="971640" y="1773360"/>
            <a:ext cx="720072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он редко имеет красивую поверхность; поэтому лицевую сторону вырезанной рамки надо оклеить декоративной бумагой. Для этого годится цветная гладкая или бархатная бумага (например, из наборов для школьных уроков труда). Но больше подойдет тисненая декоративная бумага, а также мраморная бумага для переплетных раб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роша и самоклеящаяся бумага «Контакт», но она у нас пока редк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доступна обычная ватманская бумага для черчения — белоснежная рамка из нее выглядит изящно и аккурат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конец, картон можно оклеить даже красивой тканью — например, блестящим атласом или тканью с люрексом. Для некоторых сюжетов уместны рамки, отделанные однотонным сатином и даже ситчиком с мелким рисунк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брамление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объемных предме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гет позволяет оформить сувениры, семейные реликвии и другие, даже необычные предметы, которыми мы гордимся. Сочетание фотографий с памятными предметами делает багетную раму очень эффект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902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брамление зерка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гет любого стиля – классического или HiTech, пластиковый, алюминиевый или деревянный – гарантия точного интерьерного решения для Вашего офиса или кварти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sss"/>
          <p:cNvPicPr/>
          <p:nvPr/>
        </p:nvPicPr>
        <p:blipFill>
          <a:blip r:embed="rId1"/>
          <a:stretch/>
        </p:blipFill>
        <p:spPr>
          <a:xfrm>
            <a:off x="826920" y="2025720"/>
            <a:ext cx="410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брамление карт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84360" y="1268280"/>
            <a:ext cx="45608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мление картин является очень давней традицией. Обрамлять различные изделия начали еще в Древнем Египте, а в Риме в эпоху Возрождение обрамление картин багетом получило статус самостоятельного ремесла. В то время мастер изготавливал багет для каждой картины что называется «с нуля» и поэтому багет можно было рассматривать как отдельное произведение искусства. Но и в наше время багет не утратил своей значим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qqq1"/>
          <p:cNvPicPr/>
          <p:nvPr/>
        </p:nvPicPr>
        <p:blipFill>
          <a:blip r:embed="rId1"/>
          <a:stretch/>
        </p:blipFill>
        <p:spPr>
          <a:xfrm>
            <a:off x="395280" y="1628640"/>
            <a:ext cx="3960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851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Обрамление гобелена, батика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11640" y="1844280"/>
            <a:ext cx="46339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особой деликатностью необходимо подойти к оформлению батика и гобеленов. При оформлении батика в багет, как и при оформлении гобеленов, вышивок и картин существуют свои тонкости. В зависимости от размера необходимо проводить  натяжку батика на подрамник или накатку на пенокарт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ppp2"/>
          <p:cNvPicPr/>
          <p:nvPr/>
        </p:nvPicPr>
        <p:blipFill>
          <a:blip r:embed="rId1"/>
          <a:stretch/>
        </p:blipFill>
        <p:spPr>
          <a:xfrm>
            <a:off x="539640" y="2060640"/>
            <a:ext cx="3708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30:08Z</dcterms:created>
  <dc:creator>User</dc:creator>
  <dc:description/>
  <dc:language>en-US</dc:language>
  <cp:lastModifiedBy>Trudovik45</cp:lastModifiedBy>
  <dcterms:modified xsi:type="dcterms:W3CDTF">2012-05-11T12:31:31Z</dcterms:modified>
  <cp:revision>11</cp:revision>
  <dc:subject/>
  <dc:title>Слайд 1</dc:title>
</cp:coreProperties>
</file>