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4B85C-BDBF-4E5A-AA3C-5AB71E7F2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6951D-D43D-4294-9D4C-87D0F2B00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41B76-1B82-40E4-B84D-5A02BB394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E583F-7045-4670-A85F-8E2BC51F7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55CF3-6D55-4BEB-8850-04AE75FAB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82E32-097B-4172-9CAC-E7BD21A1E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40D63-4242-4134-9B3D-230C4C72B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3BBEB-E140-4A64-8044-1E5F0CC25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AF057-9A78-48AF-A5FD-C393DD93F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6D7D7-DD42-4A35-B88D-6602C0205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0AF70-B15D-4D6E-9284-4AD3AE360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0DAEE-78F5-4F7C-8C0B-0B4F795B4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DB918-EE3D-4873-8C1B-366430671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1526F-D055-4C53-89B7-08EDB2FAF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8B53A-6476-4F95-8036-B4FAC6161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CEF98-5A56-44CE-A18E-6346C5E8C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48DF0-E2D8-4E0B-BB03-9D2A5C3EF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EB04C-F93E-44DD-8E17-219886E46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6F626-5F33-4EA5-834F-ABEF41A54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14707-D65A-4833-AE50-FAC760C2E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8F47D-F571-4962-A0D6-651F8DC69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19C0B-EBC5-4567-931B-332EE4E5E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75B35-4ADD-477D-A154-BC0FF3D67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D335C-154F-4D17-ACDC-AE85364DE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DB843-C0AE-43AC-A0BA-B606B6EC9C3D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F536A-E2A0-4ECA-938A-4B7060A4742C}" type="slidenum">
              <a:rPr b="0" lang="ru-RU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-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МОУ «Октябрьский межшкольный учебный комбинат</a:t>
            </a:r>
            <a:br>
              <a:rPr sz="2400"/>
            </a:b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Белгородского района Белгородской области»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сследовательская работ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ыявление профессиональных наклонностей учащихся путём реализации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личностно-ориентированного подход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Выполнила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indent="0" algn="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Методист Рудь О.Е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indent="0" algn="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indent="0" algn="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пгт. Октябрьский, 2011 г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-9475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09480" y="-360"/>
            <a:ext cx="8345520" cy="613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5.  Некоторые профессии, например, относящиеся к искусству, требуют особых способностей и одаренности. Не забывайте, что профессия, не соответствующая умениям и способностям вашего ребёнка, сделает его несчастным и неудачливым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6.  Никогда не сравнивайте своих детей с другими. Как известно, люди отличаются друг от друга по своим личностным качествам, также как ростом, цветом глаз. Не могут быть одинаковыми и их успехи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7. Ссоры и разногласия между родителями могут отрицательно повлиять на  психику ребёнка и мировоззрение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8.     Не следует оказывать на него давление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494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600"/>
            </a:br>
            <a:br>
              <a:rPr sz="9600"/>
            </a:br>
            <a:br>
              <a:rPr sz="9600"/>
            </a:br>
            <a:br>
              <a:rPr sz="9600"/>
            </a:br>
            <a:r>
              <a:rPr b="0" lang="ru-RU" sz="9600" spc="-1" strike="noStrike">
                <a:solidFill>
                  <a:srgbClr val="000066"/>
                </a:solidFill>
                <a:latin typeface="Times New Roman"/>
              </a:rPr>
              <a:t>Спасибо </a:t>
            </a:r>
            <a:br>
              <a:rPr sz="9600"/>
            </a:br>
            <a:r>
              <a:rPr b="0" lang="ru-RU" sz="9600" spc="-1" strike="noStrike">
                <a:solidFill>
                  <a:srgbClr val="000066"/>
                </a:solidFill>
                <a:latin typeface="Times New Roman"/>
              </a:rPr>
              <a:t>за </a:t>
            </a:r>
            <a:br>
              <a:rPr sz="9600"/>
            </a:br>
            <a:r>
              <a:rPr b="0" lang="ru-RU" sz="9600" spc="-1" strike="noStrike">
                <a:solidFill>
                  <a:srgbClr val="000066"/>
                </a:solidFill>
                <a:latin typeface="Times New Roman"/>
              </a:rPr>
              <a:t>внимание!</a:t>
            </a:r>
            <a:endParaRPr b="0" lang="en-US" sz="9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75438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28600"/>
            <a:ext cx="779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66"/>
                </a:solidFill>
                <a:latin typeface="Times New Roman"/>
              </a:rPr>
              <a:t>Цели и задачи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-360" y="1980720"/>
            <a:ext cx="8915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Цель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ыявить профессиональные наклонности обучающихся с помощью  личностно-ориентированного подхода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Задачи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. Провести теоретический анализ педагогической, методической литературы по проблеме профессиональной ориентации школьников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. Провести теоретический анализ педагогической, методической литературы по проблеме личностно-ориентированного подхода в обучении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3.  Провести тестирование обучающихся на определение конкретных наклонностей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4.     Дать советы и рекомендации родителям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21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456840"/>
            <a:ext cx="7772400" cy="56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Times New Roman"/>
              </a:rPr>
              <a:t>Готовность к профессиональному выбору (знание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нтересов                                 Склонностей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пособностей                   Индивидуальных          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особенностей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Личностных свойств и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ачеств личност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2285640" y="1447920"/>
            <a:ext cx="2438280" cy="7617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334120" y="1447920"/>
            <a:ext cx="1600200" cy="838080"/>
          </a:xfrm>
          <a:prstGeom prst="line">
            <a:avLst/>
          </a:prstGeom>
          <a:ln w="28440">
            <a:solidFill>
              <a:srgbClr val="ffcf0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2895480" y="1676520"/>
            <a:ext cx="1905120" cy="1752480"/>
          </a:xfrm>
          <a:prstGeom prst="line">
            <a:avLst/>
          </a:prstGeom>
          <a:ln w="28440">
            <a:solidFill>
              <a:srgbClr val="ffcf0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029200" y="1752480"/>
            <a:ext cx="1219320" cy="16002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876920" y="2438280"/>
            <a:ext cx="0" cy="25909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66"/>
                </a:solidFill>
                <a:latin typeface="Times New Roman"/>
              </a:rPr>
              <a:t>Экспериментальная группа детей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есёлолопанская СОШ (16 уч.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ктябрьская СОШ (28 уч.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Щетиновская СОШ (4 уч.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Яснозоренская СОШ (9 уч.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ушкарская СОШ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1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уч.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трелецкая СОШ (3 уч.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сего – 71 человек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66"/>
                </a:solidFill>
                <a:latin typeface="Times New Roman"/>
              </a:rPr>
              <a:t>Личностно-ориентированный подход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28600" y="2017440"/>
            <a:ext cx="87264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и данном подходе происходит не только обучение, но  и развитие личности,  а также подчеркивается      необходимость      учёта индивидуальных       способностей.       Для личностно - ориентированного   подхода    в современной    системе     обучения    более существенной   является  ориентация как  на процесс обучения,  так  и  на конечные цели (главным ставится вопрос “каким быть”, а не “кем быть”)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66"/>
                </a:solidFill>
                <a:latin typeface="Times New Roman"/>
              </a:rPr>
              <a:t>Основа личностно-ориентированного подхода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"/>
          <p:cNvSpPr/>
          <p:nvPr/>
        </p:nvSpPr>
        <p:spPr>
          <a:xfrm>
            <a:off x="2286000" y="2133720"/>
            <a:ext cx="5410080" cy="761760"/>
          </a:xfrm>
          <a:prstGeom prst="flowChartAlternateProcess">
            <a:avLst/>
          </a:prstGeom>
          <a:solidFill>
            <a:srgbClr val="ffe781"/>
          </a:solidFill>
          <a:ln w="9360">
            <a:solidFill>
              <a:srgbClr val="ffcf01"/>
            </a:solidFill>
            <a:miter/>
          </a:ln>
          <a:effectLst>
            <a:outerShdw dist="107932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Индивидуаль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286000" y="3352680"/>
            <a:ext cx="5486400" cy="838440"/>
          </a:xfrm>
          <a:prstGeom prst="flowChartAlternateProcess">
            <a:avLst/>
          </a:prstGeom>
          <a:solidFill>
            <a:srgbClr val="ffe78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Самобыт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286000" y="4724280"/>
            <a:ext cx="5562720" cy="762120"/>
          </a:xfrm>
          <a:prstGeom prst="flowChartAlternateProcess">
            <a:avLst/>
          </a:prstGeom>
          <a:solidFill>
            <a:srgbClr val="ffe78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Самоцен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-609480"/>
            <a:ext cx="77929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Times New Roman"/>
              </a:rPr>
              <a:t>Интерес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52280" y="228600"/>
            <a:ext cx="880272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1" lang="ru-RU" sz="2600" spc="-1" strike="noStrike">
                <a:solidFill>
                  <a:srgbClr val="ff0000"/>
                </a:solidFill>
                <a:latin typeface="Times New Roman"/>
              </a:rPr>
              <a:t>По содержанию: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0000"/>
                </a:solidFill>
                <a:latin typeface="Times New Roman"/>
              </a:rPr>
              <a:t>                          </a:t>
            </a:r>
            <a:r>
              <a:rPr b="1" lang="ru-RU" sz="2600" spc="-1" strike="noStrike">
                <a:solidFill>
                  <a:srgbClr val="ff0000"/>
                </a:solidFill>
                <a:latin typeface="Times New Roman"/>
              </a:rPr>
              <a:t>музыкальные, технические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2600" spc="-1" strike="noStrike">
                <a:solidFill>
                  <a:srgbClr val="ff0000"/>
                </a:solidFill>
                <a:latin typeface="Times New Roman"/>
              </a:rPr>
              <a:t>По широте:                                                 По длительности: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0000"/>
                </a:solidFill>
                <a:latin typeface="Times New Roman"/>
              </a:rPr>
              <a:t>разносторонние,                                             устойчивые,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1" lang="ru-RU" sz="2600" spc="-1" strike="noStrike">
                <a:solidFill>
                  <a:srgbClr val="ff0000"/>
                </a:solidFill>
                <a:latin typeface="Times New Roman"/>
              </a:rPr>
              <a:t>узкие                                                          не устойчивые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1" lang="ru-RU" sz="2600" spc="-1" strike="noStrike">
                <a:solidFill>
                  <a:srgbClr val="ff0000"/>
                </a:solidFill>
                <a:latin typeface="Times New Roman"/>
              </a:rPr>
              <a:t>По предметной направленности: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0000"/>
                </a:solidFill>
                <a:latin typeface="Times New Roman"/>
              </a:rPr>
              <a:t>                           </a:t>
            </a:r>
            <a:r>
              <a:rPr b="1" lang="ru-RU" sz="2600" spc="-1" strike="noStrike">
                <a:solidFill>
                  <a:srgbClr val="ff0000"/>
                </a:solidFill>
                <a:latin typeface="Times New Roman"/>
              </a:rPr>
              <a:t>технические, гуманитарные,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0000"/>
                </a:solidFill>
                <a:latin typeface="Times New Roman"/>
              </a:rPr>
              <a:t>                                    </a:t>
            </a:r>
            <a:r>
              <a:rPr b="1" lang="ru-RU" sz="2600" spc="-1" strike="noStrike">
                <a:solidFill>
                  <a:srgbClr val="ff0000"/>
                </a:solidFill>
                <a:latin typeface="Times New Roman"/>
              </a:rPr>
              <a:t>художественные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2819520" y="1981080"/>
            <a:ext cx="3200400" cy="2362320"/>
          </a:xfrm>
          <a:custGeom>
            <a:avLst/>
            <a:gdLst>
              <a:gd name="textAreaLeft" fmla="*/ 799920 w 3200400"/>
              <a:gd name="textAreaRight" fmla="*/ 2400480 w 3200400"/>
              <a:gd name="textAreaTop" fmla="*/ 590400 h 2362320"/>
              <a:gd name="textAreaBottom" fmla="*/ 1771920 h 236232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5850" y="2700"/>
                </a:lnTo>
                <a:lnTo>
                  <a:pt x="10800" y="0"/>
                </a:lnTo>
                <a:lnTo>
                  <a:pt x="1575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5850"/>
                </a:lnTo>
                <a:lnTo>
                  <a:pt x="21600" y="10800"/>
                </a:lnTo>
                <a:lnTo>
                  <a:pt x="18900" y="1575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5750" y="18900"/>
                </a:lnTo>
                <a:lnTo>
                  <a:pt x="10800" y="21600"/>
                </a:lnTo>
                <a:lnTo>
                  <a:pt x="585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5750"/>
                </a:lnTo>
                <a:lnTo>
                  <a:pt x="0" y="10800"/>
                </a:lnTo>
                <a:lnTo>
                  <a:pt x="2700" y="585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e4a8"/>
            </a:solidFill>
            <a:miter/>
          </a:ln>
          <a:effectLst>
            <a:outerShdw dist="107932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cf01"/>
                </a:solidFill>
                <a:latin typeface="Times New Roman"/>
              </a:rPr>
              <a:t>Интере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-87120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0" y="-768240"/>
          <a:ext cx="9112320" cy="7016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-768240"/>
                    <a:ext cx="9112320" cy="701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66"/>
                </a:solidFill>
                <a:latin typeface="Times New Roman"/>
              </a:rPr>
              <a:t>Советы и рекомендации родителям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-360" y="2017440"/>
            <a:ext cx="89550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зучите вместе с вашим ребёнком профессиональную востребованность в нашем регионе. 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.    Имейте информацию об учебных заведениях нашего региона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3.  Важны интересы и способности вашего ребенка. Вы можете помогать ему советами, правильно направить его. Но ни в коем случае не оставлять последнее слово за собой, пусть этот выбор останется за вашим ребенком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4.  Помните! Некоторые родители заставляют идти детей к тем идеалам, которых придерживаются сами. Убеждения типа «у меня не получилось, зато получиться у него» неверно, так как у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ашего ребенка могут быть другие идеалы и, выбрав предложенную вами профессию, он может быть несчастен всю жизнь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14T13:20:59Z</dcterms:created>
  <dc:creator>UserXP</dc:creator>
  <dc:description/>
  <dc:language>en-US</dc:language>
  <cp:lastModifiedBy>UserXP</cp:lastModifiedBy>
  <dcterms:modified xsi:type="dcterms:W3CDTF">2011-08-28T16:07:53Z</dcterms:modified>
  <cp:revision>25</cp:revision>
  <dc:subject/>
  <dc:title>МОУ «Октябрьский межшкольный учебный комбинат Белгородского района Белгородской области»</dc:title>
</cp:coreProperties>
</file>