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841-F1AB-4912-8CEA-859E066C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8C5-0452-44DB-BE9C-C8D4F29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4D3-92DC-4F98-A813-0BC7DEC0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70E-5551-4930-87AA-6D9DA86A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2DF6-6889-4D38-A078-AA2C9269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7E9-1FB9-4BBF-8419-896C079E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2CCD-FB0C-43CE-8B2E-F88CCA3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E00F-7972-4B48-AEC0-C8E87694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FAB-29AB-46AC-9652-C36BBCF3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E3F8-3565-4CBC-84D4-4373D1E7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2CF8-EA5B-4EAC-A791-2E9A177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6D6-AC36-4A64-9842-FE24DB3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9DEE-1C66-4C46-BAE1-CE7FA9E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4B52-76A2-4C16-9C6C-E7B0AEA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B7D6-3761-4C6D-B809-8D4481B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6001-9EAD-4B2F-BA92-6DA59A68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2A8-1BE9-4833-BF60-A76ED17F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519-0F50-4601-AB85-5DD31CB0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970-E3F2-4C76-80EF-37C66CC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67C-A2B7-44DB-93AD-F10E893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AB6-0921-4437-A026-BA5D8146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085-BE82-48EF-9458-DD4DB34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CAD-35EB-4F6F-900C-9AB2094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6E6-1950-4FB9-8D1B-758B0C0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DB3-C995-4402-A1C3-08E30F13E50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CA5B-C84E-44B2-99CD-894989C49B4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1279000">
            <a:off x="971640" y="1988640"/>
            <a:ext cx="72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менты для строг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724000" y="5013360"/>
            <a:ext cx="324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ченик 6 в кла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гаханов Мура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1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5400" y="4508280"/>
            <a:ext cx="822636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У СОШ №45 г. Белго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лектрический руб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уг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зы и греб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Шлифти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нзуб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лектрический руба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ринцип действия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Основная деталь любого электрического рубанка - вращающийся барабан с закрепленными на нем ножами. А так как древесина по своей природе имеет неоднородную структуру, то для того чтобы обрабатываемая поверхность получалась гладкой, электромотор, вращающий барабан, должен быть достаточно мощным (от 580 до 900 Вт) и иметь скорость более 10 000 оборотов в мину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Вращательное движение от электромотора к барабану передается с помощью зубчатого приводного ремня, а поскольку время от времени он изнашивается и требует замены, его располагают под боковым съемным кожухом. Другой съемный кожух над мотором открывает доступ к угольным электрическим щеткам. Плавное увеличение скорости вращения при включении и электронное поддержание постоянной скорости вращения практически полностью исключают перегрузку электромото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772000" cy="219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2016360" cy="16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3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3640" cy="1920960"/>
          </a:xfrm>
          <a:prstGeom prst="rect">
            <a:avLst/>
          </a:prstGeom>
          <a:solidFill>
            <a:srgbClr val="6b6b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Руб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55164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16000" cy="243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592720" cy="1785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7640" y="415908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23000"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70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Фуган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17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188040" y="260280"/>
            <a:ext cx="2470320" cy="345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2492280"/>
            <a:ext cx="518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Arial"/>
              </a:rPr>
              <a:t>Фуга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лужит для окончательной обработки древесины. Его используют тогда, когда возникает необходимость выровнять поверхность большого размера, чего нельзя сделать, прибегнув к рассмотренным выше разновидностям рубанков. Такое его свойство вызвано тем, что он имеет в длину около 70 см, то есть примерно в три раза длиннее обычного рубанка. Длина ножа фуганка составляет 200 мм, ширина — 65 м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Более короткие заготовки древесины фугуют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олуфуганко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имеющим более короткий корпус. У фуганка и полуфуганка в передней части сверху корпуса установлена деревянная пробка, по которой ударяют киянкой для выбивания клина с ножом из гнезда. У таких инструментов нож выходит заподошву примерно на 1 мм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2000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Фуг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439720" cy="32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580000" y="4365720"/>
            <a:ext cx="24289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азы и греб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37200"/>
            <a:ext cx="485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азы и гребни на кромках или пластах деталей выбирают с помощью грунтубеля. Этот инструмент особенно хорош для выборки и зачистки трапецевидного паза ('ласточкин хвост'). Желобки на деревянных деталях выбирают при помощи галтели - подошва ее колодки имеет выпуклую форму, а вот калевка с ее многоступенчатой подошвой колодки и сменными ножами различных профилей - это инструмент скорее профессиональный, вряд ли он вам потребуется. Тем более, что украшаемые с помощью калевки различные декоративные рейки обычно широко представлены в продаже - это продукт механического производств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4599000"/>
            <a:ext cx="424800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672000" cy="26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5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8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980"/>
                            </p:stCondLst>
                            <p:childTnLst>
                              <p:par>
                                <p:cTn id="1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980"/>
                            </p:stCondLst>
                            <p:childTnLst>
                              <p:par>
                                <p:cTn id="1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Шлифт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Шлифтик предназначен для зачистки строганных поверхностей на участках с пороками строения древесины. Выглядит он как укороченный рубанок в двойным ножом, установленным круче, чем у обычного рубанка. Им можно снять очень тонкую стружку на поверхности - после склеивания деталей. Используется также для снятия провесов, угловых соединен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33520" cy="192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2000">
    <p:cover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Зензуб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21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Зензубель и его близкий "родственник" фальцгебель имеют ступенчатую подошву колодки. Эти инструменты могут очень понадобиться застройщику в том случае, когда купленные оконные рамы окажутся сделанными коряво, грубо (это случается нередко). В таком случае рамы лучше разобрать, тем более, что они чаще всего не склеены, и полости прострогать, зачистить наждачной бумагой. А вот для обработки четвертей, в которые, собственно, вставляются стекла, и могут потребоваться зензубель или фальцгебель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71640" cy="192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4227480"/>
            <a:ext cx="3467160" cy="241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03220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27640" y="148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4000">
    <p:checke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5:09:21Z</dcterms:created>
  <dc:creator>Агаханов</dc:creator>
  <dc:description/>
  <dc:language>en-US</dc:language>
  <cp:lastModifiedBy>Московченко</cp:lastModifiedBy>
  <dcterms:modified xsi:type="dcterms:W3CDTF">2009-05-09T10:49:05Z</dcterms:modified>
  <cp:revision>15</cp:revision>
  <dc:subject>6 класс</dc:subject>
  <dc:title>Инструменты для строгания.</dc:title>
</cp:coreProperties>
</file>