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A761-71CB-4957-B402-45D0B93E2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7958-4170-4E92-866D-753C1DD23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00ED-FB24-417A-A02A-9D19356CB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7DF1-CDA1-4527-B60C-930CE2762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6067B-DBA9-4175-8D77-89E0B2719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5065C-4BF0-4CE1-B7CF-D7F3010B5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971CB-B634-4A77-A4F1-A26B29A84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5CBEF-0E4A-4215-99DD-9EBE9A0DD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98DD4-41A2-480F-9906-5530DAC8D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70D21-3E95-4CF3-948C-BF0693F27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78187-7263-4A38-B0D2-132033E0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3AE2-FCCD-49A3-9139-E1D6CEBFA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F5A6A-F4CB-44DA-A596-A60A38F9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55D10-F982-4363-9FF6-E05F25D6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6537A-FD66-4309-91BA-5F7D9F5EC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B01BA-F15D-4AC6-9EFA-48C3D51A9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812F5-E243-4CCC-A3EE-C00272CA1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564E-484E-47CB-B1E5-88AC87CB9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70A2-19E8-4B8F-AD66-5E68CCD37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BD7A-1EFA-49CB-BEB3-708B86654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BC38-92B9-4AA4-92D5-620ACB0C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4F13-4D43-4683-9D41-35C45A40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E74E-BBDE-4077-A837-8E600002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B323-1738-4853-9940-E308A26B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77C5B-5DEE-4CC5-BCE6-23C787D075E0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D490B-886C-4BD8-ABFE-7774C57FE265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 rot="21279000">
            <a:off x="971640" y="1988640"/>
            <a:ext cx="7200720" cy="112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4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нструменты для строгани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5724000" y="5013360"/>
            <a:ext cx="324036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Выполнил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ученик 6 в класс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Агаханов Мурад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45 г. Белгород </a:t>
            </a:r>
          </a:p>
        </p:txBody>
      </p:sp>
    </p:spTree>
  </p:cSld>
  <p:transition spd="slow" advTm="11000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55400" y="4508280"/>
            <a:ext cx="8226360" cy="15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МОУ СОШ №45 г. Белгоро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45 г. Белгород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Электрический рубанок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Фуганок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Пазы и гребк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Шлифтик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Зензубель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45 г. Белгород </a:t>
            </a:r>
          </a:p>
        </p:txBody>
      </p:sp>
    </p:spTree>
  </p:cSld>
  <p:transition spd="slow" advTm="7000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5400" y="-360"/>
            <a:ext cx="8226360" cy="14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Электрический рубано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4788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Принцип действия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Основная деталь любого электрического рубанка - вращающийся барабан с закрепленными на нем ножами. А так как древесина по своей природе имеет неоднородную структуру, то для того чтобы обрабатываемая поверхность получалась гладкой, электромотор, вращающий барабан, должен быть достаточно мощным (от 580 до 900 Вт) и иметь скорость более 10 000 оборотов в минуту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Вращательное движение от электромотора к барабану передается с помощью зубчатого приводного ремня, а поскольку время от времени он изнашивается и требует замены, его располагают под боковым съемным кожухом. Другой съемный кожух над мотором открывает доступ к угольным электрическим щеткам. Плавное увеличение скорости вращения при включении и электронное поддержание постоянной скорости вращения практически полностью исключают перегрузку электромотор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6084720" y="4508640"/>
            <a:ext cx="2772000" cy="2192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6588000" y="1341360"/>
            <a:ext cx="2016360" cy="1695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45 г. Белгород </a:t>
            </a:r>
          </a:p>
        </p:txBody>
      </p:sp>
    </p:spTree>
  </p:cSld>
  <p:transition spd="slow" advTm="43000">
    <p:zoom dir="ou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500"/>
                            </p:stCondLst>
                            <p:childTnLst>
                              <p:par>
                                <p:cTn id="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500"/>
                            </p:stCondLst>
                            <p:childTnLst>
                              <p:par>
                                <p:cTn id="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5543640" cy="1920960"/>
          </a:xfrm>
          <a:prstGeom prst="rect">
            <a:avLst/>
          </a:prstGeom>
          <a:solidFill>
            <a:srgbClr val="6b6b99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66"/>
                </a:solidFill>
                <a:latin typeface="Arial"/>
              </a:rPr>
              <a:t>Рубанк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435640" y="4508640"/>
            <a:ext cx="3132000" cy="20844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6551640" y="2276640"/>
            <a:ext cx="2592360" cy="19443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324000" y="4221000"/>
            <a:ext cx="2916000" cy="24321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>
            <a:off x="1908000" y="2133720"/>
            <a:ext cx="2592720" cy="17859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2987640" y="4159080"/>
            <a:ext cx="287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45 г. Белгород </a:t>
            </a:r>
          </a:p>
        </p:txBody>
      </p:sp>
    </p:spTree>
  </p:cSld>
  <p:transition spd="slow" advTm="23000">
    <p:cover dir="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2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700"/>
                            </p:stCondLst>
                            <p:childTnLst>
                              <p:par>
                                <p:cTn id="5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700"/>
                            </p:stCondLst>
                            <p:childTnLst>
                              <p:par>
                                <p:cTn id="6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700"/>
                            </p:stCondLst>
                            <p:childTnLst>
                              <p:par>
                                <p:cTn id="7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77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" dur="770" fill="hold"/>
                                        <p:tgtEl>
                                          <p:spTgt spid="2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0" dur="77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2" dur="77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Фуганок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2160720" cy="2160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580000" y="4221000"/>
            <a:ext cx="3564000" cy="17892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6188040" y="260280"/>
            <a:ext cx="2470320" cy="34560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395280" y="2492280"/>
            <a:ext cx="51847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eaeaea"/>
                </a:solidFill>
                <a:latin typeface="Arial"/>
              </a:rPr>
              <a:t>Фуганок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служит для окончательной обработки древесины. Его используют тогда, когда возникает необходимость выровнять поверхность большого размера, чего нельзя сделать, прибегнув к рассмотренным выше разновидностям рубанков. Такое его свойство вызвано тем, что он имеет в длину около 70 см, то есть примерно в три раза длиннее обычного рубанка. Длина ножа фуганка составляет 200 мм, ширина — 65 мм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Более короткие заготовки древесины фугуют </a:t>
            </a: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полуфуганком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, имеющим более короткий корпус. У фуганка и полуфуганка в передней части сверху корпуса установлена деревянная пробка, по которой ударяют киянкой для выбивания клина с ножом из гнезда. У таких инструментов нож выходит заподошву примерно на 1 мм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45 г. Белгород </a:t>
            </a:r>
          </a:p>
        </p:txBody>
      </p:sp>
    </p:spTree>
  </p:cSld>
  <p:transition spd="slow" advTm="42000">
    <p:newsflash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Фуганк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79280" y="3645000"/>
            <a:ext cx="4176720" cy="2448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5076720" y="1197000"/>
            <a:ext cx="3888000" cy="27558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2439720" cy="32288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5580000" y="4365720"/>
            <a:ext cx="2428920" cy="216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45 г. Белгород </a:t>
            </a: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6000"/>
                            </p:stCondLst>
                            <p:childTnLst>
                              <p:par>
                                <p:cTn id="13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70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7500"/>
                            </p:stCondLst>
                            <p:childTnLst>
                              <p:par>
                                <p:cTn id="14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Arial"/>
              </a:rPr>
              <a:t>Пазы и гребн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1537200"/>
            <a:ext cx="4859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Пазы и гребни на кромках или пластах деталей выбирают с помощью грунтубеля. Этот инструмент особенно хорош для выборки и зачистки трапецевидного паза ('ласточкин хвост'). Желобки на деревянных деталях выбирают при помощи галтели - подошва ее колодки имеет выпуклую форму, а вот калевка с ее многоступенчатой подошвой колодки и сменными ножами различных профилей - это инструмент скорее профессиональный, вряд ли он вам потребуется. Тем более, что украшаемые с помощью калевки различные декоративные рейки обычно широко представлены в продаже - это продукт механического производства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140360" y="4599000"/>
            <a:ext cx="4248000" cy="22590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5292720" y="1268280"/>
            <a:ext cx="3672000" cy="2643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45 г. Белгород </a:t>
            </a:r>
          </a:p>
        </p:txBody>
      </p:sp>
    </p:spTree>
  </p:cSld>
  <p:transition spd="slow" advTm="35000">
    <p:dissolv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4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4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480"/>
                            </p:stCondLst>
                            <p:childTnLst>
                              <p:par>
                                <p:cTn id="17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980"/>
                            </p:stCondLst>
                            <p:childTnLst>
                              <p:par>
                                <p:cTn id="18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980"/>
                            </p:stCondLst>
                            <p:childTnLst>
                              <p:par>
                                <p:cTn id="18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9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2636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Arial"/>
              </a:rPr>
              <a:t>Шлифти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55640" y="3141360"/>
            <a:ext cx="76327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Шлифтик предназначен для зачистки строганных поверхностей на участках с пороками строения древесины. Выглядит он как укороченный рубанок в двойным ножом, установленным круче, чем у обычного рубанка. Им можно снять очень тонкую стружку на поверхности - после склеивания деталей. Используется также для снятия провесов, угловых соединений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333520" cy="19238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250920" y="404640"/>
            <a:ext cx="2857320" cy="2428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45 г. Белгород </a:t>
            </a:r>
          </a:p>
        </p:txBody>
      </p:sp>
    </p:spTree>
  </p:cSld>
  <p:transition spd="slow" advTm="32000">
    <p:cover dir="u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80"/>
                </a:solidFill>
                <a:latin typeface="Arial"/>
              </a:rPr>
              <a:t>Зензубел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-360" y="1699920"/>
            <a:ext cx="42116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Зензубель и его близкий "родственник" фальцгебель имеют ступенчатую подошву колодки. Эти инструменты могут очень понадобиться застройщику в том случае, когда купленные оконные рамы окажутся сделанными коряво, грубо (это случается нередко). В таком случае рамы лучше разобрать, тем более, что они чаще всего не склеены, и полости прострогать, зачистить наждачной бумагой. А вот для обработки четвертей, в которые, собственно, вставляются стекла, и могут потребоваться зензубель или фальцгебель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7020000" y="476280"/>
            <a:ext cx="1871640" cy="1925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5508720" y="4227480"/>
            <a:ext cx="3467160" cy="241632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2032200" cy="12952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>
            <a:off x="4427640" y="1484280"/>
            <a:ext cx="1873080" cy="187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У СОШ №45 г. Белгород </a:t>
            </a:r>
          </a:p>
        </p:txBody>
      </p:sp>
    </p:spTree>
  </p:cSld>
  <p:transition spd="slow" advTm="34000">
    <p:checker dir="vert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500"/>
                            </p:stCondLst>
                            <p:childTnLst>
                              <p:par>
                                <p:cTn id="23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3500"/>
                            </p:stCondLst>
                            <p:childTnLst>
                              <p:par>
                                <p:cTn id="2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4500"/>
                            </p:stCondLst>
                            <p:childTnLst>
                              <p:par>
                                <p:cTn id="2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0"/>
                            </p:stCondLst>
                            <p:childTnLst>
                              <p:par>
                                <p:cTn id="25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5:09:21Z</dcterms:created>
  <dc:creator>Агаханов</dc:creator>
  <dc:description/>
  <dc:language>en-US</dc:language>
  <cp:lastModifiedBy>Московченко</cp:lastModifiedBy>
  <dcterms:modified xsi:type="dcterms:W3CDTF">2009-05-09T10:49:05Z</dcterms:modified>
  <cp:revision>15</cp:revision>
  <dc:subject>6 класс</dc:subject>
  <dc:title>Инструменты для строгания.</dc:title>
</cp:coreProperties>
</file>