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1CF-AEE2-4612-BD02-C2E1702B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FBB-A58D-4C45-B0A5-09F626AB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DCF-A0AD-4B23-9CEB-FEBBE18F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705-CEAC-4895-A179-DF29C5EB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C2A-E6E7-48F0-9339-E0C0635F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918-2EF9-4B87-BC86-EAD6C50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173C-8DB6-4B6D-AA24-40F4DF8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10B-A2A7-4E04-86AF-6168845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3ECB-1B0D-473D-AEEA-1377DADB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157A-DA11-4CAE-98A6-83A83280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ADD-67AE-473C-B02A-C00FAB06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1BD-E2A0-4916-B2A9-CB030D3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45E5-FCBD-4DA5-B347-2BDAC1B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94E-03A9-47C2-92A2-9F89BB1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1934-8198-434D-A4E3-651B4732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59F-39B4-4998-833C-E6E2D4FC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5AEB-BB9E-4EB6-AD5E-22560FA5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E49-8540-4BFD-8454-F87E65EF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EC7-8F8C-496C-A3BB-7809B83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7A5-8A2E-40AF-ADAF-FD9E6B21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93A-BF1E-4104-807F-D63CDBE5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17D-5322-48EB-A5ED-8C85A25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34B-EE45-4626-AEC5-9188571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902-A762-492B-B745-9EAD560B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1B4-F48A-45A0-9E1F-5880AED0930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A339-CAC2-4526-BC3F-25B38EA9DCA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1279000">
            <a:off x="971640" y="1988640"/>
            <a:ext cx="72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ы для строг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724000" y="5013360"/>
            <a:ext cx="324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ченик 6 в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гаханов Мура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1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5400" y="4508280"/>
            <a:ext cx="82263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У СОШ №45 г. Белго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лектрический руб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уг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зы и греб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Шлифти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нзуб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лектрический руба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ринцип действия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Основная деталь любого электрического рубанка - вращающийся барабан с закрепленными на нем ножами. А так как древесина по своей природе имеет неоднородную структуру, то для того чтобы обрабатываемая поверхность получалась гладкой, электромотор, вращающий барабан, должен быть достаточно мощным (от 580 до 900 Вт) и иметь скорость более 10 000 оборотов в мину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Вращательное движение от электромотора к барабану передается с помощью зубчатого приводного ремня, а поскольку время от времени он изнашивается и требует замены, его располагают под боковым съемным кожухом. Другой съемный кожух над мотором открывает доступ к угольным электрическим щеткам. Плавное увеличение скорости вращения при включении и электронное поддержание постоянной скорости вращения практически полностью исключают перегрузку электромото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772000" cy="219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01636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3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192096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Руб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55164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16000" cy="243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592720" cy="1785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7640" y="415908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23000">
    <p:cover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2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7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7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Фуган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17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88040" y="26028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492280"/>
            <a:ext cx="518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Arial"/>
              </a:rPr>
              <a:t>Фуга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лужит для окончательной обработки древесины. Его используют тогда, когда возникает необходимость выровнять поверхность большого размера, чего нельзя сделать, прибегнув к рассмотренным выше разновидностям рубанков. Такое его свойство вызвано тем, что он имеет в длину около 70 см, то есть примерно в три раза длиннее обычного рубанка. Длина ножа фуганка составляет 200 мм, ширина — 65 м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Более короткие заготовки древесины фугуют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олуфуганко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имеющим более короткий корпус. У фуганка и полуфуганка в передней части сверху корпуса установлена деревянная пробка, по которой ударяют киянкой для выбивания клина с ножом из гнезда. У таких инструментов нож выходит заподошву примерно на 1 мм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2000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Фуг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439720" cy="32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24289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азы и греб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37200"/>
            <a:ext cx="485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азы и гребни на кромках или пластах деталей выбирают с помощью грунтубеля. Этот инструмент особенно хорош для выборки и зачистки трапецевидного паза ('ласточкин хвост'). Желобки на деревянных деталях выбирают при помощи галтели - подошва ее колодки имеет выпуклую форму, а вот калевка с ее многоступенчатой подошвой колодки и сменными ножами различных профилей - это инструмент скорее профессиональный, вряд ли он вам потребуется. Тем более, что украшаемые с помощью калевки различные декоративные рейки обычно широко представлены в продаже - это продукт механического производств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4599000"/>
            <a:ext cx="424800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672000" cy="26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5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8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98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98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Шлиф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Шлифтик предназначен для зачистки строганных поверхностей на участках с пороками строения древесины. Выглядит он как укороченный рубанок в двойным ножом, установленным круче, чем у обычного рубанка. Им можно снять очень тонкую стружку на поверхности - после склеивания деталей. Используется также для снятия провесов, угловых соединен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33520" cy="192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2000">
    <p:cover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Зензуб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2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Зензубель и его близкий "родственник" фальцгебель имеют ступенчатую подошву колодки. Эти инструменты могут очень понадобиться застройщику в том случае, когда купленные оконные рамы окажутся сделанными коряво, грубо (это случается нередко). В таком случае рамы лучше разобрать, тем более, что они чаще всего не склеены, и полости прострогать, зачистить наждачной бумагой. А вот для обработки четвертей, в которые, собственно, вставляются стекла, и могут потребоваться зензубель или фальцгебель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4227480"/>
            <a:ext cx="3467160" cy="241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03220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4000">
    <p:checke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5:09:21Z</dcterms:created>
  <dc:creator>Агаханов</dc:creator>
  <dc:description/>
  <dc:language>en-US</dc:language>
  <cp:lastModifiedBy>Московченко</cp:lastModifiedBy>
  <dcterms:modified xsi:type="dcterms:W3CDTF">2009-05-09T10:49:05Z</dcterms:modified>
  <cp:revision>15</cp:revision>
  <dc:subject>6 класс</dc:subject>
  <dc:title>Инструменты для строгания.</dc:title>
</cp:coreProperties>
</file>