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244-7204-439E-BA4E-F9452310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A7F-DEF9-407C-9835-127C235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AAD-8CBD-41A4-9CC8-D61AC0CD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38D-22C8-43F6-947B-A79E66A9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A04-5597-465A-81CE-350C6F3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104-3BAA-4BA4-A8D6-18850E3B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60E-C875-42F4-8052-DF32539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CEC-AF96-4EFD-B48C-0BE8D809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5D8-A04D-45C0-B32F-1059EC64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0BE-6148-47B3-9EA9-8E8D2C5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24E-C1D2-455E-908C-882788C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669-509D-4772-8879-88B811E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070D-FB0A-40B5-9863-B5DC76CF9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ымковской игрушки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ворческий проект</a:t>
            </a:r>
            <a:br>
              <a:rPr sz="4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технология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а  Долженко Ксения (6-в клас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это мои работы. Сначала я пробовала делать игрушки из пластилина, обеливала их гуашью в несколько слоев, а потом наносила краски. Получается очень красиво! Но игрушки из пластилина очень плохо держат форму, хотя с пластилином намного легче работать, чем с глино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S7300241"/>
          <p:cNvPicPr/>
          <p:nvPr/>
        </p:nvPicPr>
        <p:blipFill>
          <a:blip r:embed="rId1"/>
          <a:stretch/>
        </p:blipFill>
        <p:spPr>
          <a:xfrm>
            <a:off x="2771640" y="14130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т эту красавицу я сделала из пластил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7300249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а моя первая работа из глины. Она намного проще в изготовлении, чем та, которую я сделала из пластилина, но технология ее изготовления правильная! Так делали игрушки наши пред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7300248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1"/>
          <p:cNvPicPr/>
          <p:nvPr/>
        </p:nvPicPr>
        <p:blipFill>
          <a:blip r:embed="rId1"/>
          <a:stretch/>
        </p:blipFill>
        <p:spPr>
          <a:xfrm>
            <a:off x="34920" y="-142920"/>
            <a:ext cx="6248520" cy="714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6372360" y="1773360"/>
            <a:ext cx="277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годня игрушки покрывают темперными белилами в два-три слоя, а для росписи применяются темперные краски и мягкие колонковые кисти. Завершают украшение игрушки ромбики из потали или сусального золота, наклеенные поверх у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инка 6 из 2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-316080"/>
            <a:ext cx="570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2"/>
          <p:cNvPicPr/>
          <p:nvPr/>
        </p:nvPicPr>
        <p:blipFill>
          <a:blip r:embed="rId1"/>
          <a:stretch/>
        </p:blipFill>
        <p:spPr>
          <a:xfrm>
            <a:off x="1609560" y="-209520"/>
            <a:ext cx="592488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3"/>
          <p:cNvPicPr/>
          <p:nvPr/>
        </p:nvPicPr>
        <p:blipFill>
          <a:blip r:embed="rId1"/>
          <a:stretch/>
        </p:blipFill>
        <p:spPr>
          <a:xfrm>
            <a:off x="1890720" y="-243000"/>
            <a:ext cx="53625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4"/>
          <p:cNvPicPr/>
          <p:nvPr/>
        </p:nvPicPr>
        <p:blipFill>
          <a:blip r:embed="rId1"/>
          <a:stretch/>
        </p:blipFill>
        <p:spPr>
          <a:xfrm>
            <a:off x="2066760" y="0"/>
            <a:ext cx="5169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5"/>
          <p:cNvPicPr/>
          <p:nvPr/>
        </p:nvPicPr>
        <p:blipFill>
          <a:blip r:embed="rId1"/>
          <a:stretch/>
        </p:blipFill>
        <p:spPr>
          <a:xfrm>
            <a:off x="2190600" y="-142920"/>
            <a:ext cx="4762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6"/>
          <p:cNvPicPr/>
          <p:nvPr/>
        </p:nvPicPr>
        <p:blipFill>
          <a:blip r:embed="rId1"/>
          <a:stretch/>
        </p:blipFill>
        <p:spPr>
          <a:xfrm>
            <a:off x="2281320" y="-142920"/>
            <a:ext cx="45813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340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484360" y="6308640"/>
            <a:ext cx="35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ымковская слободка сего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-36360" y="-100080"/>
            <a:ext cx="5911560" cy="7239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867280" y="549360"/>
            <a:ext cx="3276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"/>
          <p:cNvPicPr/>
          <p:nvPr/>
        </p:nvPicPr>
        <p:blipFill>
          <a:blip r:embed="rId1"/>
          <a:stretch/>
        </p:blipFill>
        <p:spPr>
          <a:xfrm>
            <a:off x="3240" y="-103320"/>
            <a:ext cx="5505480" cy="7277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508720" y="5589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"/>
          <p:cNvPicPr/>
          <p:nvPr/>
        </p:nvPicPr>
        <p:blipFill>
          <a:blip r:embed="rId1"/>
          <a:stretch/>
        </p:blipFill>
        <p:spPr>
          <a:xfrm>
            <a:off x="46080" y="-247680"/>
            <a:ext cx="5533920" cy="7277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651640" y="2421000"/>
            <a:ext cx="349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"/>
          <p:cNvPicPr/>
          <p:nvPr/>
        </p:nvPicPr>
        <p:blipFill>
          <a:blip r:embed="rId1"/>
          <a:stretch/>
        </p:blipFill>
        <p:spPr>
          <a:xfrm>
            <a:off x="349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364000" y="31417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631512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300720" y="404640"/>
            <a:ext cx="2843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Но сколько их вариантов знали мастериц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учитель</cp:lastModifiedBy>
  <dcterms:modified xsi:type="dcterms:W3CDTF">2011-11-05T09:50:15Z</dcterms:modified>
  <cp:revision>14</cp:revision>
  <dc:subject/>
  <dc:title>Слайд 1</dc:title>
</cp:coreProperties>
</file>