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275-369D-40CE-8DD0-F6DAA8F1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AF3-8509-4762-BF02-E09FC7C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9617-7E68-46FE-B83C-10A33960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2D7-E191-4FD0-A95A-5272541F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55E-0980-4FA3-BE13-E428650F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375-E8E3-4A8E-8DD2-8053001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207-679B-4A8B-9BAD-F28FF5D2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D8E-BAE6-41B8-BAEC-19D89A76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EDC-D6FB-4ECB-802D-256323BF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B1E-2143-4A1C-922B-A944692B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AE1-072C-427F-BA1C-3D5500B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A65-F267-44A3-AEF6-1F07B04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8E0-1F23-4F02-9844-080B35163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ымковской игрушки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ворческий проект</a:t>
            </a:r>
            <a:br>
              <a:rPr sz="4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технология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а  Долженко Ксения (6-в кла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это мои работы. Сначала я пробовала делать игрушки из пластилина, обеливала их гуашью в несколько слоев, а потом наносила краски. Получается очень красиво! Но игрушки из пластилина очень плохо держат форму, хотя с пластилином намного легче работать, чем с глино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S7300241"/>
          <p:cNvPicPr/>
          <p:nvPr/>
        </p:nvPicPr>
        <p:blipFill>
          <a:blip r:embed="rId1"/>
          <a:stretch/>
        </p:blipFill>
        <p:spPr>
          <a:xfrm>
            <a:off x="2771640" y="14130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т эту красавицу я сделала из пластил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7300249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а моя первая работа из глины. Она намного проще в изготовлении, чем та, которую я сделала из пластилина, но технология ее изготовления правильная! Так делали игрушки наши пред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7300248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1"/>
          <p:cNvPicPr/>
          <p:nvPr/>
        </p:nvPicPr>
        <p:blipFill>
          <a:blip r:embed="rId1"/>
          <a:stretch/>
        </p:blipFill>
        <p:spPr>
          <a:xfrm>
            <a:off x="34920" y="-142920"/>
            <a:ext cx="6248520" cy="714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6372360" y="1773360"/>
            <a:ext cx="277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годня игрушки покрывают темперными белилами в два-три слоя, а для росписи применяются темперные краски и мягкие колонковые кисти. Завершают украшение игрушки ромбики из потали или сусального золота, наклеенные поверх у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инка 6 из 2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-316080"/>
            <a:ext cx="57070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2"/>
          <p:cNvPicPr/>
          <p:nvPr/>
        </p:nvPicPr>
        <p:blipFill>
          <a:blip r:embed="rId1"/>
          <a:stretch/>
        </p:blipFill>
        <p:spPr>
          <a:xfrm>
            <a:off x="1609560" y="-209520"/>
            <a:ext cx="592488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3"/>
          <p:cNvPicPr/>
          <p:nvPr/>
        </p:nvPicPr>
        <p:blipFill>
          <a:blip r:embed="rId1"/>
          <a:stretch/>
        </p:blipFill>
        <p:spPr>
          <a:xfrm>
            <a:off x="1890720" y="-243000"/>
            <a:ext cx="53625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4"/>
          <p:cNvPicPr/>
          <p:nvPr/>
        </p:nvPicPr>
        <p:blipFill>
          <a:blip r:embed="rId1"/>
          <a:stretch/>
        </p:blipFill>
        <p:spPr>
          <a:xfrm>
            <a:off x="2066760" y="0"/>
            <a:ext cx="5169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5"/>
          <p:cNvPicPr/>
          <p:nvPr/>
        </p:nvPicPr>
        <p:blipFill>
          <a:blip r:embed="rId1"/>
          <a:stretch/>
        </p:blipFill>
        <p:spPr>
          <a:xfrm>
            <a:off x="2190600" y="-142920"/>
            <a:ext cx="47628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6"/>
          <p:cNvPicPr/>
          <p:nvPr/>
        </p:nvPicPr>
        <p:blipFill>
          <a:blip r:embed="rId1"/>
          <a:stretch/>
        </p:blipFill>
        <p:spPr>
          <a:xfrm>
            <a:off x="2281320" y="-142920"/>
            <a:ext cx="45813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340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484360" y="6308640"/>
            <a:ext cx="35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ымковская слободка сего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-36360" y="-100080"/>
            <a:ext cx="5911560" cy="7239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867280" y="549360"/>
            <a:ext cx="327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tretch/>
        </p:blipFill>
        <p:spPr>
          <a:xfrm>
            <a:off x="3240" y="-103320"/>
            <a:ext cx="5505480" cy="7277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08720" y="5589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tretch/>
        </p:blipFill>
        <p:spPr>
          <a:xfrm>
            <a:off x="46080" y="-247680"/>
            <a:ext cx="5533920" cy="7277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2421000"/>
            <a:ext cx="349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"/>
          <p:cNvPicPr/>
          <p:nvPr/>
        </p:nvPicPr>
        <p:blipFill>
          <a:blip r:embed="rId1"/>
          <a:stretch/>
        </p:blipFill>
        <p:spPr>
          <a:xfrm>
            <a:off x="34920" y="0"/>
            <a:ext cx="5146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64000" y="31417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6315120" cy="7143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300720" y="404640"/>
            <a:ext cx="2843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Но сколько их вариантов знали мастериц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учитель</cp:lastModifiedBy>
  <dcterms:modified xsi:type="dcterms:W3CDTF">2011-11-05T09:50:15Z</dcterms:modified>
  <cp:revision>14</cp:revision>
  <dc:subject/>
  <dc:title>Слайд 1</dc:title>
</cp:coreProperties>
</file>