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100584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1BB-6939-448F-A6B7-0DC19D90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AF5-7FF4-4B2C-A228-B569121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935-6731-474B-B6EF-F334B8D0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55F-4021-4382-9F53-DC7CEB1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C76-6AEF-409B-A49A-7A86B4B1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76D-F049-4843-B9C5-134696D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1C6-5F42-4E06-9191-810D8127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E632-4FE7-4A4B-AC6C-1CAE723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5752-9E66-42C5-8A7E-C7B24856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B0E2-9011-4B28-ABF9-EC05A77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AAB-EFB1-483B-BCF8-A9C43F8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34E-8082-45C4-8ACC-B7FE3095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91CE-E997-4D36-966F-31343183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4FB4-C400-4DCF-BECE-644B771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D9C-4D14-4A4E-95D7-9F98FAC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EB3-AA8E-4A0B-8701-E49EDC54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0F9E-DF0A-4241-B0DB-0C66AA66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658-B80E-4AFB-A86B-AA20E49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101-496D-421B-80E2-D44D8F2A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DAF-55DB-43EE-9FA3-CEBEE0D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E82-419D-4EB0-A6AB-2A797E1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E1D-91E7-4453-8525-5BA3534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447-82B4-4A6E-B785-830A073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C55-BB44-48F5-BA9B-010EC65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5AA-88D9-4A11-B2CB-67C84E83BF7A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2E1-BEE3-4338-8439-BE5BE420BA45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«Особенности использования метода проектов на уроках и во внеурочной деятельност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6000" y="5589720"/>
            <a:ext cx="45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Из опыта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заместителя директора по УВР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ОУ-СОШ №16 города Белгорода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учителя технологи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ессоновой Ольги Анатольев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чины неудач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сутствие подготовленных педагогических кадров, способных работать с проектам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лабую разработанность методики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ипертрофию метода проектов в ущерб другим методам обучени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четание метода проектов с педагогически неграмотной идеей комплексных програм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45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Принцип пяти «П»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206064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ектирование (планирование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иск информации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ук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еимущества персональн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план работы над проектом может быть выстроен и отслежен с максимальной точностью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у учащегося формируется чувство ответственности, поскольку выполнение проекта зависит только от него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учащийся приобретает опыт на всех без исключения этапах выполнения проекта - от рождения замысла до итоговой рефлекс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формирование у учащегося важнейших обще учебных умений и навыков (исследовательских, презентационных, оценочных) оказывается вполне управляемым процессом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имущества группов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проектной группе формируются навыки сотрудничеств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проект может быть выполнен наиболее глубоко и разносторонн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а каждом этапе работы над проектом, как правило, есть свой ситуативный лидер: лидер-генератор идей, лидер-исследователь, лидер-оформитель продукта, лидер-режиссер презентации; каждый учащийся, в зависимости от своих сильных сторон, активно включается в работу на определенном этап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рамках проектной группы могут быть образованы подгруппы, предлагающие различные пути решения проблемы, идеи, гипотезы, точки зрения; элемент соревнования между ними, как правило, повышает мотивацию участников и положительно влияет на качество выполнения проект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4278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птимальное число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ленов группы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7 до 10 человек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07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состава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тематики проекто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бор тем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Формирование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933480" y="1338120"/>
            <a:ext cx="7815240" cy="4067280"/>
            <a:chOff x="933480" y="1338120"/>
            <a:chExt cx="7815240" cy="4067280"/>
          </a:xfrm>
        </p:grpSpPr>
        <p:sp>
          <p:nvSpPr>
            <p:cNvPr id="112" name=""/>
            <p:cNvSpPr txBox="1"/>
            <p:nvPr/>
          </p:nvSpPr>
          <p:spPr>
            <a:xfrm>
              <a:off x="933480" y="1338120"/>
              <a:ext cx="7815240" cy="406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77520" y="1814400"/>
              <a:ext cx="133200" cy="1370880"/>
            </a:xfrm>
            <a:prstGeom prst="downArrow">
              <a:avLst>
                <a:gd name="adj1" fmla="val 50000"/>
                <a:gd name="adj2" fmla="val 2572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016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204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8440" y="1585800"/>
              <a:ext cx="533880" cy="114480"/>
            </a:xfrm>
            <a:prstGeom prst="rightArrow">
              <a:avLst>
                <a:gd name="adj1" fmla="val 50000"/>
                <a:gd name="adj2" fmla="val 11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1585800"/>
              <a:ext cx="533520" cy="115560"/>
            </a:xfrm>
            <a:prstGeom prst="leftArrow">
              <a:avLst>
                <a:gd name="adj1" fmla="val 50000"/>
                <a:gd name="adj2" fmla="val 1154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3480" y="1338120"/>
              <a:ext cx="1200240" cy="8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Число участников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4480" y="1356840"/>
              <a:ext cx="1900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должительность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960" y="1471680"/>
              <a:ext cx="3202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ипологические признаки проекта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8480" y="2614680"/>
              <a:ext cx="1467360" cy="732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етод, доминирующий в проект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2600" y="3186360"/>
              <a:ext cx="133416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нтактов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4560" y="2614680"/>
              <a:ext cx="146736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ординации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69480" y="4080960"/>
              <a:ext cx="2134800" cy="1324080"/>
            </a:xfrm>
            <a:prstGeom prst="wedgeRoundRectCallout">
              <a:avLst>
                <a:gd name="adj1" fmla="val -32810"/>
                <a:gd name="adj2" fmla="val -11115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епосредственный (жесткий, гибкий); скрытый (имитирующий участника проекта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600" y="3890880"/>
              <a:ext cx="2001240" cy="1514520"/>
            </a:xfrm>
            <a:prstGeom prst="wedgeRoundRectCallout">
              <a:avLst>
                <a:gd name="adj1" fmla="val 32222"/>
                <a:gd name="adj2" fmla="val -959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следовательский, творческий, информационный, практико-ориентированный, игровой и др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360" y="4100760"/>
              <a:ext cx="2134800" cy="1275840"/>
            </a:xfrm>
            <a:prstGeom prst="wedgeRoundRectCallout">
              <a:avLst>
                <a:gd name="adj1" fmla="val 8856"/>
                <a:gd name="adj2" fmla="val -8581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реди участников одной школы, класса, города, региона, страны, разных стран мир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931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 доминирующей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еятельности учащихс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Практико-ориентированный 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целен на решение социальных задач, отражающих интересы участников проекта или внешнего заказчика. Эти проекты отличает четко обозначенный с самого начала результат деятельности его участников, который может быть использован в жизни класса, школы, микрорайона, города, государства. Форма конечного продукта при этом разнообразна - от учебного пособия для кабинета биологии до пакета рекомендаций по восстановлению экологии России. Ценность проекта заключается в реальности использования продукта на практике и его способности решить заданную проблему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0" cy="6932520"/>
        </p:xfrm>
        <a:graphic>
          <a:graphicData uri="http://schemas.openxmlformats.org/drawingml/2006/table">
            <a:tbl>
              <a:tblPr/>
              <a:tblGrid>
                <a:gridCol w="2284560"/>
                <a:gridCol w="3589200"/>
                <a:gridCol w="3270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, как правило, социальных задач отражающих интересы участников проекта или внешних заказчик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даже сценария всей деятельности его участников с определенной функ­цией каждого из них. Здесь особенно важна координаци­онная работа в вид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проектного анализа ситуации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совместно с руководителем темы, проблемы, гипотезы прое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и  деятельности,   составления  развернутого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а работы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пных обсуждений и корректировки совместных и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х усилий в сборе информации, ее структурировании, проведении исслед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я и оформления учебного проду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и и проведения презентации полученных результат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х способов их внедрения в практику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уск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анализа и самооцен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ая фир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прое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кабинета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школьного самоупра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пособ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 научная конференция; отчет исследовательской экспедиции;  путешествие;  реклама; телепередач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истематической внешней оценки: отзыв заинтересованных лиц и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А что это за условия и как их создавать?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суждение же вопроса о целях приведет, скорее всего, к выводу, что единственно реальная цель учителя при этом – «пройти программу»; цель ученика, в лучшем случае, - «стать умнее», в ином - выучить то, что пригодится для экзамена, а в худшем случае - перетерпеть годы школьной учебы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того чтобы ученик воспринимал знания как действительно нужные, ему необходимо поставить перед собой и решить значимую для него проблему, взятую из жизни, применить для ее решения определенные знания и умения, в том числе и новые, которые еще предстоит приобрести, и получить в итоге реальный, ощутимый результат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Исследователь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о структуре напоминает научное исследование. Он включает в себя обоснование актуальности выбранной темы, постановку задачи исследования, обяза­тельное выдвижение гипотезы с последующей ее проверкой, обсуждение и анализ получен­ных результатов. При выполнении проекта должны использовать­ся методы современной науки: лабораторный эксперимент, моделирование, социологический опрос и др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166840"/>
                <a:gridCol w="6976800"/>
              </a:tblGrid>
              <a:tr h="36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учебного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егда известен с самого начала исследования, выдвигается гипотеза о результатах, которая затем подвергается экспериментальной или теоретической проверк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проекты полностью подчинены единой логике и имеют структуру, приближенную к структуре научного исследования или полностью совпадающую с ней, а имен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ргументация актуальности, принятой для исследования те­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деление проблемы и цели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рмулирование гипотезы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ение методов исследования, источников информа­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суждение, анализ и оформление полученных результа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-сопоставительный анализ по теме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анных социологического опро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 в СМ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 ученом совет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внешней оценки: отзыв научного руководителя, других независимых специалис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научного исследования обучающих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Информацион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правлен на сбор информации о каком-либо объекте или явлении с целью анализа, обобщения и представления информации для широкой аудитории. Такие проекты требуют хорошо продуманной структуры и возможности ее коррекции по ходу работы. Выходом проекта часто является публикация в СМИ, в т. ч. в сет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996920"/>
                <a:gridCol w="3484080"/>
                <a:gridCol w="3662640"/>
              </a:tblGrid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нформации о каком-то объекте или явлении. Ее анализ, обобщение фактов, предназначенных для широкой аудитор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возможности система­тической коррекции по ходу работы. Отметим особенности струк­ту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информ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бобщение, сопоставление с известными факт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ументированные вывод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 (продукта, выполненного на основе информационных технологи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атив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 доклад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нешней оценки: отзыв специали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редполагает максимально свободный и нетрадиционный подход к его выполнению и презентации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 п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284200"/>
                <a:gridCol w="3739680"/>
                <a:gridCol w="311976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ого потенциала лич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ется открытым до конц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е имеют детально проработанной структуры совместной работы участников. Она лишь намечается и далее развивается, подчиняясь принятой группой логике совместной деятельности, интересам участников проекта. В творческом проекте часто бывает невозможно оценить промежуточные результаты, но отслеживать работу все равно обязательно надо, чтобы при необходимости оказать помощь проектанта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ю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е сочинен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  сочинений,   стихов,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резент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 реального  или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мышленного событ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ак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презент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Ролевой проект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Разработка и реализация такого проекта наиболее сложна. Участвуя в нем, проектанты берут себе роли литературных или исторических персонажей, выдуманных геро­ев с целью воссоздания различных социальных или деловых от­ношений через игровые ситуации. Результат проекта остается открытым до самого окончания. Чем завершится судебное засе­дание? Будет ли разрешен конфликт и заключен договор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 комплексности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 характеру контактов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79311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жпредметные 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428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он Дьюи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7786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характеру контактов проекты могут бы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класс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школь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егиональными (в пределах одной страны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международ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лассификация проектов по продолжительнос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Мини-проекты могут укладываться в один урок или часть урок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Краткосрочные проекты требуют выделения 4 - 6 уроков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дельные проекты выполняются в группах в ходе проектной недели. Их реализация занимает примерно 30 - 40 часов и целиком проходит с участием руководителя проект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лгосрочные (годичные) проекты могут выполняться как в группах, так и индивидуально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ормы продуктов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нализ данных социологического опрос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тлас, кар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филь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а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азета, журн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йствующая фирм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онопрое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гр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ллек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стю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дель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имедийный проду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формление кабине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стано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азд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гно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правоч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равнительно-сопоставительный анали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ебное пособи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кскурс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амотно составленная проектная папка позволяет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рганизовать работу каждого участника проектной групп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здать удобный коллектор информации и справочник для работы над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ъективно оценить ход работы над завершенным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дить о личных достижениях и развитии каждого участника проект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кратить время поиска информации при проведении в дальнейшем других,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лизких по теме, проектов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зентации учебных проектов могут быть проведены в виде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ло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монстрации видеофильма/продукта, (выполненного на основе информационных технологий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иалога исторических или литературных персонаже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защиты на Ученом Совет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гры с зало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ллюстрированного сопоставления фактов, документов, событий, эпох, цивилизац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нсценировки реального или вымышленного исторического событ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научной 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научного доклад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отчета исследовательской экспеди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ресс-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утешеств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еклам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оле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оревнован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ектакл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ортивн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атрализации (воплощения в роль человека, одушевленного или неодушевленного существа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лепередач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экскурс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блемными местами при оценке проектных работ обычно являются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Предметная компетентность жюр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Оно должно обязательно включать в свой состав специалистов по всем предметам, отраженным в проектах данной сек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решение ситуации «Все приложили усилия, но не все получили места и номинации»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этом случае лучше обнародовать рейтинговые оценки всех представленных проектов, чтобы свой итоговый балл видели и те проектанты, которые не удостоились наград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Критерии оценки должны быть выбраны, исходя из оптимальности их числ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не более 7 - 10) и доступности для учащихся каждого возраста. Оцениваться должна не столько презентация, сколько качество проекта в целом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86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ль учител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нтузиа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специали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нсультан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уководитель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«человек, который задает вопросы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по Дж. Питт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ординатор группового процесс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кспер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915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лгоритм учебного проектировани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этапы и шаг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оектной деятельности учащихся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260280"/>
            <a:ext cx="7848720" cy="79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   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Поиско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иск и изучение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ыявление проблемы, краткая формулировка задачи и тем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пределение направлений деятельности по решению зада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332000"/>
            <a:ext cx="78487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нструктор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по выбранны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работка спецификации дл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ботка и экскизирование идей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320" y="2603520"/>
            <a:ext cx="7670880" cy="11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равнительный анализ идей на основе спецификации и выбор лучш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зносторонний анализ выбранной идеи (дизайн-анализ, экономический, экологиче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нализ и подготовка необходимых графических изображений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221000"/>
            <a:ext cx="713412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ланирование изготовлени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оставление технологической карты на издел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дготовка оборудования, материалов и изготовление изде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5661000"/>
            <a:ext cx="7134120" cy="7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ценоч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ценка качества изготовленн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амоанализ и самооценка проект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ргументированное представление проек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5600" y="1036800"/>
            <a:ext cx="18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3520" y="21286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7162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515772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ТАПЫ РАБОТЫ НАД ПРОЕКТ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Поисково-исследователь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Краткая формулировка задачи. Поиск и анализ проблемы или темы предложенного проекта (объекта проектной деятельности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Сбор, изучение, исследование и обработка необходимой информации, в том числе с помощью информационных банков, каталогов, других источников, проработка оптимальной иде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ланирование проектной деятельности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ределение критериев, которым должно соответствовать проектируемое изделие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сследование вариантов конструкции объекта труда (модели, изделия) на основе требований дизайна, экономической оценки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ыбор и проработка наиболее оптимального варианта конструкции и технологии изготовления модели, изделия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Технологиче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Составление конструкторской и технологической документаци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Выполнение запланированных тренировочных упражнений и технологических операций, необходимых для качественного изготовления изделия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рактическая реализация проекта, подбор необходимых материалов, инструментов, приспособлений и оборудования в соответствии с возможностями и имеющимися ресурсам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Внесение, при необходимости, изменений в конструкцию и технологию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Соблюдение технологической дисциплины, культуры труда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Текущий контроль качества выполнения изделия, операций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Заключительны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Оценка качества реализации проекта (изготовленного объекта труда), включая его влияние на окружающую среду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Анализ результатов выполнения темы проекта (объекта проектной деятельности), испытание его на практике, защита (презентация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Изучение возможностей использования результатов проектной деятельности, реального спроса на рынке товаров, участие в конкурсах и выставках проектов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6868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Уильям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Херд Килпатрик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48836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29600" cy="53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55640" y="260280"/>
            <a:ext cx="6669000" cy="6477120"/>
            <a:chOff x="755640" y="260280"/>
            <a:chExt cx="6669000" cy="647712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5640" y="260280"/>
              <a:ext cx="666900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755640" y="260280"/>
              <a:ext cx="6669000" cy="64771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8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. Питт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фессор Йоркского университет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следов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ц. заказ, аналоги, методы, материалы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требности в виде краткой постановки задач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зайн - критер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воначальные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мног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ланирование и изготовле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пытание продукта в реальной ситуац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идей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работка лучшей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2-3 иде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продукта по отношению к потребност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ределенной в начале проект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0" r="0" b="12116"/>
          <a:stretch/>
        </p:blipFill>
        <p:spPr>
          <a:xfrm>
            <a:off x="684360" y="476280"/>
            <a:ext cx="792000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это особая философия образования: философия цели и деятельности, результатов и достижений, - далекая от формирования чисто теоретической образованности. Она была отторгнута советской школой, славной качеством знаний. Она принята школой сегодняшнего дня, потому что позволяет органично соединить несоединимое - ценностно-смысловые основы культуры и процесс деятельной социализа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77868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ворческих успехов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ешний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можно будет увидеть, осмыслить, применить на практике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утренний результат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опыт деятельности - станет бесценным достоянием учащегося, соединяющим знания и умения, компетенции и цен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36280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икакое число наглядных уроков, скомпонованных как наглядные уроки, не может даже в самой отдаленной степени заменить знакомства с растениями в саду и животными на ферме, знакомства, приобретенного в условиях действительной жизни среди них и выращивания их. Никакое упражнение органов чувств в школе, введенное ради одного этого упражнения, не может выдержать даже и тени соревнования с живостью и полнотой жизни чувств, вытекающих из непосредственного участия в повседневной жизни семьи и в интересах ее занятий. Вербальную память можно развить путем соответствующих упражнений, способность логического мышления до некоторой степени может быть приобретена на уроках естествознания и математики; но в конце концов это только отдаленная тень той способности к вниманию и к суждению, которая приобретается, когда имеешь дело с настоящими вещами, позади которых находится реальное основание, а впереди - реальный опыт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должны рассматривать школьные работы по дереву и металлу, тканье, шитье, приготовление пищи как методы обучения, а не как отдельные самостоятельные предметы изучения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з книги Джона Дьюи "Школа и общество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6346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ЕКТЫ ИГ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КСКУРСИОН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ЕСТВОВАТЕЛЬ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СТРУКТИВ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ин из  проектов, реализованных в средней группе учащихся, носил название "Посещение дома мистера Смитса для выяснения причины тифозных заболеваний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дуктом по этому проекту стал содержательный "Доклад о причинах тифозных заболеваний", направленный детьми хозяину дома. Как отмечается, мистер Смитс принял "Доклад" доброжелательно и выполнил почти все рекомендации детей. Вот выдержки из этого "Доклад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..Мы полагаем, что муха явилась главной причиной тифозных заболеваний, и рекомендуем вам нижеследующие средства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 Вставление сеток в окна и дверные проемы (следует подробнее вычисление необходимого количества сетки и расчет стоимости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Очистка двора от всякого сора и отброс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Перемещение свиного хлева на более отдаленное расстояние от дом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Хранение всех отбросов в ведрах с крышкам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5. Употребление мухоловок и других способов борьбы с мухой в течение холодных и теплых времен года... Мы посылаем вам одну из наших больших мухоловок и помойное ведро с крышкой... Мы выписали для вас из Миссурийского университета брошюру под заголовком "Мух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686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оветская педагогика 1920-х гг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50:16Z</dcterms:created>
  <dc:creator>Ольга</dc:creator>
  <dc:description/>
  <dc:language>en-US</dc:language>
  <cp:lastModifiedBy>Olga</cp:lastModifiedBy>
  <dcterms:modified xsi:type="dcterms:W3CDTF">2011-08-25T03:14:51Z</dcterms:modified>
  <cp:revision>9</cp:revision>
  <dc:subject/>
  <dc:title>“Использование метода проектов на уроках  “Технологии”  в школе” </dc:title>
</cp:coreProperties>
</file>