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100584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624-9A82-4D46-AE53-F6D7AA29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328-FBC5-42EB-BA09-FA62F88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190-2E67-4245-B623-AB04B3C1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741-7886-4CE1-BE08-584A94F2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DA49-D4D9-492D-AE5C-D59B883B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6422-F9AC-4AB5-965D-F9699DE1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346E-F1C7-4334-B99E-7A2A258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3DB3-774F-4579-9D9F-56628C73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AB6C-33C2-43AD-83C6-5E14A91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7B84-FAA7-41E4-BDC6-EAF89D4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5996-9280-464E-AD12-2E82748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940-65A6-43F3-B8F3-27BC067B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87F2-8D97-41EA-A91D-83A20D3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BBF-4B9F-4F77-BD90-E6C96937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594F-0719-41E2-8E21-ED2E9001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9CFD-57B5-4689-853B-F4F1314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AB82-5465-4013-9E61-9E4DF779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3AE-BA23-4B3A-8C6F-8B95FB3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E3F-5779-4631-93B1-5B906C2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680-55AC-47EE-BBF9-15D856F4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686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4D2-A2C6-4938-AED9-7799DFC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4E9-8F8B-42EF-9F31-464F91C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D80-B8DF-445D-B9AC-1695F99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CD3-A299-4BAA-946D-811D34E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622-34EE-4DE4-9FEC-CF6BD254E9EF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BAD4-8A6F-4AD4-9D58-52443C2C2C2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9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«Особенности использования метода проектов на уроках и во внеурочной деятельност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6000" y="5589720"/>
            <a:ext cx="45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Из опыта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заместителя директора по УВР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ОУ-СОШ №16 города Белгорода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учителя технологи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Нессоновой Ольги Анатольев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чины неудач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тсутствие подготовленных педагогических кадров, способных работать с проектам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лабую разработанность методики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ипертрофию метода проектов в ущерб другим методам обучени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четание метода проектов с педагогически неграмотной идеей комплексных програм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000" y="836640"/>
            <a:ext cx="745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Принцип пяти «П»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206064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блема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ектирование (планирование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оиск информации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укт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еимущества персональн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план работы над проектом может быть выстроен и отслежен с максимальной точностью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у учащегося формируется чувство ответственности, поскольку выполнение проекта зависит только от него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учащийся приобретает опыт на всех без исключения этапах выполнения проекта - от рождения замысла до итоговой рефлекс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формирование у учащегося важнейших обще учебных умений и навыков (исследовательских, презентационных, оценочных) оказывается вполне управляемым процессом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686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имущества групповых проектов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проектной группе формируются навыки сотрудничеств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проект может быть выполнен наиболее глубоко и разносторонн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а каждом этапе работы над проектом, как правило, есть свой ситуативный лидер: лидер-генератор идей, лидер-исследователь, лидер-оформитель продукта, лидер-режиссер презентации; каждый учащийся, в зависимости от своих сильных сторон, активно включается в работу на определенном этапе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 рамках проектной группы могут быть образованы подгруппы, предлагающие различные пути решения проблемы, идеи, гипотезы, точки зрения; элемент соревнования между ними, как правило, повышает мотивацию участников и положительно влияет на качество выполнения проекта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42788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птимальное число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ленов группы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т 7 до 10 человек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07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состава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Определение тематики проектов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Выбор тем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Формирование груп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933480" y="1338120"/>
            <a:ext cx="7815240" cy="4067280"/>
            <a:chOff x="933480" y="1338120"/>
            <a:chExt cx="7815240" cy="4067280"/>
          </a:xfrm>
        </p:grpSpPr>
        <p:sp>
          <p:nvSpPr>
            <p:cNvPr id="112" name=""/>
            <p:cNvSpPr txBox="1"/>
            <p:nvPr/>
          </p:nvSpPr>
          <p:spPr>
            <a:xfrm>
              <a:off x="933480" y="1338120"/>
              <a:ext cx="7815240" cy="406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77520" y="1814400"/>
              <a:ext cx="133200" cy="1370880"/>
            </a:xfrm>
            <a:prstGeom prst="downArrow">
              <a:avLst>
                <a:gd name="adj1" fmla="val 50000"/>
                <a:gd name="adj2" fmla="val 2572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016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2040" y="1814400"/>
              <a:ext cx="133200" cy="800280"/>
            </a:xfrm>
            <a:prstGeom prst="downArrow">
              <a:avLst>
                <a:gd name="adj1" fmla="val 50000"/>
                <a:gd name="adj2" fmla="val 1502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78440" y="1585800"/>
              <a:ext cx="533880" cy="114480"/>
            </a:xfrm>
            <a:prstGeom prst="rightArrow">
              <a:avLst>
                <a:gd name="adj1" fmla="val 50000"/>
                <a:gd name="adj2" fmla="val 1165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1585800"/>
              <a:ext cx="533520" cy="115560"/>
            </a:xfrm>
            <a:prstGeom prst="leftArrow">
              <a:avLst>
                <a:gd name="adj1" fmla="val 50000"/>
                <a:gd name="adj2" fmla="val 1154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3480" y="1338120"/>
              <a:ext cx="1200240" cy="8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Число участников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4480" y="1356840"/>
              <a:ext cx="19000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должительность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960" y="1471680"/>
              <a:ext cx="3202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Типологические признаки проекта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8480" y="2614680"/>
              <a:ext cx="1467360" cy="7329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Метод, доминирующий в проект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2600" y="3186360"/>
              <a:ext cx="1334160" cy="54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нтактов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44560" y="2614680"/>
              <a:ext cx="146736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Характер координации проект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69480" y="4080960"/>
              <a:ext cx="2134800" cy="1324080"/>
            </a:xfrm>
            <a:prstGeom prst="wedgeRoundRectCallout">
              <a:avLst>
                <a:gd name="adj1" fmla="val -32810"/>
                <a:gd name="adj2" fmla="val -11115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Непосредственный (жесткий, гибкий); скрытый (имитирующий участника проекта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600" y="3890880"/>
              <a:ext cx="2001240" cy="1514520"/>
            </a:xfrm>
            <a:prstGeom prst="wedgeRoundRectCallout">
              <a:avLst>
                <a:gd name="adj1" fmla="val 32222"/>
                <a:gd name="adj2" fmla="val -959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Исследовательский, творческий, информационный, практико-ориентированный, игровой и др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360" y="4100760"/>
              <a:ext cx="2134800" cy="1275840"/>
            </a:xfrm>
            <a:prstGeom prst="wedgeRoundRectCallout">
              <a:avLst>
                <a:gd name="adj1" fmla="val 8856"/>
                <a:gd name="adj2" fmla="val -8581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Среди участников одной школы, класса, города, региона, страны, разных стран мира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931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о доминирующей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еятельности учащихся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Практико-ориентированный 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нацелен на решение социальных задач, отражающих интересы участников проекта или внешнего заказчика. Эти проекты отличает четко обозначенный с самого начала результат деятельности его участников, который может быть использован в жизни класса, школы, микрорайона, города, государства. Форма конечного продукта при этом разнообразна - от учебного пособия для кабинета биологии до пакета рекомендаций по восстановлению экологии России. Ценность проекта заключается в реальности использования продукта на практике и его способности решить заданную проблему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0"/>
          <a:ext cx="9144000" cy="6932520"/>
        </p:xfrm>
        <a:graphic>
          <a:graphicData uri="http://schemas.openxmlformats.org/drawingml/2006/table">
            <a:tbl>
              <a:tblPr/>
              <a:tblGrid>
                <a:gridCol w="2284560"/>
                <a:gridCol w="3589200"/>
                <a:gridCol w="3270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, как правило, социальных задач отражающих интересы участников проекта или внешних заказчик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даже сценария всей деятельности его участников с определенной функ­цией каждого из них. Здесь особенно важна координаци­онная работа в виде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едпроектного анализа ситуации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совместно с руководителем темы, проблемы, гипотезы прое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и  деятельности,   составления  развернутого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а работы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пных обсуждений и корректировки совместных и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х усилий в сборе информации, ее структурировании, проведении исслед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я и оформления учебного продук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и и проведения презентации полученных результат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х способов их внедрения в практику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уск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анализа и самооцен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ая фир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прое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кабинета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школьного самоуправл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пособ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95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 научная конференция; отчет исследовательской экспедиции;  путешествие;  реклама; телепередач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систематической внешней оценки: отзыв заинтересованных лиц и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А что это за условия и как их создавать?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бсуждение же вопроса о целях приведет, скорее всего, к выводу, что единственно реальная цель учителя при этом – «пройти программу»; цель ученика, в лучшем случае, - «стать умнее», в ином - выучить то, что пригодится для экзамена, а в худшем случае - перетерпеть годы школьной учебы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того чтобы ученик воспринимал знания как действительно нужные, ему необходимо поставить перед собой и решить значимую для него проблему, взятую из жизни, применить для ее решения определенные знания и умения, в том числе и новые, которые еще предстоит приобрести, и получить в итоге реальный, ощутимый результат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Исследователь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о структуре напоминает научное исследование. Он включает в себя обоснование актуальности выбранной темы, постановку задачи исследования, обяза­тельное выдвижение гипотезы с последующей ее проверкой, обсуждение и анализ получен­ных результатов. При выполнении проекта должны использовать­ся методы современной науки: лабораторный эксперимент, моделирование, социологический опрос и др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166840"/>
                <a:gridCol w="6976800"/>
              </a:tblGrid>
              <a:tr h="36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 учебного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егда известен с самого начала исследования, выдвигается гипотеза о результатах, которая затем подвергается экспериментальной или теоретической проверк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ные проекты полностью подчинены единой логике и имеют структуру, приближенную к структуре научного исследования или полностью совпадающую с ней, а именн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ргументация актуальности, принятой для исследования те­м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деление проблемы и цели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ормулирование гипотезы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ение методов исследования, источников информа­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суждение, анализ и оформление полученных результа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льно-сопоставительный анализ по теме исследов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анных социологического опро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 в СМ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с, кар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Courier New"/>
                        <a:buChar char="o"/>
                        <a:tabLst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я форма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 ученом совет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ирован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внешней оценки: отзыв научного руководителя, других независимых специалис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научного исследования обучающих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Информацион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направлен на сбор информации о каком-либо объекте или явлении с целью анализа, обобщения и представления информации для широкой аудитории. Такие проекты требуют хорошо продуманной структуры и возможности ее коррекции по ходу работы. Выходом проекта часто является публикация в СМИ, в т. ч. в сет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1996920"/>
                <a:gridCol w="3484080"/>
                <a:gridCol w="3662640"/>
              </a:tblGrid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нформации о каком-то объекте или явлении. Ее анализ, обобщение фактов, предназначенных для широкой аудитор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 обозначен с самого начала результат деятельности, который может быть использован в жизни класса, школы, города, государств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т хорошо продуманной структуры, возможности система­тической коррекции по ходу работы. Отметим особенности струк­туры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информ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, обобщение, сопоставление с известными факт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ументированные вывод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200000"/>
                        <a:buFont typeface="Times New Roman"/>
                        <a:buAutoNum type="arabicPeriod"/>
                        <a:tabLst>
                          <a:tab algn="l" pos="2127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ета, журнал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ьтимедийный продукт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айт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видеофильма (продукта, выполненного на основе информационных технологи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люстративное сопоставление фактов, документов, событий, эпох, цивилизац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ая конферен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й доклад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 и 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нешней оценки: отзыв специали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Творче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предполагает максимально свободный и нетрадиционный подход к его выполнению и презентации результатов. Это могут быть альманахи, театрализации, спортивные игры, произведения изобразительного или декоративно-прикладного искусства, видеофильмы и т. п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2284200"/>
                <a:gridCol w="3739680"/>
                <a:gridCol w="311976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 действия проектировщ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ого потенциала личнос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ется открытым до конца проек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е имеют детально проработанной структуры совместной работы участников. Она лишь намечается и далее развивается, подчиняясь принятой группой логике совместной деятельности, интересам участников проекта. В творческом проекте часто бывает невозможно оценить промежуточные результаты, но отслеживать работу все равно обязательно надо, чтобы при необходимости оказать помощь проектанта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ю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ое сочинение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ик   сочинений,   стихов,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к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филь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2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ц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презент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 реального  или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мышленного событ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акль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аци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передача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и д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презента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ость использования продукта на практике, возможность самостоятельного решения проблемы обучающими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Ролевой проект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Разработка и реализация такого проекта наиболее сложна. Участвуя в нем, проектанты берут себе роли литературных или исторических персонажей, выдуманных геро­ев с целью воссоздания различных социальных или деловых от­ношений через игровые ситуации. Результат проекта остается открытым до самого окончания. Чем завершится судебное засе­дание? Будет ли разрешен конфликт и заключен договор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лассификация проектов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 комплексности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 характеру контактов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79311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оно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реализуются, как правило, в рамках одного учебного предмета или одной области знания, хотя могут использовать информацию из других областей знаний и деятель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844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жпредметные проек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ыполняются исключительно во внеурочное время и под руководством нескольких специалистов в различных областях знания. Они требуют глубокой содержательной интеграции уже на этапе постановки проблемы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428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он Дьюи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77868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характеру контактов проекты могут быть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класс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внутришколь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егиональными (в пределах одной страны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международным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лассификация проектов по продолжительност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Мини-проекты могут укладываться в один урок или часть урок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Краткосрочные проекты требуют выделения 4 - 6 уроков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дельные проекты выполняются в группах в ходе проектной недели. Их реализация занимает примерно 30 - 40 часов и целиком проходит с участием руководителя проект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лгосрочные (годичные) проекты могут выполняться как в группах, так и индивидуально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ормы продуктов проектной деятельност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нализ данных социологического опрос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тлас, кар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филь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ста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Газета, журн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йствующая фирм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Законопрое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гр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ллекц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остю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дель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ультимедийный продук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формление кабинет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становк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азд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огно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правочник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равнительно-сопоставительный анализ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чебное пособи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       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Экскурс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амотно составленная проектная папка позволяет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рганизовать работу каждого участника проектной группы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здать удобный коллектор информации и справочник для работы над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объективно оценить ход работы над завершенным проект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дить о личных достижениях и развитии каждого участника проект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ократить время поиска информации при проведении в дальнейшем других,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лизких по теме, проектов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зентации учебных проектов могут быть проведены в виде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ло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емонстрации видеофильма/продукта, (выполненного на основе информационных технологий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диалога исторических или литературных персонаже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защиты на Ученом Совете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гры с залом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ллюстрированного сопоставления фактов, документов, событий, эпох, цивилизац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инсценировки реального или вымышленного исторического событ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научной 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научного доклада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отчета исследовательской экспеди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ресс-конференц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путешеств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еклам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ролев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оревнован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ектакл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спортивной игр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атрализации (воплощения в роль человека, одушевленного или неодушевленного существа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телепередач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экскурс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6868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облемными местами при оценке проектных работ обычно являются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Предметная компетентность жюр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Оно должно обязательно включать в свой состав специалистов по всем предметам, отраженным в проектах данной сек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решение ситуации «Все приложили усилия, но не все получили места и номинации»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этом случае лучше обнародовать рейтинговые оценки всех представленных проектов, чтобы свой итоговый балл видели и те проектанты, которые не удостоились наград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Критерии оценки должны быть выбраны, исходя из оптимальности их числ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не более 7 - 10) и доступности для учащихся каждого возраста. Оцениваться должна не столько презентация, сколько качество проекта в целом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867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ль учител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нтузиа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специалис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нсультан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руководитель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«человек, который задает вопросы»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по Дж. Питту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координатор группового процесс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экспер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9152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лгоритм учебного проектировани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этапы и шаги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оектной деятельности учащихся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260280"/>
            <a:ext cx="7848720" cy="79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   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Поиско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иск и изучение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ыявление проблемы, краткая формулировка задачи и тем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пределение направлений деятельности по решению зада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332000"/>
            <a:ext cx="7848720" cy="78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нструктор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по выбранны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зработка спецификации дл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ботка и экскизирование идей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320" y="2603520"/>
            <a:ext cx="7670880" cy="11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равнительный анализ идей на основе спецификации и выбор лучш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Разносторонний анализ выбранной идеи (дизайн-анализ, экономический, экологиче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нализ и подготовка необходимых графических изображений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4221000"/>
            <a:ext cx="7134120" cy="9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ланирование изготовления проектируем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оставление технологической карты на издел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Подготовка оборудования, материалов и изготовление изде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5661000"/>
            <a:ext cx="7134120" cy="7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Оценоч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ценка качества изготовленного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амоанализ и самооценка проект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Аргументированное представление проек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5600" y="1036800"/>
            <a:ext cx="18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3520" y="21286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371628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515772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ТАПЫ РАБОТЫ НАД ПРОЕКТ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Поисково-исследователь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Краткая формулировка задачи. Поиск и анализ проблемы или темы предложенного проекта (объекта проектной деятельности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Сбор, изучение, исследование и обработка необходимой информации, в том числе с помощью информационных банков, каталогов, других источников, проработка оптимальной иде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ланирование проектной деятельности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пределение критериев, которым должно соответствовать проектируемое изделие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сследование вариантов конструкции объекта труда (модели, изделия) на основе требований дизайна, экономической оценки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ыбор и проработка наиболее оптимального варианта конструкции и технологии изготовления модели, изделия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Технологически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Составление конструкторской и технологической документаци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Выполнение запланированных тренировочных упражнений и технологических операций, необходимых для качественного изготовления изделия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Практическая реализация проекта, подбор необходимых материалов, инструментов, приспособлений и оборудования в соответствии с возможностями и имеющимися ресурсами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Внесение, при необходимости, изменений в конструкцию и технологию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Соблюдение технологической дисциплины, культуры труда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Текущий контроль качества выполнения изделия, операций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II .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Заключительный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Оценка качества реализации проекта (изготовленного объекта труда), включая его влияние на окружающую среду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Анализ результатов выполнения темы проекта (объекта проектной деятельности), испытание его на практике, защита (презентация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Изучение возможностей использования результатов проектной деятельности, реального спроса на рынке товаров, участие в конкурсах и выставках проектов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68680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Уильям 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Херд Килпатрик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488360" cy="4226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8229600" cy="5361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55640" y="260280"/>
            <a:ext cx="6669000" cy="6477120"/>
            <a:chOff x="755640" y="260280"/>
            <a:chExt cx="6669000" cy="647712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755640" y="260280"/>
              <a:ext cx="666900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755640" y="260280"/>
              <a:ext cx="6669000" cy="64771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8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</a:rPr>
              <a:t>Дж. Питт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фессор Йоркского университета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следов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ц. заказ, аналоги, методы, материалы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требности в виде краткой постановки задач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изайн - критер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воначальные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мног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ланирование и изготовле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пытание продукта в реальной ситуаци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идей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оработка лучшей иде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2-3 иде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ценка продукта по отношению к потребност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пределенной в начале проекта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0" r="0" b="12116"/>
          <a:stretch/>
        </p:blipFill>
        <p:spPr>
          <a:xfrm>
            <a:off x="684360" y="476280"/>
            <a:ext cx="792000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0024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 это особая философия образования: философия цели и деятельности, результатов и достижений, - далекая от формирования чисто теоретической образованности. Она была отторгнута советской школой, славной качеством знаний. Она принята школой сегодняшнего дня, потому что позволяет органично соединить несоединимое - ценностно-смысловые основы культуры и процесс деятельной социализаци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77868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ворческих успехов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18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ешний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можно будет увидеть, осмыслить, применить на практике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нутренний результат 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опыт деятельности - станет бесценным достоянием учащегося, соединяющим знания и умения, компетенции и ценности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36280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Никакое число наглядных уроков, скомпонованных как наглядные уроки, не может даже в самой отдаленной степени заменить знакомства с растениями в саду и животными на ферме, знакомства, приобретенного в условиях действительной жизни среди них и выращивания их. Никакое упражнение органов чувств в школе, введенное ради одного этого упражнения, не может выдержать даже и тени соревнования с живостью и полнотой жизни чувств, вытекающих из непосредственного участия в повседневной жизни семьи и в интересах ее занятий. Вербальную память можно развить путем соответствующих упражнений, способность логического мышления до некоторой степени может быть приобретена на уроках естествознания и математики; но в конце концов это только отдаленная тень той способности к вниманию и к суждению, которая приобретается, когда имеешь дело с настоящими вещами, позади которых находится реальное основание, а впереди - реальный опыт…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должны рассматривать школьные работы по дереву и металлу, тканье, шитье, приготовление пищи как методы обучения, а не как отдельные самостоятельные предметы изучения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з книги Джона Дьюи "Школа и общество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6346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ЕКТЫ ИГ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КСКУРСИОН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ВЕСТВОВАТЕЛЬ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СТРУКТИВНЫЕ ПРОЕК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147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дин из  проектов, реализованных в средней группе учащихся, носил название "Посещение дома мистера Смитса для выяснения причины тифозных заболеваний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дуктом по этому проекту стал содержательный "Доклад о причинах тифозных заболеваний", направленный детьми хозяину дома. Как отмечается, мистер Смитс принял "Доклад" доброжелательно и выполнил почти все рекомендации детей. Вот выдержки из этого "Доклад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..Мы полагаем, что муха явилась главной причиной тифозных заболеваний, и рекомендуем вам нижеследующие средства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 Вставление сеток в окна и дверные проемы (следует подробнее вычисление необходимого количества сетки и расчет стоимости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Очистка двора от всякого сора и отброс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Перемещение свиного хлева на более отдаленное расстояние от дом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Хранение всех отбросов в ведрах с крышкам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5. Употребление мухоловок и других способов борьбы с мухой в течение холодных и теплых времен года... Мы посылаем вам одну из наших больших мухоловок и помойное ведро с крышкой... Мы выписали для вас из Миссурийского университета брошюру под заголовком "Муха"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686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оветская педагогика 1920-х гг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7:50:16Z</dcterms:created>
  <dc:creator>Ольга</dc:creator>
  <dc:description/>
  <dc:language>en-US</dc:language>
  <cp:lastModifiedBy>Olga</cp:lastModifiedBy>
  <dcterms:modified xsi:type="dcterms:W3CDTF">2011-08-25T03:14:51Z</dcterms:modified>
  <cp:revision>9</cp:revision>
  <dc:subject/>
  <dc:title>“Использование метода проектов на уроках  “Технологии”  в школе” </dc:title>
</cp:coreProperties>
</file>