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100584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D79-98EB-4003-B3D4-D07ADD9A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34F4-6B4D-4451-84DF-C350578E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2C75-6692-49A9-923E-286E069A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43C-FB30-400F-9BE4-BD6A0C50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4EB5-98E1-4652-B013-68C290F8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EB86-87D0-4C11-B8D4-8DFA2146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6B49-2451-4813-81C2-32B58537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8C67-972F-45DA-9F31-772B1F62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3D51-5129-4A37-8BA0-F6642136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18BA-1EEF-4EED-A421-18A98E8E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ECF5-3D05-4615-8529-DC949437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F6F-4503-43EE-9DC5-0A74EB98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A60C-3F0F-43AA-8C54-05C07ADC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BAD1-83AD-4691-A5E9-6F289047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8129-DD69-4E2B-A117-32E213F6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854C-C510-402D-89E6-10BF1EBE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1969-6D18-427B-82ED-9FFBEA9D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AF1-A9F2-49A0-96A5-7744F3E6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CF8-69C8-4420-BDF3-A4F4E54A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90A-B460-48FE-B3C6-4883FAEC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B33-5349-40C2-A6F8-E3FDF8E0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BE5-F485-4410-8000-2DC21553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5376-5B7A-4FB5-9A45-98227A7A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65A-0E3B-4260-89A8-93D231C8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0AF9-CBF0-44C0-A05F-924FD2D8A152}" type="slidenum">
              <a:rPr b="1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971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7BC2-BF07-46C2-B432-59AF060596E0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943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«Особенности использования метода проектов на уроках и во внеурочной деятельности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356000" y="5589720"/>
            <a:ext cx="4572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Из опыта работы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заместителя директора по УВР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МОУ-СОШ №16 города Белгорода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учителя технологи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Нессоновой Ольги Анатольевны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ичины неудач: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тсутствие подготовленных педагогических кадров, способных работать с проектам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лабую разработанность методики проектной деятельност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гипертрофию метода проектов в ущерб другим методам обучения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очетание метода проектов с педагогически неграмотной идеей комплексных програм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2000" y="836640"/>
            <a:ext cx="7451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Принцип пяти «П»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2060640"/>
            <a:ext cx="7596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облема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оектирование (планирование)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оиск информации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одукт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езентация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еимущества персональных проектов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план работы над проектом может быть выстроен и отслежен с максимальной точностью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у учащегося формируется чувство ответственности, поскольку выполнение проекта зависит только от него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 учащийся приобретает опыт на всех без исключения этапах выполнения проекта - от рождения замысла до итоговой рефлексии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формирование у учащегося важнейших обще учебных умений и навыков (исследовательских, презентационных, оценочных) оказывается вполне управляемым процессом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6868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еимущества групповых проектов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в проектной группе формируются навыки сотрудничества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проект может быть выполнен наиболее глубоко и разносторонне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а каждом этапе работы над проектом, как правило, есть свой ситуативный лидер: лидер-генератор идей, лидер-исследователь, лидер-оформитель продукта, лидер-режиссер презентации; каждый учащийся, в зависимости от своих сильных сторон, активно включается в работу на определенном этапе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в рамках проектной группы могут быть образованы подгруппы, предлагающие различные пути решения проблемы, идеи, гипотезы, точки зрения; элемент соревнования между ними, как правило, повышает мотивацию участников и положительно влияет на качество выполнения проекта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42788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птимальное число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ленов группы –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т 7 до 10 человек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07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Определение состава групп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Определение тематики проектов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Выбор темы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Формирование групп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933480" y="1338120"/>
            <a:ext cx="7815240" cy="4067280"/>
            <a:chOff x="933480" y="1338120"/>
            <a:chExt cx="7815240" cy="4067280"/>
          </a:xfrm>
        </p:grpSpPr>
        <p:sp>
          <p:nvSpPr>
            <p:cNvPr id="112" name=""/>
            <p:cNvSpPr txBox="1"/>
            <p:nvPr/>
          </p:nvSpPr>
          <p:spPr>
            <a:xfrm>
              <a:off x="933480" y="1338120"/>
              <a:ext cx="7815240" cy="406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77520" y="1814400"/>
              <a:ext cx="133200" cy="1370880"/>
            </a:xfrm>
            <a:prstGeom prst="downArrow">
              <a:avLst>
                <a:gd name="adj1" fmla="val 50000"/>
                <a:gd name="adj2" fmla="val 25729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10160" y="1814400"/>
              <a:ext cx="133200" cy="800280"/>
            </a:xfrm>
            <a:prstGeom prst="downArrow">
              <a:avLst>
                <a:gd name="adj1" fmla="val 50000"/>
                <a:gd name="adj2" fmla="val 15020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12040" y="1814400"/>
              <a:ext cx="133200" cy="800280"/>
            </a:xfrm>
            <a:prstGeom prst="downArrow">
              <a:avLst>
                <a:gd name="adj1" fmla="val 50000"/>
                <a:gd name="adj2" fmla="val 15020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78440" y="1585800"/>
              <a:ext cx="533880" cy="114480"/>
            </a:xfrm>
            <a:prstGeom prst="rightArrow">
              <a:avLst>
                <a:gd name="adj1" fmla="val 50000"/>
                <a:gd name="adj2" fmla="val 11658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43080" y="1585800"/>
              <a:ext cx="533520" cy="115560"/>
            </a:xfrm>
            <a:prstGeom prst="leftArrow">
              <a:avLst>
                <a:gd name="adj1" fmla="val 50000"/>
                <a:gd name="adj2" fmla="val 11542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33480" y="1338120"/>
              <a:ext cx="1200240" cy="8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Число участников проект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14480" y="1356840"/>
              <a:ext cx="19000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одолжительность проект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76960" y="1471680"/>
              <a:ext cx="32025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Типологические признаки проекта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78480" y="2614680"/>
              <a:ext cx="1467360" cy="7329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Метод, доминирующий в проекте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12600" y="3186360"/>
              <a:ext cx="1334160" cy="54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Характер контактов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44560" y="2614680"/>
              <a:ext cx="146736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Характер координации проект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69480" y="4080960"/>
              <a:ext cx="2134800" cy="1324080"/>
            </a:xfrm>
            <a:prstGeom prst="wedgeRoundRectCallout">
              <a:avLst>
                <a:gd name="adj1" fmla="val -32810"/>
                <a:gd name="adj2" fmla="val -11115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Непосредственный (жесткий, гибкий); скрытый (имитирующий участника проекта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66600" y="3890880"/>
              <a:ext cx="2001240" cy="1514520"/>
            </a:xfrm>
            <a:prstGeom prst="wedgeRoundRectCallout">
              <a:avLst>
                <a:gd name="adj1" fmla="val 32222"/>
                <a:gd name="adj2" fmla="val -9591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Исследовательский, творческий, информационный, практико-ориентированный, игровой и др.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78360" y="4100760"/>
              <a:ext cx="2134800" cy="1275840"/>
            </a:xfrm>
            <a:prstGeom prst="wedgeRoundRectCallout">
              <a:avLst>
                <a:gd name="adj1" fmla="val 8856"/>
                <a:gd name="adj2" fmla="val -8581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реди участников одной школы, класса, города, региона, страны, разных стран мир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793116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лассификация проектов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о доминирующей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деятельности учащихся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Практико-ориентированный проек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нацелен на решение социальных задач, отражающих интересы участников проекта или внешнего заказчика. Эти проекты отличает четко обозначенный с самого начала результат деятельности его участников, который может быть использован в жизни класса, школы, микрорайона, города, государства. Форма конечного продукта при этом разнообразна - от учебного пособия для кабинета биологии до пакета рекомендаций по восстановлению экологии России. Ценность проекта заключается в реальности использования продукта на практике и его способности решить заданную проблему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0"/>
          <a:ext cx="9144000" cy="6932520"/>
        </p:xfrm>
        <a:graphic>
          <a:graphicData uri="http://schemas.openxmlformats.org/drawingml/2006/table">
            <a:tbl>
              <a:tblPr/>
              <a:tblGrid>
                <a:gridCol w="2284560"/>
                <a:gridCol w="3589200"/>
                <a:gridCol w="32702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 действия проект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, как правило, социальных задач отражающих интересы участников проекта или внешних заказчик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ко обозначен с самого начала результат деятельности, который может быть использован в жизни класса, школы, города, государств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ет хорошо продуманной структуры, даже сценария всей деятельности его участников с определенной функ­цией каждого из них. Здесь особенно важна координаци­онная работа в виде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едпроектного анализа ситуации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и совместно с руководителем темы, проблемы, гипотезы проект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и  деятельности,   составления  развернутого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а работы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этапных обсуждений и корректировки совместных и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х усилий в сборе информации, ее структурировании, проведении исследован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я и оформления учебного продукт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и и проведения презентации полученных результатов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х способов их внедрения в практику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уска проек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амоанализа и самооценк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ета, журнал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ая фирм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опроект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кабинета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школьного самоуправле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льтимедийный продукт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е пособие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йт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с, карт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фильм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я форма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ация видеофильма; научная конференция; отчет исследовательской экспедиции;  путешествие;  реклама; телепередач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систематической внешней оценки: отзыв заинтересованных лиц и структу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ость использования продукта на практике, возможность самостоятельного решения проблемы обучающими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86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«А что это за условия и как их создавать?»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бсуждение же вопроса о целях приведет, скорее всего, к выводу, что единственно реальная цель учителя при этом – «пройти программу»; цель ученика, в лучшем случае, - «стать умнее», в ином - выучить то, что пригодится для экзамена, а в худшем случае - перетерпеть годы школьной учебы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ля того чтобы ученик воспринимал знания как действительно нужные, ему необходимо поставить перед собой и решить значимую для него проблему, взятую из жизни, применить для ее решения определенные знания и умения, в том числе и новые, которые еще предстоит приобрести, и получить в итоге реальный, ощутимый результат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Исследовательский проект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по структуре напоминает научное исследование. Он включает в себя обоснование актуальности выбранной темы, постановку задачи исследования, обяза­тельное выдвижение гипотезы с последующей ее проверкой, обсуждение и анализ получен­ных результатов. При выполнении проекта должны использовать­ся методы современной науки: лабораторный эксперимент, моделирование, социологический опрос и др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2166840"/>
                <a:gridCol w="6976800"/>
              </a:tblGrid>
              <a:tr h="36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 действия проект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авыков учебного исследов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сегда известен с самого начала исследования, выдвигается гипотеза о результатах, которая затем подвергается экспериментальной или теоретической проверк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ные проекты полностью подчинены единой логике и имеют структуру, приближенную к структуре научного исследования или полностью совпадающую с ней, а именн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ргументация актуальности, принятой для исследования те­м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ыделение проблемы и цели исследов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Формулирование гипотезы исследов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пределение методов исследования, источников информа­ц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суждение, анализ и оформление полученных результат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льно-сопоставительный анализ по теме исследов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данных социологического опрос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я в СМИ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й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с, кар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очник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я форма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ация видеофильм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на ученом совете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люстрированное сопоставление фактов, документов, событий, эпох, цивилизац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конференция и п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сть внешней оценки: отзыв научного руководителя, других независимых специалист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авыков научного исследования обучающих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686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Информационный проект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направлен на сбор информации о каком-либо объекте или явлении с целью анализа, обобщения и представления информации для широкой аудитории. Такие проекты требуют хорошо продуманной структуры и возможности ее коррекции по ходу работы. Выходом проекта часто является публикация в СМИ, в т. ч. в сет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1996920"/>
                <a:gridCol w="3484080"/>
                <a:gridCol w="3662640"/>
              </a:tblGrid>
              <a:tr h="35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 действия проект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информации о каком-то объекте или явлении. Ее анализ, обобщение фактов, предназначенных для широкой аудитор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ко обозначен с самого начала результат деятельности, который может быть использован в жизни класса, школы, города, государств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ет хорошо продуманной структуры, возможности система­тической коррекции по ходу работы. Отметим особенности струк­туры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ост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 информац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, обобщение, сопоставление с известными фактам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ументированные вывод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филь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ета, журнал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ц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льтимедийный продукт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очник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йт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ая игр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ация видеофильма (продукта, выполненного на основе информационных технологий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люстративное сопоставление фактов, документов, событий, эпох, цивилизац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конференц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ый доклад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лам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передача и п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нешней оценки: отзыв специалис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ость использования продукта на практике, возможность самостоятельного решения проблемы обучающими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686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Творческий проект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предполагает максимально свободный и нетрадиционный подход к его выполнению и презентации результатов. Это могут быть альманахи, театрализации, спортивные игры, произведения изобразительного или декоративно-прикладного искусства, видеофильмы и т. п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2284200"/>
                <a:gridCol w="3739680"/>
                <a:gridCol w="3119760"/>
              </a:tblGrid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 действия проект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ворческого потенциала личност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ется открытым до конца проек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не имеют детально проработанной структуры совместной работы участников. Она лишь намечается и далее развивается, подчиняясь принятой группой логике совместной деятельности, интересам участников проекта. В творческом проекте часто бывает невозможно оценить промежуточные результаты, но отслеживать работу все равно обязательно надо, чтобы при необходимости оказать помощь проектантам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ю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ль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ое сочинение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ик   сочинений,   стихов,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нков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филь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ц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презент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ая игр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ценировка  реального  или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мышленного событ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лам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евнован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ктакль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изац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передач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мках презентац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ость использования продукта на практике, возможность самостоятельного решения проблемы обучающими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821844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Ролевой проект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Разработка и реализация такого проекта наиболее сложна. Участвуя в нем, проектанты берут себе роли литературных или исторических персонажей, выдуманных геро­ев с целью воссоздания различных социальных или деловых от­ношений через игровые ситуации. Результат проекта остается открытым до самого окончания. Чем завершится судебное засе­дание? Будет ли разрешен конфликт и заключен договор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Классификация проектов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 комплексности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и характеру контактов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793116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Монопроекты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реализуются, как правило, в рамках одного учебного предмета или одной области знания, хотя могут использовать информацию из других областей знаний и деятельности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821844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Межпредметные проекты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ыполняются исключительно во внеурочное время и под руководством нескольких специалистов в различных областях знания. Они требуют глубокой содержательной интеграции уже на этапе постановки проблемы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74282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Джон Дьюи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77868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характеру контактов проекты могут быть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внутриклассным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внутришкольным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региональными (в пределах одной страны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международным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лассификация проектов по продолжительност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Мини-проекты могут укладываться в один урок или часть урока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Краткосрочные проекты требуют выделения 4 - 6 уроков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едельные проекты выполняются в группах в ходе проектной недели. Их реализация занимает примерно 30 - 40 часов и целиком проходит с участием руководителя проекта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Долгосрочные (годичные) проекты могут выполняться как в группах, так и индивидуально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Формы продуктов проектной деятельност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Анализ данных социологического опрос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Атлас, карт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идеофильм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ыставк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Газета, журнал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ействующая фирм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аконопроект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гр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оллекц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остюм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одель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ультимедийный продукт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формление кабинет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становк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аздник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огноз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правочник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равнительно-сопоставительный анализ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ебное пособие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Экскурс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Грамотно составленная проектная папка позволяет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организовать работу каждого участника проектной группы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оздать удобный коллектор информации и справочник для работы над проект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объективно оценить ход работы над завершенным проект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удить о личных достижениях и развитии каждого участника проект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ократить время поиска информации при проведении в дальнейшем других,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близких по теме, проектов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резентации учебных проектов могут быть проведены в виде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деловой игр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демонстрации видеофильма/продукта, (выполненного на основе информационных технологий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диалога исторических или литературных персонаже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защиты на Ученом Совете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игры с залом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иллюстрированного сопоставления фактов, документов, событий, эпох, цивилизац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инсценировки реального или вымышленного исторического событ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научной конференц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научного доклад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отчета исследовательской экспедиц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пресс-конференц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путешеств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реклам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ролевой игр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соревнован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спектакл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спортивной игр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театрализации (воплощения в роль человека, одушевленного или неодушевленного существа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телепередач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экскурс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68680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облемными местами при оценке проектных работ обычно являются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Предметная компетентность жюри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Оно должно обязательно включать в свой состав специалистов по всем предметам, отраженным в проектах данной секции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Разрешение ситуации «Все приложили усилия, но не все получили места и номинации»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В этом случае лучше обнародовать рейтинговые оценки всех представленных проектов, чтобы свой итоговый балл видели и те проектанты, которые не удостоились наград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Критерии оценки должны быть выбраны, исходя из оптимальности их числ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не более 7 - 10) и доступности для учащихся каждого возраста. Оцениваться должна не столько презентация, сколько качество проекта в целом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867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оль учителя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энтузиас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специалис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консультан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руководитель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«человек, который задает вопросы»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по Дж. Питту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координатор группового процесс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экспер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29152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Алгоритм учебного проектирования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(этапы и шаги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проектной деятельности учащихся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55640" y="260280"/>
            <a:ext cx="7848720" cy="79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   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Поисков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оиск и изучение потреб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Выявление проблемы, краткая формулировка задачи и тем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Определение направлений деятельности по решению задач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1332000"/>
            <a:ext cx="784872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нструктор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ведение исследований по выбранным направл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азработка спецификации для проектируемого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работка и экскизирование идей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4320" y="2603520"/>
            <a:ext cx="7670880" cy="111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Аналитиче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Сравнительный анализ идей на основе спецификации и выбор лучш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Разносторонний анализ выбранной идеи (дизайн-анализ, экономический, экологиче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Анализ и подготовка необходимых графических изображений проектируемого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4221000"/>
            <a:ext cx="7134120" cy="9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Технологиче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ланирование изготовления проектируемого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Составление технологической карты на издел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одготовка оборудования, материалов и изготовление издел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5661000"/>
            <a:ext cx="7134120" cy="7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Оценоч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Оценка качества изготовленного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Самоанализ и самооценка проект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Аргументированное представление проек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65600" y="1036800"/>
            <a:ext cx="180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73520" y="2128680"/>
            <a:ext cx="0" cy="4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3716280"/>
            <a:ext cx="0" cy="4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3280" y="5157720"/>
            <a:ext cx="0" cy="4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8864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ЭТАПЫ РАБОТЫ НАД ПРОЕКТОМ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I .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Поисково-исследовательский: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Краткая формулировка задачи. Поиск и анализ проблемы или темы предложенного проекта (объекта проектной деятельности)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Сбор, изучение, исследование и обработка необходимой информации, в том числе с помощью информационных банков, каталогов, других источников, проработка оптимальной идеи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Планирование проектной деятельности: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Определение критериев, которым должно соответствовать проектируемое изделие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Исследование вариантов конструкции объекта труда (модели, изделия) на основе требований дизайна, экономической оценки;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Выбор и проработка наиболее оптимального варианта конструкции и технологии изготовления модели, изделия.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II .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Технологический: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Составление конструкторской и технологической документации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Выполнение запланированных тренировочных упражнений и технологических операций, необходимых для качественного изготовления изделия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Практическая реализация проекта, подбор необходимых материалов, инструментов, приспособлений и оборудования в соответствии с возможностями и имеющимися ресурсами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 Внесение, при необходимости, изменений в конструкцию и технологию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. Соблюдение технологической дисциплины, культуры труда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. Текущий контроль качества выполнения изделия, операций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III .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Заключительный: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Оценка качества реализации проекта (изготовленного объекта труда), включая его влияние на окружающую среду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Анализ результатов выполнения темы проекта (объекта проектной деятельности), испытание его на практике, защита (презентация)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Изучение возможностей использования результатов проектной деятельности, реального спроса на рынке товаров, участие в конкурсах и выставках проектов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686800" cy="40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Уильям 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Херд Килпатрик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7488360" cy="4226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8229600" cy="5361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8229600" cy="5576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755640" y="260280"/>
            <a:ext cx="6669000" cy="6477120"/>
            <a:chOff x="755640" y="260280"/>
            <a:chExt cx="6669000" cy="647712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755640" y="260280"/>
              <a:ext cx="6669000" cy="64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 txBox="1"/>
            <p:nvPr/>
          </p:nvSpPr>
          <p:spPr>
            <a:xfrm>
              <a:off x="755640" y="260280"/>
              <a:ext cx="6669000" cy="64771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8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Дж. Питт,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фессор Йоркского университета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91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сследование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соц. заказ, аналоги, методы, материалы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отребности в виде краткой постановки задач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изайн - критери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ервоначальные иде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много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ланирование и изготовление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спытание продукта в реальной ситуаци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ценка идей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роработка лучшей иде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2-3 идеи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ценка продукта по отношению к потребности,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пределенной в начале проекта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rcRect l="0" t="0" r="0" b="12116"/>
          <a:stretch/>
        </p:blipFill>
        <p:spPr>
          <a:xfrm>
            <a:off x="684360" y="476280"/>
            <a:ext cx="7920000" cy="598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0024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Проек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- это особая философия образования: философия цели и деятельности, результатов и достижений, - далекая от формирования чисто теоретической образованности. Она была отторгнута советской школой, славной качеством знаний. Она принята школой сегодняшнего дня, потому что позволяет органично соединить несоединимое - ценностно-смысловые основы культуры и процесс деятельной социализации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77868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Творческих успехов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18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нешний результат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можно будет увидеть, осмыслить, применить на практике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нутренний результат -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опыт деятельности - станет бесценным достоянием учащегося, соединяющим знания и умения, компетенции и ценности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36280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«Никакое число наглядных уроков, скомпонованных как наглядные уроки, не может даже в самой отдаленной степени заменить знакомства с растениями в саду и животными на ферме, знакомства, приобретенного в условиях действительной жизни среди них и выращивания их. Никакое упражнение органов чувств в школе, введенное ради одного этого упражнения, не может выдержать даже и тени соревнования с живостью и полнотой жизни чувств, вытекающих из непосредственного участия в повседневной жизни семьи и в интересах ее занятий. Вербальную память можно развить путем соответствующих упражнений, способность логического мышления до некоторой степени может быть приобретена на уроках естествознания и математики; но в конце концов это только отдаленная тень той способности к вниманию и к суждению, которая приобретается, когда имеешь дело с настоящими вещами, позади которых находится реальное основание, а впереди - реальный опыт…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ы должны рассматривать школьные работы по дереву и металлу, тканье, шитье, приготовление пищи как методы обучения, а не как отдельные самостоятельные предметы изучения»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з книги Джона Дьюи "Школа и общество"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6346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ЕКТЫ ИГР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ЭКСКУРСИОННЫЕ ПРОЕКТЫ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ВЕСТВОВАТЕЛЬНЫЕ ПРОЕКТЫ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ОНСТРУКТИВНЫЕ ПРОЕКТЫ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147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дин из  проектов, реализованных в средней группе учащихся, носил название "Посещение дома мистера Смитса для выяснения причины тифозных заболеваний"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одуктом по этому проекту стал содержательный "Доклад о причинах тифозных заболеваний", направленный детьми хозяину дома. Как отмечается, мистер Смитс принял "Доклад" доброжелательно и выполнил почти все рекомендации детей. Вот выдержки из этого "Доклада"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...Мы полагаем, что муха явилась главной причиной тифозных заболеваний, и рекомендуем вам нижеследующие средства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1. Вставление сеток в окна и дверные проемы (следует подробнее вычисление необходимого количества сетки и расчет стоимости)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. Очистка двора от всякого сора и отбросов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3. Перемещение свиного хлева на более отдаленное расстояние от дома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4. Хранение всех отбросов в ведрах с крышками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5. Употребление мухоловок и других способов борьбы с мухой в течение холодных и теплых времен года... Мы посылаем вам одну из наших больших мухоловок и помойное ведро с крышкой... Мы выписали для вас из Миссурийского университета брошюру под заголовком "Муха"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2349000"/>
            <a:ext cx="86868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оветская педагогика 1920-х гг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7:50:16Z</dcterms:created>
  <dc:creator>Ольга</dc:creator>
  <dc:description/>
  <dc:language>en-US</dc:language>
  <cp:lastModifiedBy>Olga</cp:lastModifiedBy>
  <dcterms:modified xsi:type="dcterms:W3CDTF">2011-08-25T03:14:51Z</dcterms:modified>
  <cp:revision>9</cp:revision>
  <dc:subject/>
  <dc:title>“Использование метода проектов на уроках  “Технологии”  в школе” </dc:title>
</cp:coreProperties>
</file>