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3E9-16BA-4F74-924A-52C31AD0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12C-8AF9-41FE-815A-4DBB45F6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06E-6DE7-4E6C-BBAF-403BCA05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E77-8155-499C-B9E0-5A546B79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1B66-734B-462B-871F-1611B1DD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1164-66CD-4C57-BC1C-7570824B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D332-FD65-475E-AAF4-1186C455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E911-6E09-4AC3-987D-2524C188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C4FA-49C3-4848-BC27-4F1E34C3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293F-1A0F-43C4-8737-4353963A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E49E-EB5A-4633-9820-BB89657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310-2807-46E0-8761-898C0298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6040-F938-4D0B-919A-EE77D7C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A936-2FCE-4EFD-BA60-E25D1BAA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1538-2248-4A58-9904-392CEBEB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4DF0-126F-4BE9-875F-C9E0D80C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74D9-B3CF-4DC7-8A20-0C46C2F8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1B16-23DB-409D-92D0-39DBA901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7FF5-9B90-4022-8366-458BC0A3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3A25-F066-4F07-B03D-96E21A3F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29B9-632E-4D9F-80F2-3886CFA8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9524-8064-4191-8ACC-86D12966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C8A-FF2F-4B76-80D2-D6AE99E2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217B-952A-480C-A309-6DB2DE0C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C48A-44D7-4754-BC8D-2B58FF4F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BBA0-4997-444A-B943-09BCD866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8F71-6EA5-4E21-8221-7A256FD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C1B1-CB05-42E4-AEAC-A81509DA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22D7-020A-40A1-B6FA-D89FCBC8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FC47-EB35-4AED-B1BB-472EC58D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EC8A-69FD-4177-B5E9-B67F19DC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4723-8026-4EC4-8724-1AB7CE70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F4F9-80D4-4B6C-A2EF-5C05D165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5CA-D3B7-4278-9A1B-B8265173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BE2A-5872-4EA8-98DC-938A3A75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52D97-FA71-4586-B801-25B97CA4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1D63-73E0-41D5-AB03-CE284AE2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4F25-5B09-47F7-BF1E-B991868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D4BC-145A-47FA-97C4-B6D5FF0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F1D2-0808-4193-8ACD-162D9FD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7D852-D015-4D17-B332-21F96E2D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CE23-FDD0-45D1-934D-AFA750F8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672D-6862-44BD-86CF-6D97E94B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3797-BF3C-4038-AEC4-28CB8EF6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34C-EC38-400C-9C1F-0282E209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3AE46-1C37-4F40-9BF2-917663CF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7FBDC-3896-4294-AFB9-3301A3DE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475C-A40F-4D87-8553-633CC07F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278B6-5FAB-4DD4-852F-F3AB4841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9C77E-50D6-4CDB-AE1C-47E2293A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BC6E-367B-41F5-A17E-888FCC0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5FEAC-8A15-44FA-A2C7-BB185B76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9732-5AA6-48B0-AB94-167EB084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C4C99-5545-4BA7-8C24-A4E5F8BA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3E564-EC1E-4B4B-AA63-05BEE307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E91-452C-4A27-8505-187FA811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71576-70A4-43E5-9797-F7FA0585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D3810-D4B7-44B3-8703-467A0E4A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6823-76CE-4890-AD1D-A03E93D1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25E9F-C29B-4BD6-AC88-84E47AA4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C992B-9F2B-4A25-B461-CBD5BE85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2D0AF-2F18-49F8-9BC2-CBB2236A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834C-DB9C-471A-85B8-044A56EF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4EC14-4CFD-4788-ADF9-CBB4CF4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1178-45AE-4F00-82F6-2FF4060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4759-F1A3-4C3C-8B4C-4CC54BE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279-312A-4A5D-A3D4-E6EA67ED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887FC-47A8-49B3-A9EA-CC517A5D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12C20-58D8-4FC4-8F54-BC166897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77BCB-18D1-4C45-A8EF-89A15CA9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8485-F1FA-4767-99F1-48433890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E69C-CD27-4B4C-9B34-9153A408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F8E8C-BE90-4566-99FA-AD8241AC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AAD3B-6E68-49A2-A71D-166D13F5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1B04D-816B-478F-90A2-32DBEA1E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B76D6-964C-4EC4-A2A2-1A28AB5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ABF4B-EA3E-42F7-B045-EE643AD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870-B821-4216-B474-AC2C0B0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DF80D-5660-435C-93F4-A2DAD357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1D59-4A29-4B76-995A-8476589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B054B-920A-4F39-9C85-2EB0108D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4AA3F-8D43-411D-B4E9-2BF33113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26CEA-65CB-4DAB-8190-619F5DAC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10123-98E5-4651-A15F-BAE3FB7D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94159-EA38-4372-B4F2-6610E228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9C46B-25F0-45C8-8499-11475563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F19E9-F8AC-4014-AF4E-B0A7AB69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E3330-F43F-4DAF-BC9C-A8C16922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6B0-3B83-440B-916A-07F96DED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16B2E-E18E-4468-B4B1-E4D9FC86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76F85-A269-48EF-8060-F2B0ADFC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928F6-FB66-4EAB-B826-657F074A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973CE-BB65-4E88-AA11-587B815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926DC-2319-4BEE-A003-C6CFDE1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D1027-9D4E-46DB-AD04-B921718A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BD394-4B24-4609-9D82-4A4CCF98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A09C-C904-4440-9517-0755F21E3DC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D21-C30E-4D4A-A66C-03410DDFD07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21B7-A682-4800-9563-DEEC6CCA544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A56D-E3FA-4B4C-8B81-8AD9CCC7410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442-9976-446F-A468-07ECC3E5F3B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3087-7CBD-4582-A018-FFE9C26DA63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1E38-36D2-4177-9AC9-4EBDC334E1E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57D0-62BF-42F7-A5FD-45187DC2A56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2006-03.photosight.ru/22/1336874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hyperlink" Target="http://img-2006-03.photosight.ru/22/1336874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Картинка 10 из 14911"/>
          <p:cNvPicPr/>
          <p:nvPr/>
        </p:nvPicPr>
        <p:blipFill>
          <a:blip r:embed="rId1"/>
          <a:srcRect l="0" t="0" r="0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Заголовок 1" descr=""/>
          <p:cNvPicPr/>
          <p:nvPr/>
        </p:nvPicPr>
        <p:blipFill>
          <a:blip r:embed="rId2"/>
          <a:stretch/>
        </p:blipFill>
        <p:spPr>
          <a:xfrm>
            <a:off x="-23760" y="-6480"/>
            <a:ext cx="7381800" cy="18417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835280" y="3789360"/>
            <a:ext cx="27432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СОШ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7 г.Белгорода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бовая Т.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това Л.А</a:t>
            </a:r>
            <a:r>
              <a:rPr b="1" lang="ru-RU" sz="2200" spc="-1" strike="noStrike">
                <a:solidFill>
                  <a:srgbClr val="227a8f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3"/>
          <p:cNvSpPr/>
          <p:nvPr/>
        </p:nvSpPr>
        <p:spPr>
          <a:xfrm>
            <a:off x="1000080" y="35712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изделий поясной групп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642960" y="1214280"/>
            <a:ext cx="635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и применяемые на уроке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-личностная технология Ш.А.Амонашвил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оллективного взаимообуче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9"/>
          <p:cNvPicPr/>
          <p:nvPr/>
        </p:nvPicPr>
        <p:blipFill>
          <a:blip r:embed="rId1"/>
          <a:stretch/>
        </p:blipFill>
        <p:spPr>
          <a:xfrm>
            <a:off x="4643280" y="1571760"/>
            <a:ext cx="3683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714240" y="4287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понятия мерки, правила снятия мерок с фигу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"/>
          <p:cNvSpPr/>
          <p:nvPr/>
        </p:nvSpPr>
        <p:spPr>
          <a:xfrm>
            <a:off x="500040" y="2143080"/>
            <a:ext cx="47862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применяемая на урок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сотрудничест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3" descr="http://ladies.academ.org/files/u4/nasti/071026_ad_merot.jpg"/>
          <p:cNvPicPr/>
          <p:nvPr/>
        </p:nvPicPr>
        <p:blipFill>
          <a:blip r:embed="rId1"/>
          <a:stretch/>
        </p:blipFill>
        <p:spPr>
          <a:xfrm>
            <a:off x="5857920" y="1643040"/>
            <a:ext cx="2381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571680" y="42876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роение чертежа юбк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539640" y="11970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применяемая на уроке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ноуровнего обуч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4" descr="Картинка 97 из 8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43800" y="428760"/>
            <a:ext cx="2273040" cy="1535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401" name="Picture 7" descr="C:\Мои документы\Дутова\12.gif"/>
          <p:cNvPicPr/>
          <p:nvPr/>
        </p:nvPicPr>
        <p:blipFill>
          <a:blip r:embed="rId3"/>
          <a:stretch/>
        </p:blipFill>
        <p:spPr>
          <a:xfrm>
            <a:off x="3500280" y="2714760"/>
            <a:ext cx="267984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785960" y="357120"/>
            <a:ext cx="55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ирова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714240" y="1214280"/>
            <a:ext cx="657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яемые технологии на урок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-личностная технология Ш.А. Амонашвил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оллективного обуч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Группа 7"/>
          <p:cNvGrpSpPr/>
          <p:nvPr/>
        </p:nvGrpSpPr>
        <p:grpSpPr>
          <a:xfrm>
            <a:off x="1071720" y="3071880"/>
            <a:ext cx="7243560" cy="3198600"/>
            <a:chOff x="1071720" y="3071880"/>
            <a:chExt cx="7243560" cy="3198600"/>
          </a:xfrm>
        </p:grpSpPr>
        <p:pic>
          <p:nvPicPr>
            <p:cNvPr id="405" name="Picture 4" descr=""/>
            <p:cNvPicPr/>
            <p:nvPr/>
          </p:nvPicPr>
          <p:blipFill>
            <a:blip r:embed="rId1"/>
            <a:stretch/>
          </p:blipFill>
          <p:spPr>
            <a:xfrm>
              <a:off x="5643720" y="3071880"/>
              <a:ext cx="2671560" cy="302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6" name="Группа 6"/>
            <p:cNvGrpSpPr/>
            <p:nvPr/>
          </p:nvGrpSpPr>
          <p:grpSpPr>
            <a:xfrm>
              <a:off x="1071720" y="3340800"/>
              <a:ext cx="4443480" cy="2929680"/>
              <a:chOff x="1071720" y="3340800"/>
              <a:chExt cx="4443480" cy="2929680"/>
            </a:xfrm>
          </p:grpSpPr>
          <p:pic>
            <p:nvPicPr>
              <p:cNvPr id="407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440" y="3357360"/>
                <a:ext cx="2228760" cy="291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1720" y="3340800"/>
                <a:ext cx="1886040" cy="258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09" name="Picture 14" descr="Картинка 97 из 88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3800" y="214200"/>
            <a:ext cx="2273040" cy="15354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142920" y="785880"/>
          <a:ext cx="9001080" cy="608652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3762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адиционный 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ичностно-орирентированный 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208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как нормально построенный процес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 в этом жестко регламентированны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е как индивидуальная деятельность учащегося, её коррекции и педагогическая поддерж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223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 развития зад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не столько задает вектор развития, сколько создает для этого всё необходимые услов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1970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, единая и обязательная для всех линия психического разви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каждому ученику совершенствовать свои индивидуальные способности, развиваться как личность, с учетом имеющегося у него опыта позн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205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 развития строится от обучения к уч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 развития строится от ученика к определению педагогических воздействий, способствующих его развит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7496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формирования личности с заданными свойств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личностного роста, развивая способности к стратегической деятельности, креативность, критичность, смыслотворчество, систему потребностей и мотивов, способности к самоопределению, саморазвитию, позитивную Я-концепц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493560" y="-60480"/>
            <a:ext cx="824256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Картинка 16 из 2295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Картинка 17 из 2295"/>
          <p:cNvPicPr/>
          <p:nvPr/>
        </p:nvPicPr>
        <p:blipFill>
          <a:blip r:embed="rId2"/>
          <a:stretch/>
        </p:blipFill>
        <p:spPr>
          <a:xfrm>
            <a:off x="7358040" y="4357800"/>
            <a:ext cx="1643040" cy="24019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28400" y="1071720"/>
            <a:ext cx="74293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монашвили Ш. А. Личностно-гуманная основа педагогического процесса. - Минск, 1990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ожович Л. И. Личность и ее формирование в детском возрасте. М., 1968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ьяченко В. К. Сотрудничество в обучении. - М., 1990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овые ценности образования: тезаурус для учителей и школьных психологов. - М., 1995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сихологические критерии качества знаний школьников (под рук. И.С.Якиманской). - М., 1990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ан А. А. Психодиагностика личности в педагогическом процессе. - СПб., 1996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ериков В. В. Личностный подход в образовании. - Волгоград, 1994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елевко Г. К. Современные образовательные технологии. - журнал Педагогика, №3 2000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Якиманская И. С. Личностно-ориентированное обучение в современной школе. - М., 1996; изд. 2-е. 200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2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&amp;Kcy;&amp;acy;&amp;rcy;&amp;tcy;&amp;icy;&amp;ncy;&amp;kcy;&amp;acy; 41 &amp;icy;&amp;zcy; 117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642960" y="13572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f0"/>
                </a:solidFill>
                <a:latin typeface="Bookman Old Style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4"/>
          <p:cNvSpPr txBox="1"/>
          <p:nvPr/>
        </p:nvSpPr>
        <p:spPr>
          <a:xfrm>
            <a:off x="900000" y="765000"/>
            <a:ext cx="7486920" cy="199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Умение учителя занять во время урока</a:t>
            </a:r>
            <a:endParaRPr b="1" lang="en-US" sz="72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всех учащихся есть критерий достоинства</a:t>
            </a:r>
            <a:endParaRPr b="1" lang="en-US" sz="72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учителя.</a:t>
            </a:r>
            <a:endParaRPr b="1" lang="en-US" sz="72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763640" y="33577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571680" y="-2448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 личностно ориентированного образования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создание условий для полноценного развития следующих функций индивидуум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человека к 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ыбору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рефлексировать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ценивать свою жизнь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иск 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мысла жизни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ворчество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образа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“Я”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ветственность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 (в соответствии с формулировкой “ Я отвечаю за всё”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втономность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ичности (по мере развития она всё больше освобождается от других факторов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857160" y="870840"/>
            <a:ext cx="70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чностно – ориентированном образовании </a:t>
            </a: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 главное действующее лицо всего образовательного процес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1187280" y="3213000"/>
            <a:ext cx="721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же собой представляет личностно-ориентированный подход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взаимосвязанных понятий, идей, способов действий обеспечивать и поддерживать процессы самопознания, самостроительства и самореализации личности ребенка, развитие его неповторимой индивидуаль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49120" y="122400"/>
            <a:ext cx="85899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убъектного опыта ребенк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я свободы выбора при выполнении заданий и стимулирование к самостоятельному выбор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творчест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база урока – роль педагога заключается в создании условий, чтобы дать каждому ребенку проявить себ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311040" y="49320"/>
            <a:ext cx="84790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ктуализац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успе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е и поддерж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268200" y="-79200"/>
            <a:ext cx="846792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поддерж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ситуации выбора и успех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133200" y="-115920"/>
            <a:ext cx="8560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285840" y="-30240"/>
            <a:ext cx="8424720" cy="16210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3"/>
          <p:cNvSpPr/>
          <p:nvPr/>
        </p:nvSpPr>
        <p:spPr>
          <a:xfrm>
            <a:off x="785880" y="2071800"/>
            <a:ext cx="285732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ТЕХНОЛОГИЯ РАЗНОУРОВН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4"/>
          <p:cNvSpPr/>
          <p:nvPr/>
        </p:nvSpPr>
        <p:spPr>
          <a:xfrm>
            <a:off x="3214800" y="3000240"/>
            <a:ext cx="2714400" cy="98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ТЕХНОЛОГИЯ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5"/>
          <p:cNvSpPr/>
          <p:nvPr/>
        </p:nvSpPr>
        <p:spPr>
          <a:xfrm>
            <a:off x="928800" y="4000680"/>
            <a:ext cx="27003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ТЕХНОЛОГИЯ КОЛЛЕКТИВНОГО ВЗАИМО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6"/>
          <p:cNvSpPr/>
          <p:nvPr/>
        </p:nvSpPr>
        <p:spPr>
          <a:xfrm>
            <a:off x="5500800" y="2071800"/>
            <a:ext cx="292896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ТЕХНЛОЛОГИЯ МОДУЛЬН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кругленный прямоугольник 7"/>
          <p:cNvSpPr/>
          <p:nvPr/>
        </p:nvSpPr>
        <p:spPr>
          <a:xfrm>
            <a:off x="5572080" y="3857760"/>
            <a:ext cx="292896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d37"/>
                </a:solidFill>
                <a:latin typeface="Times New Roman"/>
                <a:ea typeface="Times New Roman"/>
              </a:rPr>
              <a:t>ГУМАННО-ЛИЧНОСТННАЯ ТЕХНЛОЛОГИЯ Ш.А.МОНАШВ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4:00:13Z</dcterms:created>
  <dc:creator>Оксана</dc:creator>
  <dc:description/>
  <dc:language>en-US</dc:language>
  <cp:lastModifiedBy>PC</cp:lastModifiedBy>
  <dcterms:modified xsi:type="dcterms:W3CDTF">2012-08-24T02:55:21Z</dcterms:modified>
  <cp:revision>23</cp:revision>
  <dc:subject/>
  <dc:title>ТЕХНОЛОГИЯ ЛИЧНОСТНО-ОРИЕНТИРОВАННОГО ОБУЧЕНИЯ НА УРОКАХ ТЕХНОЛОГИИ</dc:title>
</cp:coreProperties>
</file>