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36F-CD9E-42FA-A199-C0DE93D3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C3D-6152-4B7F-8430-4E30790D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D3F-65DC-4B2D-94C4-F9E4E16A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880-59B1-4CCF-A1CC-1E730AB3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73DA-BF36-4ED3-8E17-99FB09CA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E553-C352-4610-B77C-E11BE571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D6AB-9846-450D-BFA1-A63E1F97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66AB-9AEE-4B83-8178-B32B296E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0188-631B-4BBB-813E-E93D4AC6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FB23-AD67-451C-B17C-3D894426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31D8-9E50-4A5A-882E-BE8F8BCB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58A-AB81-426C-B49F-383EE7A9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4D7F-C2BB-4BF4-A12D-E73CA50D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4CA6-85A8-42EF-B801-96052439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4696-E72A-41E6-B49D-45F224CC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1EA2-E977-4034-B66E-8DD230B8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0E72-7B50-43E0-90A0-F22626B0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7DD5-92A6-47CB-A845-ADCBFB47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A398-D519-404F-8BA5-3EA7265B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03753-B1C2-4ED8-9F2B-CBA5C9B2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C495F-57DE-4B9E-BB46-EE405506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C9201-07CC-4169-AB32-36064C83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198-A469-4A6B-94B6-78F9206E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3B6A-30BA-4707-A581-61178F75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6BD87-8F1E-42E5-ACA9-DE406A4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C2E4E-1AC5-4753-B745-21002E96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08FA4-6AC7-401C-9304-85DDE91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E5BC-9AA7-43F3-B247-23D94BFA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4E95D-6460-488F-B186-DBDEEC51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96FE-B387-4AE5-A7F8-62C15639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C1848-622A-4712-AB35-FCD60728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1F6C3-8A2D-40AA-B642-7E911A41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F7C39-BB08-493D-9CDE-DF866F7A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093-00BC-4E10-8539-21A82DC5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9BA07-E7C6-4B69-ADA7-8EDD295C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A6686-E440-47D0-966D-03E7CB38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3B33D-69FB-41E0-B1B4-590A7DC4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A3716-D6D4-4E77-89F5-C7590819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55D36-7428-42BE-96FD-C1C14FFD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45092-CC54-4849-9738-D73277C1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0532D-D404-4FF4-8ED6-3DAB04E1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CCA6-F4B3-4584-BBB5-7187A795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32705-41A7-43B8-8361-597C6A42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B907D-F846-4746-82DD-D88B823F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344-943C-4321-A19F-3D8237DA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597AA-FDB8-4AAA-971F-BA318AF7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28275-0FF1-4E46-9789-93D9388A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B0798-C313-426A-9E11-9A8DADAE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DD4CF-A3DA-40ED-97EA-F0BDD72A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272C0-BBC6-46E5-807E-83CBE687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C9A5D-AC92-4A4E-B4C3-A6867E5B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5FB46-E2BA-46B5-9197-9FC7181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C5B12-CAC4-47F8-BD88-17D4DEA1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9AED0-9D98-4D0B-9323-A62146B2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57FC9-2404-44F8-8299-3A2CD401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88A-2022-43C6-BD3A-BDECAC6A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9ECCA-5096-4EC6-B4B9-8235B0BB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8E333-B81E-4028-8E4E-11956B05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1DA60-19C5-4106-9153-922BC240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E3C6F-7AD2-4E5A-8522-46C25E77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DAA28-B00A-4F4A-82B4-CF514FB9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95FD6-71BF-455F-8B0D-93F72376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4EB7A-C76B-4D38-A0CC-9061CFFD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AAF34-1DBA-460D-A72F-84230088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18419-85C0-4854-AC12-D99B77CB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21786-A9E0-45D8-A289-F41E8F08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FE0-7503-425E-B731-94A14DEA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7C179-4F8A-4A38-8B1A-ED5231BF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68CFB-728E-4CC5-A55E-E24518DC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0168E-C767-4A82-B738-BBE9AD3B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8B7A3-5A73-49C0-997D-99579CA2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422C9-3858-40F3-88D8-651A6F97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0F802-6371-415F-AA49-AA47A204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48D26-6073-49E3-81E2-6638282B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56458-AD40-4A9B-871C-B063E100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3FE62-7E3E-445A-A94F-5B0EBD94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EDA53-E7C3-4E3D-82DF-71429772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379-A4E8-4D14-AAAC-6AAE9D21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0EA32-8F8C-41D1-9024-72B1A78A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16703-1DA8-4B9A-A919-17736AF5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DC370-D4EB-4F3D-805B-527BF1F5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860F2-3BBD-4AFE-B79A-645EE82E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70087-307C-4514-8FBA-7445A7B9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B22F2-9FE7-48B5-9CCD-2616430C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1A273-FFE5-4EFE-8B62-E427D631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9A2F6-03E3-4953-B80B-03BAB346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6C348-CF4E-47D7-BAA3-FC9629FD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6CA7D-E58E-47A8-9927-A468B6F2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2DF-6E47-4060-9464-EC7109C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5981A-35E0-465B-B7F9-C14D485F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A7D0F-D207-48FA-9C6C-922649E0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C78BF-6C24-404E-A999-51C5F68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654DF-981F-4D72-9205-2ADD4008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203B4-89C9-4A76-BB5D-F41C1916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17AA1-A3FC-42F7-A338-2DD06A07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24540-0B42-42BB-BE57-877B5660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26D9-2F2A-44FA-9996-012D1510307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06E1-74E4-4B9F-B9DB-D7E5E35E66F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4E98-41D5-4403-B7B0-DCF012A380D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058F-E44F-4076-BE39-E4120F1DF57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7866-8646-4606-9CBF-2A66D69AB88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610-5B95-4074-98AD-03F7B03BA7F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8E82-1EFF-4C1D-9973-F6D6DB4356B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A5D7-CE49-4EB0-B1E0-57B29D8D9E8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-2006-03.photosight.ru/22/1336874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hyperlink" Target="http://img-2006-03.photosight.ru/22/1336874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Картинка 10 из 14911"/>
          <p:cNvPicPr/>
          <p:nvPr/>
        </p:nvPicPr>
        <p:blipFill>
          <a:blip r:embed="rId1"/>
          <a:srcRect l="0" t="0" r="0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Заголовок 1" descr=""/>
          <p:cNvPicPr/>
          <p:nvPr/>
        </p:nvPicPr>
        <p:blipFill>
          <a:blip r:embed="rId2"/>
          <a:stretch/>
        </p:blipFill>
        <p:spPr>
          <a:xfrm>
            <a:off x="-23760" y="-6480"/>
            <a:ext cx="7381800" cy="18417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835280" y="3789360"/>
            <a:ext cx="27432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СОШ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7 г.Белгорода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бовая Т.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това Л.А</a:t>
            </a:r>
            <a:r>
              <a:rPr b="1" lang="ru-RU" sz="2200" spc="-1" strike="noStrike">
                <a:solidFill>
                  <a:srgbClr val="227a8f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3"/>
          <p:cNvSpPr/>
          <p:nvPr/>
        </p:nvSpPr>
        <p:spPr>
          <a:xfrm>
            <a:off x="1000080" y="35712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изделий поясной групп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642960" y="1214280"/>
            <a:ext cx="6357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и применяемые на уроке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но-личностная технология Ш.А.Амонашвил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коллективного взаимообучен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9"/>
          <p:cNvPicPr/>
          <p:nvPr/>
        </p:nvPicPr>
        <p:blipFill>
          <a:blip r:embed="rId1"/>
          <a:stretch/>
        </p:blipFill>
        <p:spPr>
          <a:xfrm>
            <a:off x="4643280" y="1571760"/>
            <a:ext cx="3683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1"/>
          <p:cNvSpPr/>
          <p:nvPr/>
        </p:nvSpPr>
        <p:spPr>
          <a:xfrm>
            <a:off x="714240" y="42876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понятия мерки, правила снятия мерок с фигу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"/>
          <p:cNvSpPr/>
          <p:nvPr/>
        </p:nvSpPr>
        <p:spPr>
          <a:xfrm>
            <a:off x="500040" y="2143080"/>
            <a:ext cx="47862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применяемая на урок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сотрудничест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3" descr="http://ladies.academ.org/files/u4/nasti/071026_ad_merot.jpg"/>
          <p:cNvPicPr/>
          <p:nvPr/>
        </p:nvPicPr>
        <p:blipFill>
          <a:blip r:embed="rId1"/>
          <a:stretch/>
        </p:blipFill>
        <p:spPr>
          <a:xfrm>
            <a:off x="5857920" y="1643040"/>
            <a:ext cx="2381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571680" y="42876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роение чертежа юбк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539640" y="119700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применяемая на уроке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разноуровнего обуч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4" descr="Картинка 97 из 8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43800" y="428760"/>
            <a:ext cx="2273040" cy="15350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401" name="Picture 7" descr="C:\Мои документы\Дутова\12.gif"/>
          <p:cNvPicPr/>
          <p:nvPr/>
        </p:nvPicPr>
        <p:blipFill>
          <a:blip r:embed="rId3"/>
          <a:stretch/>
        </p:blipFill>
        <p:spPr>
          <a:xfrm>
            <a:off x="3500280" y="2714760"/>
            <a:ext cx="267984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1785960" y="357120"/>
            <a:ext cx="55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елировани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"/>
          <p:cNvSpPr/>
          <p:nvPr/>
        </p:nvSpPr>
        <p:spPr>
          <a:xfrm>
            <a:off x="714240" y="1214280"/>
            <a:ext cx="657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яемые технологии на уроке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но-личностная технология Ш.А. Амонашвили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коллективного обуч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Группа 7"/>
          <p:cNvGrpSpPr/>
          <p:nvPr/>
        </p:nvGrpSpPr>
        <p:grpSpPr>
          <a:xfrm>
            <a:off x="1071720" y="3071880"/>
            <a:ext cx="7243560" cy="3198600"/>
            <a:chOff x="1071720" y="3071880"/>
            <a:chExt cx="7243560" cy="3198600"/>
          </a:xfrm>
        </p:grpSpPr>
        <p:pic>
          <p:nvPicPr>
            <p:cNvPr id="405" name="Picture 4" descr=""/>
            <p:cNvPicPr/>
            <p:nvPr/>
          </p:nvPicPr>
          <p:blipFill>
            <a:blip r:embed="rId1"/>
            <a:stretch/>
          </p:blipFill>
          <p:spPr>
            <a:xfrm>
              <a:off x="5643720" y="3071880"/>
              <a:ext cx="2671560" cy="302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6" name="Группа 6"/>
            <p:cNvGrpSpPr/>
            <p:nvPr/>
          </p:nvGrpSpPr>
          <p:grpSpPr>
            <a:xfrm>
              <a:off x="1071720" y="3340800"/>
              <a:ext cx="4443480" cy="2929680"/>
              <a:chOff x="1071720" y="3340800"/>
              <a:chExt cx="4443480" cy="2929680"/>
            </a:xfrm>
          </p:grpSpPr>
          <p:pic>
            <p:nvPicPr>
              <p:cNvPr id="407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6440" y="3357360"/>
                <a:ext cx="2228760" cy="291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1720" y="3340800"/>
                <a:ext cx="1886040" cy="258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09" name="Picture 14" descr="Картинка 97 из 88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3800" y="214200"/>
            <a:ext cx="2273040" cy="15354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142920" y="785880"/>
          <a:ext cx="9001080" cy="608652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37620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радиционный 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ичностно-орирентированный 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9208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как нормально построенный процес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 в этом жестко регламентированны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е как индивидуальная деятельность учащегося, её коррекции и педагогическая поддерж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2232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 развития зад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не столько задает вектор развития, сколько создает для этого всё необходимые услов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19700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, единая и обязательная для всех линия психического разви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каждому ученику совершенствовать свои индивидуальные способности, развиваться как личность, с учетом имеющегося у него опыта позн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2052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 развития строится от обучения к уч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 развития строится от ученика к определению педагогических воздействий, способствующих его развит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74960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 формирования личности с заданными свойств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личностного роста, развивая способности к стратегической деятельности, креативность, критичность, смыслотворчество, систему потребностей и мотивов, способности к самоопределению, саморазвитию, позитивную Я-концепц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493560" y="-60480"/>
            <a:ext cx="824256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Картинка 16 из 2295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2143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Картинка 17 из 2295"/>
          <p:cNvPicPr/>
          <p:nvPr/>
        </p:nvPicPr>
        <p:blipFill>
          <a:blip r:embed="rId2"/>
          <a:stretch/>
        </p:blipFill>
        <p:spPr>
          <a:xfrm>
            <a:off x="7358040" y="4357800"/>
            <a:ext cx="1643040" cy="24019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28400" y="1071720"/>
            <a:ext cx="74293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монашвили Ш. А. Личностно-гуманная основа педагогического процесса. - Минск, 1990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ожович Л. И. Личность и ее формирование в детском возрасте. М., 1968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ьяченко В. К. Сотрудничество в обучении. - М., 1990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овые ценности образования: тезаурус для учителей и школьных психологов. - М., 1995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сихологические критерии качества знаний школьников (под рук. И.С.Якиманской). - М., 1990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ан А. А. Психодиагностика личности в педагогическом процессе. - СПб., 1996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ериков В. В. Личностный подход в образовании. - Волгоград, 1994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елевко Г. К. Современные образовательные технологии. - журнал Педагогика, №3 2000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Якиманская И. С. Личностно-ориентированное обучение в современной школе. - М., 1996; изд. 2-е. 2000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Заголовок 2" descr=""/>
          <p:cNvPicPr/>
          <p:nvPr/>
        </p:nvPicPr>
        <p:blipFill>
          <a:blip r:embed="rId3"/>
          <a:stretch/>
        </p:blipFill>
        <p:spPr>
          <a:xfrm>
            <a:off x="450720" y="249120"/>
            <a:ext cx="824256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&amp;Kcy;&amp;acy;&amp;rcy;&amp;tcy;&amp;icy;&amp;ncy;&amp;kcy;&amp;acy; 41 &amp;icy;&amp;zcy; 117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642960" y="135720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f0"/>
                </a:solidFill>
                <a:latin typeface="Bookman Old Style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WordArt 4"/>
          <p:cNvSpPr txBox="1"/>
          <p:nvPr/>
        </p:nvSpPr>
        <p:spPr>
          <a:xfrm>
            <a:off x="900000" y="765000"/>
            <a:ext cx="7486920" cy="199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2060"/>
                </a:solidFill>
                <a:latin typeface="Times New Roman"/>
              </a:rPr>
              <a:t>Умение учителя занять во время урока</a:t>
            </a:r>
            <a:endParaRPr b="1" lang="en-US" sz="7200" spc="1" strike="noStrike">
              <a:ln w="0">
                <a:noFill/>
              </a:ln>
              <a:solidFill>
                <a:srgbClr val="00206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2060"/>
                </a:solidFill>
                <a:latin typeface="Times New Roman"/>
              </a:rPr>
              <a:t>всех учащихся есть критерий достоинства</a:t>
            </a:r>
            <a:endParaRPr b="1" lang="en-US" sz="7200" spc="1" strike="noStrike">
              <a:ln w="0">
                <a:noFill/>
              </a:ln>
              <a:solidFill>
                <a:srgbClr val="00206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2060"/>
                </a:solidFill>
                <a:latin typeface="Times New Roman"/>
              </a:rPr>
              <a:t>учителя.</a:t>
            </a:r>
            <a:endParaRPr b="1" lang="en-US" sz="7200" spc="1" strike="noStrike">
              <a:ln w="0">
                <a:noFill/>
              </a:ln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763640" y="335772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571680" y="-24480"/>
            <a:ext cx="8001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 личностно ориентированного образования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создание условий для полноценного развития следующих функций индивидуум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ность человека к 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ыбору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рефлексировать,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ценивать свою жизнь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иск 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мысла жизни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ворчество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образа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“Я”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ветственность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 (в соответствии с формулировкой “ Я отвечаю за всё”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автономность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ичности (по мере развития она всё больше освобождается от других факторов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857160" y="870840"/>
            <a:ext cx="70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чностно – ориентированном образовании </a:t>
            </a: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 главное действующее лицо всего образовательного процес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1187280" y="3213000"/>
            <a:ext cx="721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же собой представляет личностно-ориентированный подход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взаимосвязанных понятий, идей, способов действий обеспечивать и поддерживать процессы самопознания, самостроительства и самореализации личности ребенка, развитие его неповторимой индивидуально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249120" y="122400"/>
            <a:ext cx="85899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убъектного опыта ребенк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я свободы выбора при выполнении заданий и стимулирование к самостоятельному выбор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творчест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база урока – роль педагога заключается в создании условий, чтобы дать каждому ребенку проявить себ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311040" y="49320"/>
            <a:ext cx="847908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ктуализац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успе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е и поддерж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268200" y="-79200"/>
            <a:ext cx="846792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вны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поддерж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 ситуации выбора и успех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133200" y="-115920"/>
            <a:ext cx="8560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285840" y="-30240"/>
            <a:ext cx="8424720" cy="1621080"/>
          </a:xfrm>
          <a:prstGeom prst="rect">
            <a:avLst/>
          </a:prstGeom>
          <a:ln w="0">
            <a:noFill/>
          </a:ln>
        </p:spPr>
      </p:pic>
      <p:sp>
        <p:nvSpPr>
          <p:cNvPr id="387" name="Скругленный прямоугольник 3"/>
          <p:cNvSpPr/>
          <p:nvPr/>
        </p:nvSpPr>
        <p:spPr>
          <a:xfrm>
            <a:off x="785880" y="2071800"/>
            <a:ext cx="285732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5400000"/>
          </a:gra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d37"/>
                </a:solidFill>
                <a:latin typeface="Times New Roman"/>
                <a:ea typeface="Times New Roman"/>
              </a:rPr>
              <a:t>ТЕХНОЛОГИЯ РАЗНОУРОВН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4"/>
          <p:cNvSpPr/>
          <p:nvPr/>
        </p:nvSpPr>
        <p:spPr>
          <a:xfrm>
            <a:off x="3214800" y="3000240"/>
            <a:ext cx="2714400" cy="98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5400000"/>
          </a:gra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d37"/>
                </a:solidFill>
                <a:latin typeface="Times New Roman"/>
                <a:ea typeface="Times New Roman"/>
              </a:rPr>
              <a:t>ТЕХНОЛОГИЯ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кругленный прямоугольник 5"/>
          <p:cNvSpPr/>
          <p:nvPr/>
        </p:nvSpPr>
        <p:spPr>
          <a:xfrm>
            <a:off x="928800" y="4000680"/>
            <a:ext cx="270036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5400000"/>
          </a:gra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d37"/>
                </a:solidFill>
                <a:latin typeface="Times New Roman"/>
                <a:ea typeface="Times New Roman"/>
              </a:rPr>
              <a:t>ТЕХНОЛОГИЯ КОЛЛЕКТИВНОГО ВЗАИМО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6"/>
          <p:cNvSpPr/>
          <p:nvPr/>
        </p:nvSpPr>
        <p:spPr>
          <a:xfrm>
            <a:off x="5500800" y="2071800"/>
            <a:ext cx="292896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5400000"/>
          </a:gra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d37"/>
                </a:solidFill>
                <a:latin typeface="Times New Roman"/>
                <a:ea typeface="Times New Roman"/>
              </a:rPr>
              <a:t>ТЕХНЛОЛОГИЯ МОДУЛЬНО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кругленный прямоугольник 7"/>
          <p:cNvSpPr/>
          <p:nvPr/>
        </p:nvSpPr>
        <p:spPr>
          <a:xfrm>
            <a:off x="5572080" y="3857760"/>
            <a:ext cx="292896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5400000"/>
          </a:gra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d37"/>
                </a:solidFill>
                <a:latin typeface="Times New Roman"/>
                <a:ea typeface="Times New Roman"/>
              </a:rPr>
              <a:t>ГУМАННО-ЛИЧНОСТННАЯ ТЕХНЛОЛОГИЯ Ш.А.МОНАШВ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4:00:13Z</dcterms:created>
  <dc:creator>Оксана</dc:creator>
  <dc:description/>
  <dc:language>en-US</dc:language>
  <cp:lastModifiedBy>PC</cp:lastModifiedBy>
  <dcterms:modified xsi:type="dcterms:W3CDTF">2012-08-24T02:55:21Z</dcterms:modified>
  <cp:revision>23</cp:revision>
  <dc:subject/>
  <dc:title>ТЕХНОЛОГИЯ ЛИЧНОСТНО-ОРИЕНТИРОВАННОГО ОБУЧЕНИЯ НА УРОКАХ ТЕХНОЛОГИИ</dc:title>
</cp:coreProperties>
</file>