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02A-2081-4BDF-8C58-6EA3F574C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149D-7BFF-4C0C-B8A0-947632867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595-FD0E-46D2-AB20-A8D8E61E7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36EF-EFD3-40D4-8D7B-2C872D418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BFD-7D96-41CB-8924-A26E314FC8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1A4-571B-47B8-9FD7-2D71422B4B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D635-19A3-4182-8296-EBC1AA044E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2D1-3AFD-4587-8804-2006B9CA4C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CA6-359A-4F75-9284-9A2CED3C9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8A3D-CC92-4FC7-B9B8-4AE28011F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9725-1066-41F8-A0EB-DFE3B634FA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885-851D-4BF4-B304-1A78A8014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546-59B2-480E-9E2D-CB0710552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04DA-D427-421F-AB04-85B4698BD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6AF8-E7CB-4681-98D9-0B2354042D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4DC4-6494-44CB-B5F9-866BEBFC1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F4A6-B911-46D9-BD92-02C64A47C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B08-A113-41CC-9A92-6C9592F27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25C6-08A8-4DCE-83FD-60FD97B4A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2AA-59EC-4B9B-A604-BD138F54E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2087-CCF0-47A4-B94A-9FBBB06C9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5DF3-71A2-4FC1-8418-C2FFAB804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C9F-B607-443A-AC9F-7835C9D3B7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CA98-E91F-458A-BF12-08EEB65D8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2A6-3ABD-4D61-848C-9BA70B003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CC9-70EB-4B2C-9DD3-03E7F4EA4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0BB0-F495-4F8D-98CC-168BED93E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E86D-19ED-48B0-A0E1-F8BF69D7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8F27-E854-4B40-9A04-59BC1F46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535D-FB6C-497F-9771-C1D12201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7314-D943-497E-A459-B881685E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C38F-7C3C-4C07-B3CB-58ED5FC9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502-99BA-4726-B4E8-EBC9CF2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6E4-AC38-4C2A-9C0C-791DF4A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0324-2591-4B72-B740-3C02ADE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9BAD-603D-49DB-A9EE-93E1591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AD3F-660C-422A-A21F-CB44851F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BBE5-CFCF-4551-B025-CCAD12E2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C743-2117-40EF-B29E-4545C188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482-6228-482B-B9CA-C3D56C0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979A-A001-44CD-BED9-96AAB2E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7CB7-18B8-4EE1-BCD1-7F25582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0DE-C10D-435D-B075-0A9B3D4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2BC3-A66E-4F6A-8268-D2B24694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CB4B-6241-4E3B-9C9F-165F00B2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BFBC-2CE4-400C-8B65-FE090FC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A33B-7423-4FC0-8273-F131572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C77B5-CF4A-4AF4-AD52-9EF120F5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44B8-89E9-4004-9C13-B1BC2E0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2F59-1070-4396-9500-C7339A8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1DB51-93D7-4C2B-BF4A-61A64DD9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E76-95A5-419D-BE90-A914D84264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7B2-D463-413C-81A6-DEBE115858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139240" cy="421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omic Sans MS"/>
              </a:rPr>
              <a:t>Новые учебники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для основного общего образования, соответствующие требованиям Федерального государственного образовательного станда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ФГОС ООО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щенко Алексей Тимофее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тор технических наук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143840" y="21420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0"/>
          <p:cNvSpPr/>
          <p:nvPr/>
        </p:nvSpPr>
        <p:spPr>
          <a:xfrm>
            <a:off x="898560" y="25560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Межпредметные связи при изучении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28"/>
          <p:cNvSpPr/>
          <p:nvPr/>
        </p:nvSpPr>
        <p:spPr>
          <a:xfrm>
            <a:off x="214200" y="2286000"/>
            <a:ext cx="1928880" cy="19288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9"/>
          <p:cNvSpPr/>
          <p:nvPr/>
        </p:nvSpPr>
        <p:spPr>
          <a:xfrm>
            <a:off x="2500200" y="2643120"/>
            <a:ext cx="1714680" cy="17146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6"/>
          <p:cNvSpPr/>
          <p:nvPr/>
        </p:nvSpPr>
        <p:spPr>
          <a:xfrm>
            <a:off x="4429080" y="3214800"/>
            <a:ext cx="2714760" cy="3429000"/>
          </a:xfrm>
          <a:custGeom>
            <a:avLst/>
            <a:gdLst>
              <a:gd name="textAreaLeft" fmla="*/ 132480 w 2714760"/>
              <a:gd name="textAreaRight" fmla="*/ 2582280 w 2714760"/>
              <a:gd name="textAreaTop" fmla="*/ 132480 h 3429000"/>
              <a:gd name="textAreaBottom" fmla="*/ 3296520 h 3429000"/>
            </a:gdLst>
            <a:ahLst/>
            <a:rect l="textAreaLeft" t="textAreaTop" r="textAreaRight" b="textAreaBottom"/>
            <a:pathLst>
              <a:path w="21600" h="27282">
                <a:moveTo>
                  <a:pt x="3600" y="0"/>
                </a:moveTo>
                <a:arcTo wR="3600" hR="3600" stAng="16200000" swAng="-5400000"/>
                <a:lnTo>
                  <a:pt x="0" y="23682"/>
                </a:lnTo>
                <a:arcTo wR="3600" hR="3600" stAng="10800000" swAng="-5400000"/>
                <a:lnTo>
                  <a:pt x="18000" y="272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37"/>
          <p:cNvSpPr/>
          <p:nvPr/>
        </p:nvSpPr>
        <p:spPr>
          <a:xfrm>
            <a:off x="7286760" y="3071880"/>
            <a:ext cx="1643040" cy="2643120"/>
          </a:xfrm>
          <a:custGeom>
            <a:avLst/>
            <a:gdLst>
              <a:gd name="textAreaLeft" fmla="*/ 79920 w 1643040"/>
              <a:gd name="textAreaRight" fmla="*/ 1563120 w 1643040"/>
              <a:gd name="textAreaTop" fmla="*/ 79920 h 2643120"/>
              <a:gd name="textAreaBottom" fmla="*/ 2563200 h 2643120"/>
            </a:gdLst>
            <a:ahLst/>
            <a:rect l="textAreaLeft" t="textAreaTop" r="textAreaRight" b="textAreaBottom"/>
            <a:pathLst>
              <a:path w="21600" h="34745">
                <a:moveTo>
                  <a:pt x="3600" y="0"/>
                </a:moveTo>
                <a:arcTo wR="3600" hR="3600" stAng="16200000" swAng="-5400000"/>
                <a:lnTo>
                  <a:pt x="0" y="31145"/>
                </a:lnTo>
                <a:arcTo wR="3600" hR="3600" stAng="10800000" swAng="-5400000"/>
                <a:lnTo>
                  <a:pt x="18000" y="347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8"/>
          <p:cNvSpPr/>
          <p:nvPr/>
        </p:nvSpPr>
        <p:spPr>
          <a:xfrm>
            <a:off x="357120" y="2428920"/>
            <a:ext cx="171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полнение расчётных операций, проведение графических постро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2571840" y="2786040"/>
            <a:ext cx="16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учение свойств конструкци-он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0"/>
          <p:cNvSpPr/>
          <p:nvPr/>
        </p:nvSpPr>
        <p:spPr>
          <a:xfrm>
            <a:off x="4643280" y="3143160"/>
            <a:ext cx="235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учение механических свойств материалов, устройства и принципов работы машин, механизмов, приборов, изучение видов современ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7286760" y="3357720"/>
            <a:ext cx="1571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ение технологий художественно-прикладной обработки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низ 42"/>
          <p:cNvSpPr/>
          <p:nvPr/>
        </p:nvSpPr>
        <p:spPr>
          <a:xfrm>
            <a:off x="928800" y="171468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43"/>
          <p:cNvSpPr/>
          <p:nvPr/>
        </p:nvSpPr>
        <p:spPr>
          <a:xfrm>
            <a:off x="3071880" y="207180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низ 44"/>
          <p:cNvSpPr/>
          <p:nvPr/>
        </p:nvSpPr>
        <p:spPr>
          <a:xfrm>
            <a:off x="7786800" y="257184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45"/>
          <p:cNvSpPr/>
          <p:nvPr/>
        </p:nvSpPr>
        <p:spPr>
          <a:xfrm>
            <a:off x="5500800" y="278604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46"/>
          <p:cNvSpPr/>
          <p:nvPr/>
        </p:nvSpPr>
        <p:spPr>
          <a:xfrm>
            <a:off x="142920" y="785880"/>
            <a:ext cx="200016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7"/>
          <p:cNvSpPr/>
          <p:nvPr/>
        </p:nvSpPr>
        <p:spPr>
          <a:xfrm>
            <a:off x="285840" y="928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алгеброй и геомет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48"/>
          <p:cNvSpPr/>
          <p:nvPr/>
        </p:nvSpPr>
        <p:spPr>
          <a:xfrm>
            <a:off x="2357280" y="1143000"/>
            <a:ext cx="171468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9"/>
          <p:cNvSpPr/>
          <p:nvPr/>
        </p:nvSpPr>
        <p:spPr>
          <a:xfrm>
            <a:off x="2500200" y="14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хи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50"/>
          <p:cNvSpPr/>
          <p:nvPr/>
        </p:nvSpPr>
        <p:spPr>
          <a:xfrm>
            <a:off x="4786200" y="1857240"/>
            <a:ext cx="185760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2"/>
          <p:cNvSpPr/>
          <p:nvPr/>
        </p:nvSpPr>
        <p:spPr>
          <a:xfrm>
            <a:off x="5072040" y="21430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физ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52"/>
          <p:cNvSpPr/>
          <p:nvPr/>
        </p:nvSpPr>
        <p:spPr>
          <a:xfrm>
            <a:off x="6929280" y="1643040"/>
            <a:ext cx="200052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4"/>
          <p:cNvSpPr/>
          <p:nvPr/>
        </p:nvSpPr>
        <p:spPr>
          <a:xfrm>
            <a:off x="7072200" y="17859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историей и искус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24"/>
          <p:cNvSpPr/>
          <p:nvPr/>
        </p:nvSpPr>
        <p:spPr>
          <a:xfrm>
            <a:off x="285840" y="6000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низ 25"/>
          <p:cNvSpPr/>
          <p:nvPr/>
        </p:nvSpPr>
        <p:spPr>
          <a:xfrm>
            <a:off x="1714680" y="5357880"/>
            <a:ext cx="428400" cy="5713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вал 30"/>
          <p:cNvSpPr/>
          <p:nvPr/>
        </p:nvSpPr>
        <p:spPr>
          <a:xfrm>
            <a:off x="857160" y="4429080"/>
            <a:ext cx="2286000" cy="928800"/>
          </a:xfrm>
          <a:prstGeom prst="ellipse">
            <a:avLst/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9"/>
          <p:cNvSpPr/>
          <p:nvPr/>
        </p:nvSpPr>
        <p:spPr>
          <a:xfrm>
            <a:off x="928800" y="44290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русским языком и литер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2"/>
          <p:cNvSpPr/>
          <p:nvPr/>
        </p:nvSpPr>
        <p:spPr>
          <a:xfrm>
            <a:off x="428760" y="6000840"/>
            <a:ext cx="30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речи, работа с тек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1"/>
          <p:cNvSpPr/>
          <p:nvPr/>
        </p:nvSpPr>
        <p:spPr>
          <a:xfrm>
            <a:off x="421488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BBC4-A562-40C1-A78D-0BB76612422A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Line 8"/>
          <p:cNvSpPr/>
          <p:nvPr/>
        </p:nvSpPr>
        <p:spPr>
          <a:xfrm>
            <a:off x="31240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500040" y="4287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Критерии выбора материалов для новых учеб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5"/>
          <p:cNvSpPr/>
          <p:nvPr/>
        </p:nvSpPr>
        <p:spPr>
          <a:xfrm>
            <a:off x="1071720" y="2286000"/>
            <a:ext cx="7858080" cy="78588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6"/>
          <p:cNvSpPr/>
          <p:nvPr/>
        </p:nvSpPr>
        <p:spPr>
          <a:xfrm>
            <a:off x="1071720" y="3214800"/>
            <a:ext cx="7858080" cy="64296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17"/>
          <p:cNvSpPr/>
          <p:nvPr/>
        </p:nvSpPr>
        <p:spPr>
          <a:xfrm>
            <a:off x="1071720" y="4786200"/>
            <a:ext cx="7786440" cy="78588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1071720" y="5715000"/>
            <a:ext cx="7786440" cy="92880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9"/>
          <p:cNvSpPr/>
          <p:nvPr/>
        </p:nvSpPr>
        <p:spPr>
          <a:xfrm>
            <a:off x="1071720" y="1428840"/>
            <a:ext cx="7858080" cy="71424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1143000" y="14288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спространённость изучаемых технологий и орудий тр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сфере промышленного производства, домашнего 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1"/>
          <p:cNvSpPr/>
          <p:nvPr/>
        </p:nvSpPr>
        <p:spPr>
          <a:xfrm>
            <a:off x="1143000" y="23572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озможность освоения содержания на основе включения учащихся в разнообразные виды технологи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1143000" y="32148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бор объектов созидательной и преобразовательной деятельности на основе изучения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1143000" y="4857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глядное представление методов и средств осуществления технологически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4"/>
          <p:cNvSpPr/>
          <p:nvPr/>
        </p:nvSpPr>
        <p:spPr>
          <a:xfrm>
            <a:off x="1143000" y="5715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озможность познавательного, интеллектуального, творческого, духовно-нравственного, эстет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физического развити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25"/>
          <p:cNvSpPr/>
          <p:nvPr/>
        </p:nvSpPr>
        <p:spPr>
          <a:xfrm>
            <a:off x="428760" y="171468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6"/>
          <p:cNvSpPr/>
          <p:nvPr/>
        </p:nvSpPr>
        <p:spPr>
          <a:xfrm>
            <a:off x="285840" y="1000080"/>
            <a:ext cx="142920" cy="52149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право 27"/>
          <p:cNvSpPr/>
          <p:nvPr/>
        </p:nvSpPr>
        <p:spPr>
          <a:xfrm>
            <a:off x="428760" y="257184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28"/>
          <p:cNvSpPr/>
          <p:nvPr/>
        </p:nvSpPr>
        <p:spPr>
          <a:xfrm>
            <a:off x="428760" y="421488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право 29"/>
          <p:cNvSpPr/>
          <p:nvPr/>
        </p:nvSpPr>
        <p:spPr>
          <a:xfrm>
            <a:off x="428760" y="50007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право 30"/>
          <p:cNvSpPr/>
          <p:nvPr/>
        </p:nvSpPr>
        <p:spPr>
          <a:xfrm>
            <a:off x="285840" y="607212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1"/>
          <p:cNvSpPr/>
          <p:nvPr/>
        </p:nvSpPr>
        <p:spPr>
          <a:xfrm>
            <a:off x="1071720" y="4000680"/>
            <a:ext cx="7858080" cy="642600"/>
          </a:xfrm>
          <a:prstGeom prst="rect">
            <a:avLst/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2"/>
          <p:cNvSpPr/>
          <p:nvPr/>
        </p:nvSpPr>
        <p:spPr>
          <a:xfrm>
            <a:off x="1143000" y="400068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озможность реализации общетрудовой и практической направлен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33"/>
          <p:cNvSpPr/>
          <p:nvPr/>
        </p:nvSpPr>
        <p:spPr>
          <a:xfrm>
            <a:off x="428760" y="342900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омер слайда 1"/>
          <p:cNvSpPr/>
          <p:nvPr/>
        </p:nvSpPr>
        <p:spPr>
          <a:xfrm>
            <a:off x="435780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78F4-DB5A-4DF2-8FE7-E99315D07928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107172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ворческие проекты по технологии для 5-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6" descr=""/>
          <p:cNvPicPr/>
          <p:nvPr/>
        </p:nvPicPr>
        <p:blipFill>
          <a:blip r:embed="rId3"/>
          <a:stretch/>
        </p:blipFill>
        <p:spPr>
          <a:xfrm>
            <a:off x="571680" y="3286080"/>
            <a:ext cx="1380960" cy="905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7" descr=""/>
          <p:cNvPicPr/>
          <p:nvPr/>
        </p:nvPicPr>
        <p:blipFill>
          <a:blip r:embed="rId4"/>
          <a:stretch/>
        </p:blipFill>
        <p:spPr>
          <a:xfrm>
            <a:off x="285840" y="4500720"/>
            <a:ext cx="2324160" cy="1942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8" descr=""/>
          <p:cNvPicPr/>
          <p:nvPr/>
        </p:nvPicPr>
        <p:blipFill>
          <a:blip r:embed="rId5"/>
          <a:stretch/>
        </p:blipFill>
        <p:spPr>
          <a:xfrm>
            <a:off x="2643120" y="1714680"/>
            <a:ext cx="208620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9" descr=""/>
          <p:cNvPicPr/>
          <p:nvPr/>
        </p:nvPicPr>
        <p:blipFill>
          <a:blip r:embed="rId6"/>
          <a:stretch/>
        </p:blipFill>
        <p:spPr>
          <a:xfrm>
            <a:off x="3000240" y="3214800"/>
            <a:ext cx="1533600" cy="1447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7"/>
          <a:stretch/>
        </p:blipFill>
        <p:spPr>
          <a:xfrm>
            <a:off x="3000240" y="4714920"/>
            <a:ext cx="1667160" cy="1695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8"/>
          <a:stretch/>
        </p:blipFill>
        <p:spPr>
          <a:xfrm>
            <a:off x="5143680" y="1785960"/>
            <a:ext cx="1533240" cy="2162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2" descr=""/>
          <p:cNvPicPr/>
          <p:nvPr/>
        </p:nvPicPr>
        <p:blipFill>
          <a:blip r:embed="rId9"/>
          <a:stretch/>
        </p:blipFill>
        <p:spPr>
          <a:xfrm>
            <a:off x="5000760" y="4500720"/>
            <a:ext cx="19047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" descr=""/>
          <p:cNvPicPr/>
          <p:nvPr/>
        </p:nvPicPr>
        <p:blipFill>
          <a:blip r:embed="rId10"/>
          <a:stretch/>
        </p:blipFill>
        <p:spPr>
          <a:xfrm>
            <a:off x="6929280" y="1714680"/>
            <a:ext cx="1819440" cy="1590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4" descr=""/>
          <p:cNvPicPr/>
          <p:nvPr/>
        </p:nvPicPr>
        <p:blipFill>
          <a:blip r:embed="rId11"/>
          <a:stretch/>
        </p:blipFill>
        <p:spPr>
          <a:xfrm>
            <a:off x="7143840" y="3429000"/>
            <a:ext cx="1609560" cy="771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5" descr=""/>
          <p:cNvPicPr/>
          <p:nvPr/>
        </p:nvPicPr>
        <p:blipFill>
          <a:blip r:embed="rId12"/>
          <a:stretch/>
        </p:blipFill>
        <p:spPr>
          <a:xfrm>
            <a:off x="7358040" y="4643280"/>
            <a:ext cx="1457280" cy="1505160"/>
          </a:xfrm>
          <a:prstGeom prst="rect">
            <a:avLst/>
          </a:prstGeom>
          <a:ln w="0">
            <a:noFill/>
          </a:ln>
        </p:spPr>
      </p:pic>
      <p:sp>
        <p:nvSpPr>
          <p:cNvPr id="271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70EF-F1FE-45B1-A065-975FC106C134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1000080" y="4287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Результаты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системно-деятель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118"/>
          <p:cNvSpPr/>
          <p:nvPr/>
        </p:nvSpPr>
        <p:spPr>
          <a:xfrm>
            <a:off x="142920" y="1785960"/>
            <a:ext cx="4000320" cy="20718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119"/>
          <p:cNvSpPr/>
          <p:nvPr/>
        </p:nvSpPr>
        <p:spPr>
          <a:xfrm>
            <a:off x="4786200" y="1714680"/>
            <a:ext cx="4214880" cy="207144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120"/>
          <p:cNvSpPr/>
          <p:nvPr/>
        </p:nvSpPr>
        <p:spPr>
          <a:xfrm>
            <a:off x="1357200" y="4429080"/>
            <a:ext cx="5929560" cy="17859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трелка вниз 121"/>
          <p:cNvSpPr/>
          <p:nvPr/>
        </p:nvSpPr>
        <p:spPr>
          <a:xfrm rot="2032200">
            <a:off x="2538000" y="12711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трелка вправо 122"/>
          <p:cNvSpPr/>
          <p:nvPr/>
        </p:nvSpPr>
        <p:spPr>
          <a:xfrm rot="2788800">
            <a:off x="5751360" y="13251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трелка вниз 123"/>
          <p:cNvSpPr/>
          <p:nvPr/>
        </p:nvSpPr>
        <p:spPr>
          <a:xfrm>
            <a:off x="4286160" y="1500120"/>
            <a:ext cx="357120" cy="28576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24"/>
          <p:cNvSpPr/>
          <p:nvPr/>
        </p:nvSpPr>
        <p:spPr>
          <a:xfrm>
            <a:off x="214200" y="1857240"/>
            <a:ext cx="385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с основными технологическими понятиями, с назначением и устройством применяемых инструментов, оборудования, с приёмами выполнения технологичес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5"/>
          <p:cNvSpPr/>
          <p:nvPr/>
        </p:nvSpPr>
        <p:spPr>
          <a:xfrm>
            <a:off x="4857840" y="1714680"/>
            <a:ext cx="407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Умение планировать рабо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учётом имеющихся ресурсов, выполнять технологические операции, контролировать качество изготавливаемого изделия, разрабатывать творческий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26"/>
          <p:cNvSpPr/>
          <p:nvPr/>
        </p:nvSpPr>
        <p:spPr>
          <a:xfrm>
            <a:off x="1428840" y="4500720"/>
            <a:ext cx="57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спользование приобретённых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умений в повседневной жизни, для развития творческих способностей, для оформления интерьера, организации трудовой деятельности, оценки затрат, необходи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для создания объекта или усл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716A-4139-4527-A103-A65B312E8EB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Общий алгоритм составления технологической кар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128592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290" name="Номер слайда 1"/>
          <p:cNvSpPr/>
          <p:nvPr/>
        </p:nvSpPr>
        <p:spPr>
          <a:xfrm>
            <a:off x="414324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E69-CF4C-4D24-91E4-0459E178F4FE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1143000" y="428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ер портфолио пятиклас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214280" y="1071720"/>
            <a:ext cx="3305160" cy="5619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4786200" y="1000080"/>
            <a:ext cx="3162240" cy="5705640"/>
          </a:xfrm>
          <a:prstGeom prst="rect">
            <a:avLst/>
          </a:prstGeom>
          <a:ln w="0">
            <a:noFill/>
          </a:ln>
        </p:spPr>
      </p:pic>
      <p:sp>
        <p:nvSpPr>
          <p:cNvPr id="295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D75-A7B7-4828-8DFD-648BD1379C93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1071720" y="3571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Пример сценария презентации портфол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857160" y="1500120"/>
            <a:ext cx="7363080" cy="5086440"/>
          </a:xfrm>
          <a:prstGeom prst="rect">
            <a:avLst/>
          </a:prstGeom>
          <a:ln w="0">
            <a:noFill/>
          </a:ln>
        </p:spPr>
      </p:pic>
      <p:sp>
        <p:nvSpPr>
          <p:cNvPr id="29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0B24-86E9-4CE4-AA89-F1CFE8E3E23D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5"/>
          <p:cNvSpPr/>
          <p:nvPr/>
        </p:nvSpPr>
        <p:spPr>
          <a:xfrm>
            <a:off x="1143000" y="42876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гмент компьютерной презентации портфолио семиклас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371760" cy="53056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3"/>
          <a:stretch/>
        </p:blipFill>
        <p:spPr>
          <a:xfrm>
            <a:off x="4786200" y="1357200"/>
            <a:ext cx="3448080" cy="2724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4"/>
          <a:stretch/>
        </p:blipFill>
        <p:spPr>
          <a:xfrm>
            <a:off x="4714920" y="385776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305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9569-673F-49A7-A11D-D77844149638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214200" y="642960"/>
            <a:ext cx="8572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целостного мировоззрения; проявление познавательной активности; развитие трудолюб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и ответственности за результаты сво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643120" y="22147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214200" y="3357720"/>
            <a:ext cx="214308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5"/>
          <p:cNvSpPr/>
          <p:nvPr/>
        </p:nvSpPr>
        <p:spPr>
          <a:xfrm>
            <a:off x="2428920" y="3571920"/>
            <a:ext cx="2214360" cy="2857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6"/>
          <p:cNvSpPr/>
          <p:nvPr/>
        </p:nvSpPr>
        <p:spPr>
          <a:xfrm>
            <a:off x="4786200" y="3571920"/>
            <a:ext cx="2071800" cy="2857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7000920" y="3357720"/>
            <a:ext cx="2000160" cy="25714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214200" y="37148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правленное стимулирование интереса к предмету при изложении всех разделов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2428920" y="3929040"/>
            <a:ext cx="221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счерпывающее изложение познавательного материала, имеющего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каждом параграфе учеб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4786200" y="3929040"/>
            <a:ext cx="20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Качественное 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учащимися лабораторно-прак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рак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7000920" y="3500280"/>
            <a:ext cx="200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еализация интересных заданий проектного характера, включая име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учеб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трелка вправо 13"/>
          <p:cNvSpPr/>
          <p:nvPr/>
        </p:nvSpPr>
        <p:spPr>
          <a:xfrm rot="1588200">
            <a:off x="6079680" y="2795400"/>
            <a:ext cx="1071720" cy="28548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трелка вправо 14"/>
          <p:cNvSpPr/>
          <p:nvPr/>
        </p:nvSpPr>
        <p:spPr>
          <a:xfrm rot="8853000">
            <a:off x="1850760" y="2765160"/>
            <a:ext cx="107136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трелка вправо 15"/>
          <p:cNvSpPr/>
          <p:nvPr/>
        </p:nvSpPr>
        <p:spPr>
          <a:xfrm rot="6507600">
            <a:off x="3348360" y="2951640"/>
            <a:ext cx="874800" cy="3110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право 16"/>
          <p:cNvSpPr/>
          <p:nvPr/>
        </p:nvSpPr>
        <p:spPr>
          <a:xfrm rot="3634200">
            <a:off x="4914360" y="2945520"/>
            <a:ext cx="874440" cy="311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2570-7312-4A0D-9DED-6C4BAE6DEBCC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6"/>
          <p:cNvSpPr/>
          <p:nvPr/>
        </p:nvSpPr>
        <p:spPr>
          <a:xfrm>
            <a:off x="214200" y="928800"/>
            <a:ext cx="85726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ответственного отношения к учению, готовности к саморазвитию и самообразованию; овладение элементами организации умственного и физическ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2571840" y="242892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6429240" y="3286080"/>
            <a:ext cx="257184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8"/>
          <p:cNvSpPr/>
          <p:nvPr/>
        </p:nvSpPr>
        <p:spPr>
          <a:xfrm>
            <a:off x="6443640" y="3500280"/>
            <a:ext cx="2449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Выполнение заданий творческого характера, позволяющих учащемуся чувствовать себя успешным, стреми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к совершенствованию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трелка вправо 14"/>
          <p:cNvSpPr/>
          <p:nvPr/>
        </p:nvSpPr>
        <p:spPr>
          <a:xfrm rot="6331800">
            <a:off x="3321720" y="31071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7"/>
          <p:cNvSpPr/>
          <p:nvPr/>
        </p:nvSpPr>
        <p:spPr>
          <a:xfrm>
            <a:off x="142920" y="3429000"/>
            <a:ext cx="185724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179280" y="3860640"/>
            <a:ext cx="172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Следование методически выдержанному построению содержания учебников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9"/>
          <p:cNvSpPr/>
          <p:nvPr/>
        </p:nvSpPr>
        <p:spPr>
          <a:xfrm>
            <a:off x="2071800" y="3643200"/>
            <a:ext cx="178596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1979640" y="3933720"/>
            <a:ext cx="201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Пошаговое освоение основных технико-технологических зн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и ум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трелка вправо 11"/>
          <p:cNvSpPr/>
          <p:nvPr/>
        </p:nvSpPr>
        <p:spPr>
          <a:xfrm rot="2959800">
            <a:off x="632196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право 12"/>
          <p:cNvSpPr/>
          <p:nvPr/>
        </p:nvSpPr>
        <p:spPr>
          <a:xfrm rot="7707000">
            <a:off x="2178360" y="28929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E02-5394-497A-9858-4F1CC4C6EBFA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5"/>
          <p:cNvSpPr/>
          <p:nvPr/>
        </p:nvSpPr>
        <p:spPr>
          <a:xfrm>
            <a:off x="4000680" y="3643200"/>
            <a:ext cx="228600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6"/>
          <p:cNvSpPr/>
          <p:nvPr/>
        </p:nvSpPr>
        <p:spPr>
          <a:xfrm>
            <a:off x="4140360" y="3714840"/>
            <a:ext cx="201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Предоставление учащимся большей самостоятельности при проектировании и конструировании объектов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право 17"/>
          <p:cNvSpPr/>
          <p:nvPr/>
        </p:nvSpPr>
        <p:spPr>
          <a:xfrm rot="4250400">
            <a:off x="4750560" y="31071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357120" y="428760"/>
            <a:ext cx="8444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d"/>
                </a:solidFill>
                <a:latin typeface="Comic Sans MS"/>
              </a:rPr>
              <a:t>Учебники технолог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7d"/>
                </a:solidFill>
                <a:latin typeface="Comic Sans MS"/>
              </a:rPr>
              <a:t>для основной школ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928800" y="1643040"/>
            <a:ext cx="135720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6357960" y="1643040"/>
            <a:ext cx="1285920" cy="171468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1"/>
          <a:stretch/>
        </p:blipFill>
        <p:spPr>
          <a:xfrm>
            <a:off x="928800" y="1484280"/>
            <a:ext cx="1357200" cy="1920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19" name="Picture 17" descr=""/>
          <p:cNvPicPr/>
          <p:nvPr/>
        </p:nvPicPr>
        <p:blipFill>
          <a:blip r:embed="rId2"/>
          <a:stretch/>
        </p:blipFill>
        <p:spPr>
          <a:xfrm>
            <a:off x="2714760" y="1500120"/>
            <a:ext cx="1533240" cy="1952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0" name="Picture 18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1441440" cy="2001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1" name="Picture 19" descr=""/>
          <p:cNvPicPr/>
          <p:nvPr/>
        </p:nvPicPr>
        <p:blipFill>
          <a:blip r:embed="rId4"/>
          <a:stretch/>
        </p:blipFill>
        <p:spPr>
          <a:xfrm>
            <a:off x="6372360" y="1484280"/>
            <a:ext cx="1382400" cy="20178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2" name="Picture 20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1260720" cy="1800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3" name="Picture 21" descr=""/>
          <p:cNvPicPr/>
          <p:nvPr/>
        </p:nvPicPr>
        <p:blipFill>
          <a:blip r:embed="rId6"/>
          <a:stretch/>
        </p:blipFill>
        <p:spPr>
          <a:xfrm>
            <a:off x="1692360" y="4005360"/>
            <a:ext cx="1344600" cy="17780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4" name="Picture 22" descr=""/>
          <p:cNvPicPr/>
          <p:nvPr/>
        </p:nvPicPr>
        <p:blipFill>
          <a:blip r:embed="rId7"/>
          <a:stretch/>
        </p:blipFill>
        <p:spPr>
          <a:xfrm>
            <a:off x="3203640" y="4005360"/>
            <a:ext cx="1305000" cy="1790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5" name="Picture 23" descr=""/>
          <p:cNvPicPr/>
          <p:nvPr/>
        </p:nvPicPr>
        <p:blipFill>
          <a:blip r:embed="rId8"/>
          <a:stretch/>
        </p:blipFill>
        <p:spPr>
          <a:xfrm>
            <a:off x="4716360" y="4005360"/>
            <a:ext cx="1295640" cy="17589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6" name="Picture 24" descr=""/>
          <p:cNvPicPr/>
          <p:nvPr/>
        </p:nvPicPr>
        <p:blipFill>
          <a:blip r:embed="rId9"/>
          <a:stretch/>
        </p:blipFill>
        <p:spPr>
          <a:xfrm>
            <a:off x="6227640" y="4005360"/>
            <a:ext cx="1308240" cy="17780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127" name="Picture 25" descr=""/>
          <p:cNvPicPr/>
          <p:nvPr/>
        </p:nvPicPr>
        <p:blipFill>
          <a:blip r:embed="rId10"/>
          <a:stretch/>
        </p:blipFill>
        <p:spPr>
          <a:xfrm>
            <a:off x="7740720" y="4005360"/>
            <a:ext cx="1247760" cy="17715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28" name="Номер слайда 1"/>
          <p:cNvSpPr/>
          <p:nvPr/>
        </p:nvSpPr>
        <p:spPr>
          <a:xfrm>
            <a:off x="414324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856-98D8-401E-81C3-9C0EDF5E6943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DolgenkovaNO\Рабочий стол\логотип ВГ.gif"/>
          <p:cNvPicPr/>
          <p:nvPr/>
        </p:nvPicPr>
        <p:blipFill>
          <a:blip r:embed="rId11"/>
          <a:srcRect l="0" t="0" r="0" b="64445"/>
          <a:stretch/>
        </p:blipFill>
        <p:spPr>
          <a:xfrm>
            <a:off x="7380360" y="33336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6"/>
          <p:cNvSpPr/>
          <p:nvPr/>
        </p:nvSpPr>
        <p:spPr>
          <a:xfrm>
            <a:off x="142920" y="64296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Выбор дальнейшей индивидуальной траектории образования на базе ориентировки в мире профессий, осознание необходимости общественно полезного труда как условия безопасной и эффективной социализации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8"/>
          <p:cNvSpPr/>
          <p:nvPr/>
        </p:nvSpPr>
        <p:spPr>
          <a:xfrm>
            <a:off x="4714920" y="3429000"/>
            <a:ext cx="407196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428760" y="3571920"/>
            <a:ext cx="371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полнение с учащимися  предложенной в учебниках системы заданий, ориентирующих на различные форм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могающих учен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выборе своей индивидуальной образовательной тра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трелка вправо 10"/>
          <p:cNvSpPr/>
          <p:nvPr/>
        </p:nvSpPr>
        <p:spPr>
          <a:xfrm rot="7382400">
            <a:off x="279144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3000240" y="2500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9"/>
          <p:cNvSpPr/>
          <p:nvPr/>
        </p:nvSpPr>
        <p:spPr>
          <a:xfrm>
            <a:off x="428760" y="3429000"/>
            <a:ext cx="378612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5072040" y="3714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учащихся с имеющейся в учебнике  рубрикой «Знаком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 профессиями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которой описано несколько десятков профессий, полезных для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право 12"/>
          <p:cNvSpPr/>
          <p:nvPr/>
        </p:nvSpPr>
        <p:spPr>
          <a:xfrm rot="3135000">
            <a:off x="5659920" y="299988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D4C-0500-4374-B7DD-86A82202297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6"/>
          <p:cNvSpPr/>
          <p:nvPr/>
        </p:nvSpPr>
        <p:spPr>
          <a:xfrm>
            <a:off x="142920" y="64296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умений общаться со сверстниками при коллективном выполнении работ с учётом общности интересов и возможностей членов трудового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42876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335772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6286680" y="3429000"/>
            <a:ext cx="2571480" cy="30002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571680" y="3643200"/>
            <a:ext cx="221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рганизация рабочих групп учащихся для выполнения коллективных заданий и отработки навыков работы в этих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500280" y="3643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Эффективное выполнение  практических работ, отмеч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учебниках значком «работаем в групп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6429240" y="3571920"/>
            <a:ext cx="235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бсуждение результатов коллектив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 публичной презен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защите проекта изделия или продукт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10"/>
          <p:cNvSpPr/>
          <p:nvPr/>
        </p:nvSpPr>
        <p:spPr>
          <a:xfrm rot="7382400">
            <a:off x="2148480" y="2859840"/>
            <a:ext cx="500400" cy="2858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трелка вправо 11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право 12"/>
          <p:cNvSpPr/>
          <p:nvPr/>
        </p:nvSpPr>
        <p:spPr>
          <a:xfrm rot="5400000">
            <a:off x="432180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C54-670E-431F-8AD4-96D38973119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142920" y="642960"/>
            <a:ext cx="85723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5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Проявление технико-технологического и экономического мышления при организации своей деятельности, самооценка готовности к предприниматель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8"/>
          <p:cNvSpPr/>
          <p:nvPr/>
        </p:nvSpPr>
        <p:spPr>
          <a:xfrm>
            <a:off x="428760" y="3286080"/>
            <a:ext cx="257148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9"/>
          <p:cNvSpPr/>
          <p:nvPr/>
        </p:nvSpPr>
        <p:spPr>
          <a:xfrm>
            <a:off x="3286080" y="3286080"/>
            <a:ext cx="257184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0"/>
          <p:cNvSpPr/>
          <p:nvPr/>
        </p:nvSpPr>
        <p:spPr>
          <a:xfrm>
            <a:off x="6143760" y="3286080"/>
            <a:ext cx="2571480" cy="30006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500040" y="3500280"/>
            <a:ext cx="242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ссмот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е только отдельных технологических  операций, но и вариантов их приложения при изготовлении конкретных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2"/>
          <p:cNvSpPr/>
          <p:nvPr/>
        </p:nvSpPr>
        <p:spPr>
          <a:xfrm>
            <a:off x="6215040" y="3786120"/>
            <a:ext cx="235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ценка стоимости изготавливаемых изделий при выполнении итоговых творческих про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3429000" y="350028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бор объектов созидательной и преобразующей деятельности на основе изучения общественных, групповых или  индивидуальных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трелка вправо 14"/>
          <p:cNvSpPr/>
          <p:nvPr/>
        </p:nvSpPr>
        <p:spPr>
          <a:xfrm rot="7382400">
            <a:off x="2219400" y="27882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право 15"/>
          <p:cNvSpPr/>
          <p:nvPr/>
        </p:nvSpPr>
        <p:spPr>
          <a:xfrm rot="5400000">
            <a:off x="432180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право 16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FA9-22A2-42A5-8DD5-B71707785CF7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6"/>
          <p:cNvSpPr/>
          <p:nvPr/>
        </p:nvSpPr>
        <p:spPr>
          <a:xfrm>
            <a:off x="0" y="785880"/>
            <a:ext cx="8572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6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ормирование основ экологической культуры; бережное отношение к природным и хозяйствен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1"/>
          <p:cNvSpPr/>
          <p:nvPr/>
        </p:nvSpPr>
        <p:spPr>
          <a:xfrm>
            <a:off x="2571840" y="22147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357720" y="3357720"/>
            <a:ext cx="242856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6215040" y="3286080"/>
            <a:ext cx="24289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3429000" y="3571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му использованию материалов, инструментов,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6357960" y="3571920"/>
            <a:ext cx="20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ление учащихся с основами экологической культуры, экологией жилища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право 10"/>
          <p:cNvSpPr/>
          <p:nvPr/>
        </p:nvSpPr>
        <p:spPr>
          <a:xfrm rot="7382400">
            <a:off x="2219400" y="27882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11"/>
          <p:cNvSpPr/>
          <p:nvPr/>
        </p:nvSpPr>
        <p:spPr>
          <a:xfrm rot="3097800">
            <a:off x="6291720" y="278856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2"/>
          <p:cNvSpPr/>
          <p:nvPr/>
        </p:nvSpPr>
        <p:spPr>
          <a:xfrm>
            <a:off x="500040" y="3357720"/>
            <a:ext cx="242892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714240" y="3643200"/>
            <a:ext cx="20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школьников с экологосберегающими и безотходными технолог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право 14"/>
          <p:cNvSpPr/>
          <p:nvPr/>
        </p:nvSpPr>
        <p:spPr>
          <a:xfrm rot="5400000">
            <a:off x="4250160" y="28220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1C0-EB5A-4B0F-8D2A-1A8AEBA87A08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Личнос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7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Развитие эстетического сознания через освоение художественного наследия народов России и мира,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творческой деятельности эстетического харак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4"/>
          <p:cNvSpPr/>
          <p:nvPr/>
        </p:nvSpPr>
        <p:spPr>
          <a:xfrm>
            <a:off x="2714760" y="3357720"/>
            <a:ext cx="214308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5"/>
          <p:cNvSpPr/>
          <p:nvPr/>
        </p:nvSpPr>
        <p:spPr>
          <a:xfrm>
            <a:off x="7000920" y="3357720"/>
            <a:ext cx="200016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0"/>
          <p:cNvSpPr/>
          <p:nvPr/>
        </p:nvSpPr>
        <p:spPr>
          <a:xfrm>
            <a:off x="5000760" y="3643200"/>
            <a:ext cx="1857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учащихся с  эстетикой жилища, интерьером жилых по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1"/>
          <p:cNvSpPr/>
          <p:nvPr/>
        </p:nvSpPr>
        <p:spPr>
          <a:xfrm>
            <a:off x="6929280" y="3571920"/>
            <a:ext cx="221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Научить творческому проектированию и изготовлению изделий, имеющих  эстетический внешний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8"/>
          <p:cNvSpPr/>
          <p:nvPr/>
        </p:nvSpPr>
        <p:spPr>
          <a:xfrm>
            <a:off x="214200" y="3357720"/>
            <a:ext cx="235764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9"/>
          <p:cNvSpPr/>
          <p:nvPr/>
        </p:nvSpPr>
        <p:spPr>
          <a:xfrm>
            <a:off x="142920" y="3357720"/>
            <a:ext cx="242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Ознакомление школьников с декоративно-прикладным творчеством на уровне, обеспечивающем эмоциональное восприятие ими дан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5000760" y="3357720"/>
            <a:ext cx="1857240" cy="27860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2714760" y="357192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В процессе собственного и коллективного освоения учащимися  технологий эстетическ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право 12"/>
          <p:cNvSpPr/>
          <p:nvPr/>
        </p:nvSpPr>
        <p:spPr>
          <a:xfrm rot="8167200">
            <a:off x="2077200" y="27874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право 13"/>
          <p:cNvSpPr/>
          <p:nvPr/>
        </p:nvSpPr>
        <p:spPr>
          <a:xfrm rot="2236200">
            <a:off x="6821640" y="27655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 rot="6165600">
            <a:off x="3516480" y="28468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 rot="4200000">
            <a:off x="5326560" y="28548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86D0-E2C7-4191-AF85-976F0038432D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2"/>
          <p:cNvSpPr/>
          <p:nvPr/>
        </p:nvSpPr>
        <p:spPr>
          <a:xfrm>
            <a:off x="285840" y="785880"/>
            <a:ext cx="84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1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Алгоритмизированное планирование процесса познавательно-труд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857680" y="20001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285840" y="2428920"/>
            <a:ext cx="8501040" cy="7858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357120" y="250020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лгоритмическим построением всех технологических процессов, приведенных в учеб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357120" y="3357720"/>
            <a:ext cx="84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Самостоятельная орган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и выполнение творчески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8"/>
          <p:cNvSpPr/>
          <p:nvPr/>
        </p:nvSpPr>
        <p:spPr>
          <a:xfrm>
            <a:off x="285840" y="4500720"/>
            <a:ext cx="8501040" cy="17143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2714760" y="4071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уетс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500040" y="457200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Чётким формулированием и соблюдением этапов работы над проект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поискового (подготовительн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технологическ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заключительного (аналитическо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64A-99AC-4C6C-8C40-2789D18A4D7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14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Проявление инновационного подхода к решению учебных и практических задач в процессе моделирования изделия или технологическ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9"/>
          <p:cNvSpPr/>
          <p:nvPr/>
        </p:nvSpPr>
        <p:spPr>
          <a:xfrm>
            <a:off x="285840" y="335772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ешение ситуационных задач при выполнении практически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9"/>
          <p:cNvSpPr/>
          <p:nvPr/>
        </p:nvSpPr>
        <p:spPr>
          <a:xfrm>
            <a:off x="6786720" y="328608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иск новых решений возникшей технической проблемы, опираясь на прежн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6"/>
          <p:cNvSpPr/>
          <p:nvPr/>
        </p:nvSpPr>
        <p:spPr>
          <a:xfrm>
            <a:off x="214200" y="3071880"/>
            <a:ext cx="192888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6786720" y="3071880"/>
            <a:ext cx="2143080" cy="25002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4286160" y="3500280"/>
            <a:ext cx="2286000" cy="2357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4357800" y="364320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иртуальная разработка технической и технологической документации на персональном компью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286000" y="3500280"/>
            <a:ext cx="1785960" cy="2357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1"/>
          <p:cNvSpPr/>
          <p:nvPr/>
        </p:nvSpPr>
        <p:spPr>
          <a:xfrm>
            <a:off x="2357280" y="3786120"/>
            <a:ext cx="16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иск и накопление учащимися банка проектов и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право 12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право 13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трелка вправо 14"/>
          <p:cNvSpPr/>
          <p:nvPr/>
        </p:nvSpPr>
        <p:spPr>
          <a:xfrm rot="7131600">
            <a:off x="313920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право 15"/>
          <p:cNvSpPr/>
          <p:nvPr/>
        </p:nvSpPr>
        <p:spPr>
          <a:xfrm rot="4038000">
            <a:off x="4979160" y="300096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327-607B-4C12-AD8E-16A5563C0917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сознанно использовать речевые средства в соответствии с задачей коммуникации; отражение в устной или письменной форме результатов свое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2714760" y="3714840"/>
            <a:ext cx="171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ыполнение в письменной форме заданий в рабочей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6929280" y="3143160"/>
            <a:ext cx="20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готовка учащимися доклада в письменной форме к публичной защите творческ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214200" y="3071880"/>
            <a:ext cx="228600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6929280" y="3071880"/>
            <a:ext cx="200052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9"/>
          <p:cNvSpPr/>
          <p:nvPr/>
        </p:nvSpPr>
        <p:spPr>
          <a:xfrm>
            <a:off x="4643280" y="3500280"/>
            <a:ext cx="207180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4643280" y="364320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основание выбора учащимися объекта проектирования и изложение последователь-ности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1"/>
          <p:cNvSpPr/>
          <p:nvPr/>
        </p:nvSpPr>
        <p:spPr>
          <a:xfrm>
            <a:off x="2714760" y="3500280"/>
            <a:ext cx="17143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1"/>
          <p:cNvSpPr/>
          <p:nvPr/>
        </p:nvSpPr>
        <p:spPr>
          <a:xfrm>
            <a:off x="214200" y="314316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ормулирование выводов по обоснованию каких-либо технико-технологических и организационны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право 13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трелка вправо 14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право 15"/>
          <p:cNvSpPr/>
          <p:nvPr/>
        </p:nvSpPr>
        <p:spPr>
          <a:xfrm rot="7131600">
            <a:off x="328212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трелка вправо 16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1814-B7CA-4AA0-81AA-39AF4918E9D5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1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Формирование и развитие компетентности в области использования информационно-коммуник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1"/>
          <p:cNvSpPr/>
          <p:nvPr/>
        </p:nvSpPr>
        <p:spPr>
          <a:xfrm>
            <a:off x="2643120" y="21430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6215040" y="3143160"/>
            <a:ext cx="271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нициировать учащихся на использование дополнительной информации при проектировании и создании объектов, имеющих личностную или общественную знач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214200" y="3071880"/>
            <a:ext cx="2643480" cy="3500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143760" y="3071880"/>
            <a:ext cx="2786040" cy="34290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3286080"/>
            <a:ext cx="2714760" cy="33577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3143160" y="3357720"/>
            <a:ext cx="271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учить учащихся (для решения познавательных и коммуникативных задач) использовать различные источники информации, включая энциклопедии, словари, интернет-ресур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214200" y="314316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ощрять применение учащимися ПК для выполнения учебных заданий и заданий рубрики «Используем компьютер», отмеченных в учебниках специальным зна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трелка вправо 11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Стрелка вправо 12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13"/>
          <p:cNvSpPr/>
          <p:nvPr/>
        </p:nvSpPr>
        <p:spPr>
          <a:xfrm rot="5400000">
            <a:off x="4178880" y="28216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42E0-6DD1-4020-9331-9D370009EF30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5"/>
          <p:cNvSpPr/>
          <p:nvPr/>
        </p:nvSpPr>
        <p:spPr>
          <a:xfrm>
            <a:off x="285840" y="785880"/>
            <a:ext cx="84294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6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рганизовывать учебное сотрудничество и совместную деятельность со сверстниками; объективное оценивание своего вклада в решение общих задач 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2643120" y="3786120"/>
            <a:ext cx="18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давать самооценку выполнен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6929280" y="3143160"/>
            <a:ext cx="20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Эффективно проводить практические работы, требующие выполнения поставленных задач группам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9"/>
          <p:cNvSpPr/>
          <p:nvPr/>
        </p:nvSpPr>
        <p:spPr>
          <a:xfrm>
            <a:off x="214200" y="3143160"/>
            <a:ext cx="2286000" cy="27147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0"/>
          <p:cNvSpPr/>
          <p:nvPr/>
        </p:nvSpPr>
        <p:spPr>
          <a:xfrm>
            <a:off x="6929280" y="3071880"/>
            <a:ext cx="2000520" cy="27144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1"/>
          <p:cNvSpPr/>
          <p:nvPr/>
        </p:nvSpPr>
        <p:spPr>
          <a:xfrm>
            <a:off x="4643280" y="3500280"/>
            <a:ext cx="214344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9"/>
          <p:cNvSpPr/>
          <p:nvPr/>
        </p:nvSpPr>
        <p:spPr>
          <a:xfrm>
            <a:off x="4643280" y="3643200"/>
            <a:ext cx="214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оординировать совместную познавательно-трудовую деятельность учащихся на уро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23"/>
          <p:cNvSpPr/>
          <p:nvPr/>
        </p:nvSpPr>
        <p:spPr>
          <a:xfrm>
            <a:off x="2714760" y="3500280"/>
            <a:ext cx="1714320" cy="25718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250920" y="3573360"/>
            <a:ext cx="232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удовлетворительно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владеть нормами и технико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право 25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право 26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право 27"/>
          <p:cNvSpPr/>
          <p:nvPr/>
        </p:nvSpPr>
        <p:spPr>
          <a:xfrm rot="7131600">
            <a:off x="3282120" y="300240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трелка вправо 28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FDB5-9467-4104-B1B8-02B48E93638D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58"/>
          <p:cNvSpPr/>
          <p:nvPr/>
        </p:nvSpPr>
        <p:spPr>
          <a:xfrm>
            <a:off x="0" y="786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6"/>
          <p:cNvSpPr/>
          <p:nvPr/>
        </p:nvSpPr>
        <p:spPr>
          <a:xfrm>
            <a:off x="642960" y="500040"/>
            <a:ext cx="757224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85880" y="57168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Норматив учебных ча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по технологии в основ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8"/>
          <p:cNvSpPr/>
          <p:nvPr/>
        </p:nvSpPr>
        <p:spPr>
          <a:xfrm>
            <a:off x="785880" y="2071800"/>
            <a:ext cx="7358040" cy="85716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1214280" y="22147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5 класс  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(2 час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0"/>
          <p:cNvSpPr/>
          <p:nvPr/>
        </p:nvSpPr>
        <p:spPr>
          <a:xfrm>
            <a:off x="785880" y="3143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1071720" y="328608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6 класс  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(2 час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b05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24"/>
          <p:cNvSpPr/>
          <p:nvPr/>
        </p:nvSpPr>
        <p:spPr>
          <a:xfrm>
            <a:off x="857160" y="4286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1071720" y="442908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7 класс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(1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7"/>
          <p:cNvSpPr/>
          <p:nvPr/>
        </p:nvSpPr>
        <p:spPr>
          <a:xfrm>
            <a:off x="857160" y="5429160"/>
            <a:ext cx="7358040" cy="857520"/>
          </a:xfrm>
          <a:prstGeom prst="roundRect">
            <a:avLst>
              <a:gd name="adj" fmla="val 16667"/>
            </a:avLst>
          </a:prstGeom>
          <a:solidFill>
            <a:srgbClr val="e8e8f1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214280" y="557208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8 класс 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(1 ча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D909-09C5-43C6-BB5A-D18E6B3F1141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380360" y="260280"/>
            <a:ext cx="24289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75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7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Умение оценивать правильность выполнения учебной задачи, обоснование путей и средств устранения ошибок в выполняемых технологических процес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2571840" y="2357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500200" y="3500280"/>
            <a:ext cx="221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и изучении  всех тем разбирать ошибки, которые могут появляться при реализации учащимися того или иного технологическ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7072200" y="335772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омогать учащимся искать собственные пути решения учебных задач и устранения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6"/>
          <p:cNvSpPr/>
          <p:nvPr/>
        </p:nvSpPr>
        <p:spPr>
          <a:xfrm>
            <a:off x="142920" y="3143160"/>
            <a:ext cx="2214360" cy="28576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7"/>
          <p:cNvSpPr/>
          <p:nvPr/>
        </p:nvSpPr>
        <p:spPr>
          <a:xfrm>
            <a:off x="7072200" y="3071880"/>
            <a:ext cx="1928880" cy="292896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8"/>
          <p:cNvSpPr/>
          <p:nvPr/>
        </p:nvSpPr>
        <p:spPr>
          <a:xfrm>
            <a:off x="4929120" y="3500280"/>
            <a:ext cx="19288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"/>
          <p:cNvSpPr/>
          <p:nvPr/>
        </p:nvSpPr>
        <p:spPr>
          <a:xfrm>
            <a:off x="4929120" y="3714840"/>
            <a:ext cx="192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исправлять допущенные ошибки и устранять дефекты в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изготовленных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ими издел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10"/>
          <p:cNvSpPr/>
          <p:nvPr/>
        </p:nvSpPr>
        <p:spPr>
          <a:xfrm>
            <a:off x="2500200" y="3500280"/>
            <a:ext cx="221472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1"/>
          <p:cNvSpPr/>
          <p:nvPr/>
        </p:nvSpPr>
        <p:spPr>
          <a:xfrm>
            <a:off x="142920" y="3143160"/>
            <a:ext cx="221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учить учащихся диагностировать результаты познавательно-трудовой деятельности по принятым критериям и показа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право 12"/>
          <p:cNvSpPr/>
          <p:nvPr/>
        </p:nvSpPr>
        <p:spPr>
          <a:xfrm rot="8167200">
            <a:off x="2028600" y="2633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13"/>
          <p:cNvSpPr/>
          <p:nvPr/>
        </p:nvSpPr>
        <p:spPr>
          <a:xfrm rot="2338800">
            <a:off x="6606720" y="262584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трелка вправо 14"/>
          <p:cNvSpPr/>
          <p:nvPr/>
        </p:nvSpPr>
        <p:spPr>
          <a:xfrm rot="7131600">
            <a:off x="3424680" y="300240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трелка вправо 15"/>
          <p:cNvSpPr/>
          <p:nvPr/>
        </p:nvSpPr>
        <p:spPr>
          <a:xfrm rot="4038000">
            <a:off x="5264280" y="3001320"/>
            <a:ext cx="500040" cy="2854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23F-4CBF-4C68-9453-9A7251E298F2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491" name="TextBox 2"/>
          <p:cNvSpPr/>
          <p:nvPr/>
        </p:nvSpPr>
        <p:spPr>
          <a:xfrm>
            <a:off x="285840" y="78588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Метапредмет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. Соблюдение норм и правил безопасности познавательно-трудовой деятельности и созидательного труда; соблюдение норм и правил культур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2571840" y="22860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214200" y="3143160"/>
            <a:ext cx="385776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8"/>
          <p:cNvSpPr/>
          <p:nvPr/>
        </p:nvSpPr>
        <p:spPr>
          <a:xfrm>
            <a:off x="4286160" y="3143160"/>
            <a:ext cx="457200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4286160" y="32148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знакомить учащихся с элементами культуры тру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исполнительская дисцип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рациональная организация рабочего ме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необходимая сумма знаний, умений и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овладение алгоритмом пре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- технологическая дисципл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"/>
          <p:cNvSpPr/>
          <p:nvPr/>
        </p:nvSpPr>
        <p:spPr>
          <a:xfrm>
            <a:off x="500040" y="3357720"/>
            <a:ext cx="335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каждом уроке сообщать учащимся правила безопасной работы (они изложены во всех параграфах учебников, где представлена та или иная технология), следить за неукоснительным соблюдением этих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Стрелка вправо 12"/>
          <p:cNvSpPr/>
          <p:nvPr/>
        </p:nvSpPr>
        <p:spPr>
          <a:xfrm rot="7356000">
            <a:off x="2433960" y="27169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Стрелка вправо 15"/>
          <p:cNvSpPr/>
          <p:nvPr/>
        </p:nvSpPr>
        <p:spPr>
          <a:xfrm rot="4038000">
            <a:off x="6122160" y="271512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6451-3D0F-4053-B9C9-12D47E8901D4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2"/>
          <p:cNvSpPr/>
          <p:nvPr/>
        </p:nvSpPr>
        <p:spPr>
          <a:xfrm>
            <a:off x="285840" y="78588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ru-RU" sz="14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1" lang="ru-RU" sz="1400" spc="-1" strike="noStrike">
                <a:solidFill>
                  <a:srgbClr val="cc0000"/>
                </a:solidFill>
                <a:latin typeface="Comic Sans MS"/>
              </a:rPr>
              <a:t>сознание роли техники и технологий для прогрессивного развития общества; формирование целостного представления о техно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1"/>
          <p:cNvSpPr/>
          <p:nvPr/>
        </p:nvSpPr>
        <p:spPr>
          <a:xfrm>
            <a:off x="2571840" y="22860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4"/>
          <p:cNvSpPr/>
          <p:nvPr/>
        </p:nvSpPr>
        <p:spPr>
          <a:xfrm>
            <a:off x="214200" y="3143160"/>
            <a:ext cx="26434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5"/>
          <p:cNvSpPr/>
          <p:nvPr/>
        </p:nvSpPr>
        <p:spPr>
          <a:xfrm>
            <a:off x="6286680" y="3143160"/>
            <a:ext cx="257148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6429240" y="342900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ориентироваться в имеющихся и возможных средствах и технологиях создания объектов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1"/>
          <p:cNvSpPr/>
          <p:nvPr/>
        </p:nvSpPr>
        <p:spPr>
          <a:xfrm>
            <a:off x="214200" y="3214800"/>
            <a:ext cx="2643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и изучении технологий знакомить учащихся с классификацией видов и назначением методов получения и преобразования материалов, энергии, информации,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трелка вправо 8"/>
          <p:cNvSpPr/>
          <p:nvPr/>
        </p:nvSpPr>
        <p:spPr>
          <a:xfrm rot="7356000">
            <a:off x="2005200" y="264528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трелка вправо 9"/>
          <p:cNvSpPr/>
          <p:nvPr/>
        </p:nvSpPr>
        <p:spPr>
          <a:xfrm rot="4038000">
            <a:off x="6693480" y="2643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0"/>
          <p:cNvSpPr/>
          <p:nvPr/>
        </p:nvSpPr>
        <p:spPr>
          <a:xfrm>
            <a:off x="3214800" y="3143160"/>
            <a:ext cx="2500200" cy="3214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2"/>
          <p:cNvSpPr/>
          <p:nvPr/>
        </p:nvSpPr>
        <p:spPr>
          <a:xfrm>
            <a:off x="3429000" y="335772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ить учащихся с  технологиями промышленного производства (по материалам учебников, других источников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трелка вправо 13"/>
          <p:cNvSpPr/>
          <p:nvPr/>
        </p:nvSpPr>
        <p:spPr>
          <a:xfrm rot="5400000">
            <a:off x="4145040" y="2754360"/>
            <a:ext cx="395280" cy="31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C2E6-1520-4194-B5A7-C18CEA94C03B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2"/>
          <p:cNvSpPr/>
          <p:nvPr/>
        </p:nvSpPr>
        <p:spPr>
          <a:xfrm>
            <a:off x="285840" y="642960"/>
            <a:ext cx="8429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У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яснение социальных и экологических последствий развития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1"/>
          <p:cNvSpPr/>
          <p:nvPr/>
        </p:nvSpPr>
        <p:spPr>
          <a:xfrm>
            <a:off x="2556000" y="1700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4"/>
          <p:cNvSpPr/>
          <p:nvPr/>
        </p:nvSpPr>
        <p:spPr>
          <a:xfrm>
            <a:off x="214200" y="2428920"/>
            <a:ext cx="39290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1"/>
          <p:cNvSpPr/>
          <p:nvPr/>
        </p:nvSpPr>
        <p:spPr>
          <a:xfrm>
            <a:off x="4214880" y="2286000"/>
            <a:ext cx="492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знакомить учащихся с негативными последствиями применения некоторых технологий, сформировать у них представления о необходимости охраны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8"/>
          <p:cNvSpPr/>
          <p:nvPr/>
        </p:nvSpPr>
        <p:spPr>
          <a:xfrm rot="7356000">
            <a:off x="2366280" y="1961640"/>
            <a:ext cx="328680" cy="382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трелка вправо 9"/>
          <p:cNvSpPr/>
          <p:nvPr/>
        </p:nvSpPr>
        <p:spPr>
          <a:xfrm rot="2674800">
            <a:off x="6422760" y="189072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0"/>
          <p:cNvSpPr/>
          <p:nvPr/>
        </p:nvSpPr>
        <p:spPr>
          <a:xfrm>
            <a:off x="4214880" y="2286000"/>
            <a:ext cx="478620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3"/>
          <p:cNvSpPr/>
          <p:nvPr/>
        </p:nvSpPr>
        <p:spPr>
          <a:xfrm>
            <a:off x="285840" y="3786120"/>
            <a:ext cx="84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Умение оценивать возможности применения средств и инструментов информационно-коммуникационных технологий (ИКТ) в современном производстве или сфере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4"/>
          <p:cNvSpPr/>
          <p:nvPr/>
        </p:nvSpPr>
        <p:spPr>
          <a:xfrm>
            <a:off x="214200" y="5357880"/>
            <a:ext cx="364356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5"/>
          <p:cNvSpPr/>
          <p:nvPr/>
        </p:nvSpPr>
        <p:spPr>
          <a:xfrm>
            <a:off x="4071960" y="5357880"/>
            <a:ext cx="492912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2714760" y="471492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трелка вправо 17"/>
          <p:cNvSpPr/>
          <p:nvPr/>
        </p:nvSpPr>
        <p:spPr>
          <a:xfrm rot="7356000">
            <a:off x="2502000" y="4903920"/>
            <a:ext cx="362160" cy="373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Стрелка вправо 18"/>
          <p:cNvSpPr/>
          <p:nvPr/>
        </p:nvSpPr>
        <p:spPr>
          <a:xfrm rot="3370800">
            <a:off x="6532560" y="4952880"/>
            <a:ext cx="365400" cy="31104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9"/>
          <p:cNvSpPr/>
          <p:nvPr/>
        </p:nvSpPr>
        <p:spPr>
          <a:xfrm>
            <a:off x="214200" y="53578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вать умения применять технологии представления, преобразования и использова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4000680" y="538020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му использованию технической информации для проектирования и создания объектов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1"/>
          <p:cNvSpPr/>
          <p:nvPr/>
        </p:nvSpPr>
        <p:spPr>
          <a:xfrm>
            <a:off x="142920" y="242892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спознавать экологически чистые материалы и технологии, не наносящие ущерб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C67-8CB4-48CB-8518-5DAFDD4F6C4B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285840" y="57168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(в познаватель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Овладение средствами графического отображения объектов или процессов, правилами выполнения графической докум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1"/>
          <p:cNvSpPr/>
          <p:nvPr/>
        </p:nvSpPr>
        <p:spPr>
          <a:xfrm>
            <a:off x="2571840" y="20718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5"/>
          <p:cNvSpPr/>
          <p:nvPr/>
        </p:nvSpPr>
        <p:spPr>
          <a:xfrm>
            <a:off x="214200" y="2786040"/>
            <a:ext cx="4286520" cy="928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214200" y="27860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бучить учащихся навыкам чтения технической, технологической и инструктивн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трелка вправо 7"/>
          <p:cNvSpPr/>
          <p:nvPr/>
        </p:nvSpPr>
        <p:spPr>
          <a:xfrm rot="7356000">
            <a:off x="2300040" y="233676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трелка вправо 8"/>
          <p:cNvSpPr/>
          <p:nvPr/>
        </p:nvSpPr>
        <p:spPr>
          <a:xfrm rot="4038000">
            <a:off x="6494760" y="231912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9"/>
          <p:cNvSpPr/>
          <p:nvPr/>
        </p:nvSpPr>
        <p:spPr>
          <a:xfrm>
            <a:off x="4643280" y="2786040"/>
            <a:ext cx="4286520" cy="92880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4643280" y="27860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вычерчивать эскизы и чертежи по установленным прави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0" y="4071960"/>
            <a:ext cx="871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5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Ф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рмирование умений устанавливать взаимосвязь знаний по разным учебным предметам для решения учеб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2"/>
          <p:cNvSpPr/>
          <p:nvPr/>
        </p:nvSpPr>
        <p:spPr>
          <a:xfrm>
            <a:off x="214200" y="5429160"/>
            <a:ext cx="414360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4643280" y="542916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1"/>
          <p:cNvSpPr/>
          <p:nvPr/>
        </p:nvSpPr>
        <p:spPr>
          <a:xfrm>
            <a:off x="2643120" y="4786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трелка вправо 15"/>
          <p:cNvSpPr/>
          <p:nvPr/>
        </p:nvSpPr>
        <p:spPr>
          <a:xfrm rot="7356000">
            <a:off x="2359800" y="499500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трелка вправо 16"/>
          <p:cNvSpPr/>
          <p:nvPr/>
        </p:nvSpPr>
        <p:spPr>
          <a:xfrm rot="3370800">
            <a:off x="6548400" y="501156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7"/>
          <p:cNvSpPr/>
          <p:nvPr/>
        </p:nvSpPr>
        <p:spPr>
          <a:xfrm>
            <a:off x="214200" y="542916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Сообщать учащимся о наличии межпредметных связей при рассмотрении практически всех тем учебного предм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8"/>
          <p:cNvSpPr/>
          <p:nvPr/>
        </p:nvSpPr>
        <p:spPr>
          <a:xfrm>
            <a:off x="4643280" y="542916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выполнять элементарные экономические расчёты при работе над творческими про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C78F-CE4E-40E3-8965-253896636559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50" name="TextBox 2"/>
          <p:cNvSpPr/>
          <p:nvPr/>
        </p:nvSpPr>
        <p:spPr>
          <a:xfrm>
            <a:off x="285840" y="714240"/>
            <a:ext cx="8429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00b0f0"/>
                </a:solidFill>
                <a:latin typeface="Comic Sans MS"/>
              </a:rPr>
              <a:t>(в трудов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Овладение методами учебно-исследовательской и проектной деятельности, моделирования, констру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2571840" y="19288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"/>
          <p:cNvSpPr/>
          <p:nvPr/>
        </p:nvSpPr>
        <p:spPr>
          <a:xfrm>
            <a:off x="214200" y="250020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108000" y="2492280"/>
            <a:ext cx="428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Качественное проведение лабораторно-практических работ, изложенных в учебнике и имеющих исследовательски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Стрелка вправо 6"/>
          <p:cNvSpPr/>
          <p:nvPr/>
        </p:nvSpPr>
        <p:spPr>
          <a:xfrm rot="7356000">
            <a:off x="2300040" y="212256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трелка вправо 7"/>
          <p:cNvSpPr/>
          <p:nvPr/>
        </p:nvSpPr>
        <p:spPr>
          <a:xfrm rot="4038000">
            <a:off x="6566040" y="217620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8"/>
          <p:cNvSpPr/>
          <p:nvPr/>
        </p:nvSpPr>
        <p:spPr>
          <a:xfrm>
            <a:off x="4643280" y="250020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4643280" y="25002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именение принципов моделирования и конструирования при выполнении творчески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10"/>
          <p:cNvSpPr/>
          <p:nvPr/>
        </p:nvSpPr>
        <p:spPr>
          <a:xfrm>
            <a:off x="214200" y="5429160"/>
            <a:ext cx="457200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1"/>
          <p:cNvSpPr/>
          <p:nvPr/>
        </p:nvSpPr>
        <p:spPr>
          <a:xfrm>
            <a:off x="5000760" y="5429160"/>
            <a:ext cx="392904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2643120" y="4786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Стрелка вправо 13"/>
          <p:cNvSpPr/>
          <p:nvPr/>
        </p:nvSpPr>
        <p:spPr>
          <a:xfrm rot="7356000">
            <a:off x="2359800" y="499500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трелка вправо 14"/>
          <p:cNvSpPr/>
          <p:nvPr/>
        </p:nvSpPr>
        <p:spPr>
          <a:xfrm rot="3370800">
            <a:off x="6548400" y="501156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5"/>
          <p:cNvSpPr/>
          <p:nvPr/>
        </p:nvSpPr>
        <p:spPr>
          <a:xfrm>
            <a:off x="214200" y="54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ообщать учащимся правила безопасной работы (изложенные в учебниках) при выполнении ими всех технологических приёмов и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6"/>
          <p:cNvSpPr/>
          <p:nvPr/>
        </p:nvSpPr>
        <p:spPr>
          <a:xfrm>
            <a:off x="5000760" y="542916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остоянно контролировать соблюдение учащимися трудовой и технологической дисцип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7"/>
          <p:cNvSpPr/>
          <p:nvPr/>
        </p:nvSpPr>
        <p:spPr>
          <a:xfrm>
            <a:off x="214200" y="407196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С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блюдение норм и правил безопасности труда, пожарной безопасности, правил санитарии и гиги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1A1C-2888-4AC6-92EC-9B679C0D542B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285840" y="571680"/>
            <a:ext cx="842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00b0f0"/>
                </a:solidFill>
                <a:latin typeface="Comic Sans MS"/>
              </a:rPr>
              <a:t>(в трудов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3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Контроль результатов труда по установленным критериям с использованием контрольных и измерительных инстр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2571840" y="1785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4"/>
          <p:cNvSpPr/>
          <p:nvPr/>
        </p:nvSpPr>
        <p:spPr>
          <a:xfrm>
            <a:off x="214200" y="235728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1"/>
          <p:cNvSpPr/>
          <p:nvPr/>
        </p:nvSpPr>
        <p:spPr>
          <a:xfrm>
            <a:off x="4643280" y="23572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обнаруживать и исправлять допущенные дефекты, опираясь на сформулированные критерии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Стрелка вправо 6"/>
          <p:cNvSpPr/>
          <p:nvPr/>
        </p:nvSpPr>
        <p:spPr>
          <a:xfrm rot="7356000">
            <a:off x="2300040" y="190800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Стрелка вправо 7"/>
          <p:cNvSpPr/>
          <p:nvPr/>
        </p:nvSpPr>
        <p:spPr>
          <a:xfrm rot="4038000">
            <a:off x="6423120" y="189036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8"/>
          <p:cNvSpPr/>
          <p:nvPr/>
        </p:nvSpPr>
        <p:spPr>
          <a:xfrm>
            <a:off x="4643280" y="2357280"/>
            <a:ext cx="42865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"/>
          <p:cNvSpPr/>
          <p:nvPr/>
        </p:nvSpPr>
        <p:spPr>
          <a:xfrm>
            <a:off x="214200" y="235728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пользоваться контрольно-измерительными инструментами, необходимыми при изготовлении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0"/>
          <p:cNvSpPr/>
          <p:nvPr/>
        </p:nvSpPr>
        <p:spPr>
          <a:xfrm>
            <a:off x="214200" y="5143680"/>
            <a:ext cx="492948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1"/>
          <p:cNvSpPr/>
          <p:nvPr/>
        </p:nvSpPr>
        <p:spPr>
          <a:xfrm>
            <a:off x="5357880" y="5143680"/>
            <a:ext cx="357192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2643120" y="45720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5"/>
          <p:cNvSpPr/>
          <p:nvPr/>
        </p:nvSpPr>
        <p:spPr>
          <a:xfrm>
            <a:off x="214200" y="5143680"/>
            <a:ext cx="492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качественно выполнять практические задания в рабочей тетради – заполнять таблицы, изготавливать эскизы и чертежи, составлять технологические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6"/>
          <p:cNvSpPr/>
          <p:nvPr/>
        </p:nvSpPr>
        <p:spPr>
          <a:xfrm>
            <a:off x="5429160" y="5286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Научить учащихся формировать портфолио и оформлять документацию по творческому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7"/>
          <p:cNvSpPr/>
          <p:nvPr/>
        </p:nvSpPr>
        <p:spPr>
          <a:xfrm>
            <a:off x="571680" y="385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4.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Д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окументирование результатов труда и проект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6FEE-DE55-44CB-AF41-9F18624F93F0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2"/>
          <p:cNvSpPr/>
          <p:nvPr/>
        </p:nvSpPr>
        <p:spPr>
          <a:xfrm>
            <a:off x="285840" y="500040"/>
            <a:ext cx="84294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(в мотивационной сфере)</a:t>
            </a: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Comic Sans MS"/>
              </a:rPr>
              <a:t>1. </a:t>
            </a:r>
            <a:r>
              <a:rPr b="1" lang="en-US" sz="1400" spc="-1" strike="noStrike">
                <a:solidFill>
                  <a:srgbClr val="cc0000"/>
                </a:solidFill>
                <a:latin typeface="Comic Sans MS"/>
              </a:rPr>
              <a:t>Оценивание своей готовности к труду в предметной деятельности; осознание ответственности за результаты тр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2571840" y="17859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214200" y="2357280"/>
            <a:ext cx="471492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1"/>
          <p:cNvSpPr/>
          <p:nvPr/>
        </p:nvSpPr>
        <p:spPr>
          <a:xfrm>
            <a:off x="5072040" y="235728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ценка конечных результатов деятельности в виде готовых изделий и реализованных творчески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Стрелка вправо 6"/>
          <p:cNvSpPr/>
          <p:nvPr/>
        </p:nvSpPr>
        <p:spPr>
          <a:xfrm rot="7356000">
            <a:off x="2300040" y="1908000"/>
            <a:ext cx="328680" cy="382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право 7"/>
          <p:cNvSpPr/>
          <p:nvPr/>
        </p:nvSpPr>
        <p:spPr>
          <a:xfrm rot="4038000">
            <a:off x="6423120" y="189036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8"/>
          <p:cNvSpPr/>
          <p:nvPr/>
        </p:nvSpPr>
        <p:spPr>
          <a:xfrm>
            <a:off x="5072040" y="2357280"/>
            <a:ext cx="3857760" cy="121464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9"/>
          <p:cNvSpPr/>
          <p:nvPr/>
        </p:nvSpPr>
        <p:spPr>
          <a:xfrm>
            <a:off x="214200" y="235728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рганизация коллективного обсуждения и решения поставленных технико-технологических и организационны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0"/>
          <p:cNvSpPr/>
          <p:nvPr/>
        </p:nvSpPr>
        <p:spPr>
          <a:xfrm>
            <a:off x="214200" y="5143680"/>
            <a:ext cx="46436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1"/>
          <p:cNvSpPr/>
          <p:nvPr/>
        </p:nvSpPr>
        <p:spPr>
          <a:xfrm>
            <a:off x="5072040" y="5143680"/>
            <a:ext cx="392904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2643120" y="45720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214200" y="5143680"/>
            <a:ext cx="46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e5"/>
                </a:solidFill>
                <a:latin typeface="Arial"/>
              </a:rPr>
              <a:t>Ознакомление учащихся с миром профессий, используя рубрику в учебнике «Знакомимся с профессиями», видеоматериалы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5072040" y="514368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правленное продвижение учащихся к выбору профиля технологической подготовки в старших классах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571680" y="385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e5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Ф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ормирование представлений о мире профессий, их востребованности на рынке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E0F1-BBCC-48BC-8C1E-DA46EC517C52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604" name="TextBox 2"/>
          <p:cNvSpPr/>
          <p:nvPr/>
        </p:nvSpPr>
        <p:spPr>
          <a:xfrm>
            <a:off x="285840" y="500040"/>
            <a:ext cx="8429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2100" spc="-1" strike="noStrike">
                <a:solidFill>
                  <a:srgbClr val="ff0000"/>
                </a:solidFill>
                <a:latin typeface="Comic Sans MS"/>
              </a:rPr>
              <a:t>(в эстетической сфере)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Овладение методами эстетического оформления изделий, рациональ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mic Sans MS"/>
              </a:rPr>
              <a:t>эстетической организации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2571840" y="15717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4"/>
          <p:cNvSpPr/>
          <p:nvPr/>
        </p:nvSpPr>
        <p:spPr>
          <a:xfrm>
            <a:off x="214200" y="2214720"/>
            <a:ext cx="471492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1"/>
          <p:cNvSpPr/>
          <p:nvPr/>
        </p:nvSpPr>
        <p:spPr>
          <a:xfrm>
            <a:off x="5072040" y="2214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рациональной организации рабочего места, опрятному содержанию рабочей оде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трелка вправо 6"/>
          <p:cNvSpPr/>
          <p:nvPr/>
        </p:nvSpPr>
        <p:spPr>
          <a:xfrm rot="7356000">
            <a:off x="2156760" y="1693440"/>
            <a:ext cx="328680" cy="382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трелка вправо 7"/>
          <p:cNvSpPr/>
          <p:nvPr/>
        </p:nvSpPr>
        <p:spPr>
          <a:xfrm rot="4038000">
            <a:off x="6494760" y="1747440"/>
            <a:ext cx="298440" cy="339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5072040" y="2214720"/>
            <a:ext cx="3857760" cy="121428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9"/>
          <p:cNvSpPr/>
          <p:nvPr/>
        </p:nvSpPr>
        <p:spPr>
          <a:xfrm>
            <a:off x="214200" y="2214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элементам художественного оформления объектов труда, дизайнерского проектирования изде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10"/>
          <p:cNvSpPr/>
          <p:nvPr/>
        </p:nvSpPr>
        <p:spPr>
          <a:xfrm>
            <a:off x="214200" y="5143680"/>
            <a:ext cx="300060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1"/>
          <p:cNvSpPr/>
          <p:nvPr/>
        </p:nvSpPr>
        <p:spPr>
          <a:xfrm>
            <a:off x="3357720" y="5143680"/>
            <a:ext cx="5643360" cy="1500120"/>
          </a:xfrm>
          <a:prstGeom prst="rect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2627280" y="479736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ти формирования учителем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Стрелка вправо 13"/>
          <p:cNvSpPr/>
          <p:nvPr/>
        </p:nvSpPr>
        <p:spPr>
          <a:xfrm rot="7356000">
            <a:off x="2288160" y="4709160"/>
            <a:ext cx="361800" cy="37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трелка вправо 14"/>
          <p:cNvSpPr/>
          <p:nvPr/>
        </p:nvSpPr>
        <p:spPr>
          <a:xfrm rot="3370800">
            <a:off x="6477120" y="4725720"/>
            <a:ext cx="365040" cy="3110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c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15"/>
          <p:cNvSpPr/>
          <p:nvPr/>
        </p:nvSpPr>
        <p:spPr>
          <a:xfrm>
            <a:off x="214200" y="5143680"/>
            <a:ext cx="30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ыработать навыки точности движений при выполнении различных технологически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6"/>
          <p:cNvSpPr/>
          <p:nvPr/>
        </p:nvSpPr>
        <p:spPr>
          <a:xfrm>
            <a:off x="3357720" y="5143680"/>
            <a:ext cx="564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учить учащихся соблюдению необходимой величины усилий, прикладываемых к инструментам, путём многократного повторения движений рук при выполнении разработанны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0" y="3500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Предметные результаты </a:t>
            </a:r>
            <a:r>
              <a:rPr b="1" lang="en-US" sz="1800" spc="-1" strike="noStrike">
                <a:solidFill>
                  <a:srgbClr val="ff00ff"/>
                </a:solidFill>
                <a:latin typeface="Comic Sans MS"/>
              </a:rPr>
              <a:t>(в физиолого-психологической сфере)</a:t>
            </a:r>
            <a:r>
              <a:rPr b="1" lang="en-US" sz="1800" spc="-1" strike="noStrike">
                <a:solidFill>
                  <a:srgbClr val="7030a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Развитие моторики и координации движений рук при работе с ручными инструментами и оборуд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393E-A59C-4BBE-BE5C-81123C166637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622" name="TextBox 2"/>
          <p:cNvSpPr/>
          <p:nvPr/>
        </p:nvSpPr>
        <p:spPr>
          <a:xfrm>
            <a:off x="500040" y="1000080"/>
            <a:ext cx="792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e5"/>
                </a:solidFill>
                <a:latin typeface="Arial"/>
              </a:rPr>
              <a:t>Надеюсь, что предлагаемые новые учебники и сопровождающие их учебно-методические материалы будут способствовать совершенствованию технологического образования школьников, будущих активных граждан, повышающих благосостояние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Прямоугольник 1" descr=""/>
          <p:cNvPicPr/>
          <p:nvPr/>
        </p:nvPicPr>
        <p:blipFill>
          <a:blip r:embed="rId2"/>
          <a:stretch/>
        </p:blipFill>
        <p:spPr>
          <a:xfrm>
            <a:off x="2714760" y="3143160"/>
            <a:ext cx="3722400" cy="2154240"/>
          </a:xfrm>
          <a:prstGeom prst="rect">
            <a:avLst/>
          </a:prstGeom>
          <a:ln w="0">
            <a:noFill/>
          </a:ln>
        </p:spPr>
      </p:pic>
      <p:sp>
        <p:nvSpPr>
          <p:cNvPr id="624" name="Номер слайда 1"/>
          <p:cNvSpPr/>
          <p:nvPr/>
        </p:nvSpPr>
        <p:spPr>
          <a:xfrm>
            <a:off x="42148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83AF-B842-4308-A9F7-68DF84E302C0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14292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500040" y="642960"/>
            <a:ext cx="792972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Элементы нового УМК «Техн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mic Sans MS"/>
              </a:rPr>
              <a:t>(уже опубликованные материал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Программа по технологии для ООО, учебник для 5-го кл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асса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рабочая тетрадь и методическое пособие для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2484360" y="3573360"/>
            <a:ext cx="1542960" cy="2000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4427640" y="3573360"/>
            <a:ext cx="1584360" cy="20257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6443640" y="3573360"/>
            <a:ext cx="1455840" cy="20163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8" name="Picture 10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415880" cy="20005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49" name="Номер слайда 1"/>
          <p:cNvSpPr/>
          <p:nvPr/>
        </p:nvSpPr>
        <p:spPr>
          <a:xfrm>
            <a:off x="44290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7CFF-5A9D-4CDD-AC9C-47DE89DFEDDE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500960" y="214200"/>
            <a:ext cx="2300400" cy="642960"/>
          </a:xfrm>
          <a:prstGeom prst="rect">
            <a:avLst/>
          </a:prstGeom>
          <a:ln w="0">
            <a:noFill/>
          </a:ln>
        </p:spPr>
      </p:pic>
      <p:sp>
        <p:nvSpPr>
          <p:cNvPr id="151" name="Скругленный прямоугольник 19"/>
          <p:cNvSpPr/>
          <p:nvPr/>
        </p:nvSpPr>
        <p:spPr>
          <a:xfrm>
            <a:off x="500040" y="714240"/>
            <a:ext cx="8072640" cy="1000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85880" y="71424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лично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214280" y="185724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ир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2"/>
          <p:cNvSpPr/>
          <p:nvPr/>
        </p:nvSpPr>
        <p:spPr>
          <a:xfrm>
            <a:off x="714240" y="2357280"/>
            <a:ext cx="778680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1000080" y="242892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гражданской идентичности личност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(включая когнитивный, эмоционально-ценнос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веденческий компонен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24"/>
          <p:cNvSpPr/>
          <p:nvPr/>
        </p:nvSpPr>
        <p:spPr>
          <a:xfrm>
            <a:off x="714240" y="3857760"/>
            <a:ext cx="778680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1000080" y="392904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социальных компетенций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(включая ценностно-смысловые установки и моральные нормы, опыт социальных и межличностных отношений, правосозн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26"/>
          <p:cNvSpPr/>
          <p:nvPr/>
        </p:nvSpPr>
        <p:spPr>
          <a:xfrm>
            <a:off x="714240" y="5214960"/>
            <a:ext cx="778680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8"/>
          <p:cNvSpPr/>
          <p:nvPr/>
        </p:nvSpPr>
        <p:spPr>
          <a:xfrm>
            <a:off x="857160" y="5357880"/>
            <a:ext cx="75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готовности и способности к переходу к самообраз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на основе учебно-познавательной мотивации, в том числ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готовности к выбору направления профи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1"/>
          <p:cNvSpPr/>
          <p:nvPr/>
        </p:nvSpPr>
        <p:spPr>
          <a:xfrm>
            <a:off x="4357800" y="214200"/>
            <a:ext cx="4572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7F80-1C6E-4A96-93A3-75C4FF12C34A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62" name="Скругленный прямоугольник 11"/>
          <p:cNvSpPr/>
          <p:nvPr/>
        </p:nvSpPr>
        <p:spPr>
          <a:xfrm>
            <a:off x="714240" y="500040"/>
            <a:ext cx="7572600" cy="1000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000080" y="50004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регуля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2143080" y="15717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формирование способ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4"/>
          <p:cNvSpPr/>
          <p:nvPr/>
        </p:nvSpPr>
        <p:spPr>
          <a:xfrm>
            <a:off x="3500280" y="2071800"/>
            <a:ext cx="542952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3714840" y="228600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ставить новые учебные цели и задачи, планировать их реал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6"/>
          <p:cNvSpPr/>
          <p:nvPr/>
        </p:nvSpPr>
        <p:spPr>
          <a:xfrm>
            <a:off x="3500280" y="3429000"/>
            <a:ext cx="5429520" cy="9288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3714840" y="357192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осуществлять выбор эффективных путей и средств достижения ц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8"/>
          <p:cNvSpPr/>
          <p:nvPr/>
        </p:nvSpPr>
        <p:spPr>
          <a:xfrm>
            <a:off x="3571920" y="4643280"/>
            <a:ext cx="5429160" cy="15717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3786120" y="471492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контролировать и оценивать свои действия как по результату, так и по способу действия, вносить соответствующие корректи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в их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20"/>
          <p:cNvSpPr/>
          <p:nvPr/>
        </p:nvSpPr>
        <p:spPr>
          <a:xfrm>
            <a:off x="642960" y="271476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714240" y="285768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едущий способ решения эт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Прямая со стрелкой 22"/>
          <p:cNvCxnSpPr>
            <a:stCxn id="165" idx="1"/>
          </p:cNvCxnSpPr>
          <p:nvPr/>
        </p:nvCxnSpPr>
        <p:spPr>
          <a:xfrm flipH="1">
            <a:off x="2856960" y="2571840"/>
            <a:ext cx="64332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4" name="Прямая со стрелкой 23"/>
          <p:cNvCxnSpPr>
            <a:endCxn id="171" idx="3"/>
          </p:cNvCxnSpPr>
          <p:nvPr/>
        </p:nvCxnSpPr>
        <p:spPr>
          <a:xfrm flipH="1" flipV="1">
            <a:off x="2856960" y="3285360"/>
            <a:ext cx="643320" cy="2149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5" name="Прямая со стрелкой 25"/>
          <p:cNvCxnSpPr/>
          <p:nvPr/>
        </p:nvCxnSpPr>
        <p:spPr>
          <a:xfrm flipH="1" flipV="1">
            <a:off x="2785320" y="3785760"/>
            <a:ext cx="857880" cy="9295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76" name="Стрелка вниз 29"/>
          <p:cNvSpPr/>
          <p:nvPr/>
        </p:nvSpPr>
        <p:spPr>
          <a:xfrm>
            <a:off x="1428840" y="3857760"/>
            <a:ext cx="642960" cy="928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33"/>
          <p:cNvSpPr/>
          <p:nvPr/>
        </p:nvSpPr>
        <p:spPr>
          <a:xfrm>
            <a:off x="428760" y="4786200"/>
            <a:ext cx="2714400" cy="12859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500040" y="4929120"/>
            <a:ext cx="25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ирование способности к проектиров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B7F-BB8C-4049-84C4-96FE7D944B65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81" name="Скругленный прямоугольник 13"/>
          <p:cNvSpPr/>
          <p:nvPr/>
        </p:nvSpPr>
        <p:spPr>
          <a:xfrm>
            <a:off x="1000080" y="500040"/>
            <a:ext cx="7215120" cy="1214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коммуника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5"/>
          <p:cNvSpPr/>
          <p:nvPr/>
        </p:nvSpPr>
        <p:spPr>
          <a:xfrm>
            <a:off x="785880" y="2214720"/>
            <a:ext cx="7643880" cy="100008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16"/>
          <p:cNvSpPr/>
          <p:nvPr/>
        </p:nvSpPr>
        <p:spPr>
          <a:xfrm>
            <a:off x="785880" y="3429000"/>
            <a:ext cx="7643880" cy="157176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17"/>
          <p:cNvSpPr/>
          <p:nvPr/>
        </p:nvSpPr>
        <p:spPr>
          <a:xfrm>
            <a:off x="857160" y="5214960"/>
            <a:ext cx="7572600" cy="142884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214280" y="1785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928800" y="22860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формирование действий по организации и планированию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учебного сотрудничества с учителем и сверстникам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,  умений работать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928800" y="342900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формирование умений, составляющих основу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коммуникативной компетентности 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действовать с учётом позиции другого; устанавл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поддерживать необходимые контакты с другими людьми; удовлетворительно владеть нормами и техникой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1"/>
          <p:cNvSpPr/>
          <p:nvPr/>
        </p:nvSpPr>
        <p:spPr>
          <a:xfrm>
            <a:off x="1143000" y="5214960"/>
            <a:ext cx="70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ти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речевой деятельности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, приобретение опыта использования речевых средств для регуляции умственной деятельности, приобретение опыта регуляции собственного речевого поведения как основы коммуникативной компет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1"/>
          <p:cNvSpPr/>
          <p:nvPr/>
        </p:nvSpPr>
        <p:spPr>
          <a:xfrm>
            <a:off x="435780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3A8-8C62-4E3C-A28D-07745DC9FFC1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192" name="Скругленный прямоугольник 24"/>
          <p:cNvSpPr/>
          <p:nvPr/>
        </p:nvSpPr>
        <p:spPr>
          <a:xfrm>
            <a:off x="1000080" y="500040"/>
            <a:ext cx="7215120" cy="1214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143000" y="64296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Развитие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познава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универсальных учебных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6"/>
          <p:cNvSpPr/>
          <p:nvPr/>
        </p:nvSpPr>
        <p:spPr>
          <a:xfrm>
            <a:off x="785880" y="2214720"/>
            <a:ext cx="7643880" cy="7855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7"/>
          <p:cNvSpPr/>
          <p:nvPr/>
        </p:nvSpPr>
        <p:spPr>
          <a:xfrm>
            <a:off x="785880" y="3357720"/>
            <a:ext cx="7643880" cy="78552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8"/>
          <p:cNvSpPr/>
          <p:nvPr/>
        </p:nvSpPr>
        <p:spPr>
          <a:xfrm>
            <a:off x="857160" y="4500720"/>
            <a:ext cx="7572600" cy="1571400"/>
          </a:xfrm>
          <a:prstGeom prst="roundRect">
            <a:avLst>
              <a:gd name="adj" fmla="val 16667"/>
            </a:avLst>
          </a:prstGeom>
          <a:solidFill>
            <a:srgbClr val="ebebf5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1214280" y="178596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0"/>
          <p:cNvSpPr/>
          <p:nvPr/>
        </p:nvSpPr>
        <p:spPr>
          <a:xfrm>
            <a:off x="928800" y="22860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практическое освоение обучающим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основ проектно-исследователь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31"/>
          <p:cNvSpPr/>
          <p:nvPr/>
        </p:nvSpPr>
        <p:spPr>
          <a:xfrm>
            <a:off x="928800" y="34290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развитие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стратегий смыслового чтения</a:t>
            </a: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e5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e5"/>
                </a:solidFill>
                <a:latin typeface="Arial"/>
              </a:rPr>
              <a:t>работа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1071720" y="4572000"/>
            <a:ext cx="71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практическое освоение 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методов познания</a:t>
            </a: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, используемых в различных областях знания и сферах культуры, регулярное использование общеучебных ум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e5"/>
                </a:solidFill>
                <a:latin typeface="Arial"/>
              </a:rPr>
              <a:t>знаково-символьных средств, широкого спектра</a:t>
            </a:r>
            <a:r>
              <a:rPr b="1" i="1" lang="ru-RU" sz="1800" spc="-1" strike="noStrike">
                <a:solidFill>
                  <a:srgbClr val="0000e5"/>
                </a:solidFill>
                <a:latin typeface="Arial"/>
              </a:rPr>
              <a:t> логических действий и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омер слайда 1"/>
          <p:cNvSpPr/>
          <p:nvPr/>
        </p:nvSpPr>
        <p:spPr>
          <a:xfrm>
            <a:off x="428616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26AD-A39E-4D1B-8E33-43A6F92C9163}" type="slidenum">
              <a:rPr b="0" lang="en-US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DolgenkovaNO\Рабочий стол\логотип ВГ.gif"/>
          <p:cNvPicPr/>
          <p:nvPr/>
        </p:nvPicPr>
        <p:blipFill>
          <a:blip r:embed="rId1"/>
          <a:srcRect l="0" t="0" r="0" b="64445"/>
          <a:stretch/>
        </p:blipFill>
        <p:spPr>
          <a:xfrm>
            <a:off x="7429680" y="214200"/>
            <a:ext cx="2300040" cy="6429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6"/>
          <p:cNvSpPr/>
          <p:nvPr/>
        </p:nvSpPr>
        <p:spPr>
          <a:xfrm>
            <a:off x="428760" y="5000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Примерный тематический пл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5"/>
                </a:solidFill>
                <a:latin typeface="Comic Sans MS"/>
              </a:rPr>
              <a:t>Направление «Индустриальные техноло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14200" y="1450800"/>
          <a:ext cx="8715600" cy="5199120"/>
        </p:xfrm>
        <a:graphic>
          <a:graphicData uri="http://schemas.openxmlformats.org/drawingml/2006/table">
            <a:tbl>
              <a:tblPr/>
              <a:tblGrid>
                <a:gridCol w="6577200"/>
                <a:gridCol w="493560"/>
                <a:gridCol w="493920"/>
                <a:gridCol w="576000"/>
                <a:gridCol w="574920"/>
              </a:tblGrid>
              <a:tr h="416160"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ы и темы програм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ласса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. Технология обработки конструкционных материалов, 12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Технологии ручной обработки древесины и древесных материалов, 4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Технологии машинной обработки древесины и древесных материалов, 10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Технологии ручной обработки металлов и искусственных материалов, 42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4. Технологии машинной обработки металлов и искусственных материалов, 10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5. Технологии художественно-прикладной обработки материалов, 18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. Технологии домашнего хозяйства, 26 ч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Технологии ремонта деталей интерьера, одежды и обуви и ухода за ними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Эстетика и экология жилища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Бюджет семь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4. Технологии ремонтно-отделочных работ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5. Технология ремонта элементов систем водоснабжения и канализации, 6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3. Электротехника, 12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Электромонтажные и сборочные технологи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Электротехнические устройства с элементами автоматики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3. Бытовые электроприборы, 4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4. Современное производство и профессиональное самоопределение, 4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Сферы производства и разделение труда, 2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2. Профессиональное образование и профессиональная карьера, 2 ч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5. Технологии исследовательской и опытнической деятельности, 3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1. Исследовательская и созидательная деятельность, 36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204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Номер слайда 1"/>
          <p:cNvSpPr/>
          <p:nvPr/>
        </p:nvSpPr>
        <p:spPr>
          <a:xfrm>
            <a:off x="4000680" y="142920"/>
            <a:ext cx="457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6D7-B71D-451D-8DE2-B77BD2AAF344}" type="slidenum">
              <a:rPr b="0" lang="ru-RU" sz="1400" spc="-1" strike="noStrike">
                <a:solidFill>
                  <a:srgbClr val="00005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27:25Z</dcterms:created>
  <dc:creator>Acer</dc:creator>
  <dc:description/>
  <dc:language>en-US</dc:language>
  <cp:lastModifiedBy>KrutovaIS</cp:lastModifiedBy>
  <dcterms:modified xsi:type="dcterms:W3CDTF">2012-11-06T12:16:01Z</dcterms:modified>
  <cp:revision>398</cp:revision>
  <dc:subject/>
  <dc:title>Слайд 1</dc:title>
</cp:coreProperties>
</file>