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F30-D03E-4A07-8EFE-02F285B6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A5C-A11F-4DD5-A186-8664418A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72C-6C3C-44B2-82EF-8EFD99D7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D75-BE25-4876-AE58-69C3D125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AC0F-ECA7-45FA-B4D6-67215E40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3577-13AA-47F9-AD44-1ACE2E9E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1BCC-67F1-49FF-A38B-5DFEB1C3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3C3B-5BF4-471A-9E6A-D457600F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B9A2-9390-408C-83F0-315149F2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162E-5AEB-4E0B-8AD0-1B7AB5C2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92E0-2EEC-4011-A77A-3F4FE726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FAD-7F48-4B6C-8169-F1AD9F76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4916-2941-4D8B-BB55-B07A0CBE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27AB-7B8A-4164-B1B5-9836B603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9916-30AF-442F-A2EC-4A80916E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2FE4-830A-4AEC-A776-13ACE798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8468-92BC-4E7D-8CBA-76B2EA13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BEA-843C-40A1-A17C-A30BC9A8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0E5-54BE-4B59-8FE4-C67D12DA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C0C-E3F5-46DD-99E5-6EC4D500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4FC-BBB3-420C-A1C5-4F1B5655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28A-B7BB-4F5D-B616-3DB7EDE6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0CC-70C7-4B66-8357-3AC3E803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1C3-34BF-4E07-8C7D-DE1AD780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5AEF-76E5-47B1-8FC9-D9B332633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2E03-B25B-4A6A-93F4-64426D3C9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38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орудование рабочего места в столярной мастерской.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284720" y="4724280"/>
            <a:ext cx="446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читель технолог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сковченко Н. 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400640" cy="6427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900680" cy="613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5191200" cy="641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243320" cy="6202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341960" cy="6335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600280" y="189000"/>
            <a:ext cx="4313160" cy="6275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Литература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ехнология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учебник для 5 класса /Под ред. В. Д. Симоненк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Энциклопедия работ по дерев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 Альберт Джексон; пер. с английского Ю. Сусл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сновы столярного дел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(инструменты, материалы, приёмы работ, Т. Б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3715920"/>
            <a:ext cx="8229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СОШ №45 г. Белгор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dovik45.ucoz.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9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бочее место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пространство приспособленное для выполнения учебно-трудового задания, размещения работающего, материалов, инструментов и оборудования, готовой продук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11280" y="2924280"/>
            <a:ext cx="45752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бочая   зон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пространство   высотой   до   2   м   над   уровнем пола  и расстояние досягаемости рук в пределах рабочего места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43436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Основное оборудование рабочего места в школьной мастерской —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верстак: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316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Столярный верстак состоит из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 подверстачь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 крышки с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 отверстиями в которые вставляют клинь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4 лотк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5 переднего зажим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 заднего зажим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7 выдвижных или поворотных пальце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34484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507672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ботать у верстака следует стоя, и лишь некоторые виды работ можно выполнять сидя возле него на стуле. Высота верстака должна соответствовать росту уче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веряют это так: нужно встать около верстака, опустить руки вниз и положить на его крышку ладони. Если при этом не требуется наклоняться или сгибать руки, значит, высота верстака соответствует вашему рос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76720" y="765000"/>
            <a:ext cx="3767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789360" cy="323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748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Передний зажим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едназначен для закрепления заготово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Отверстия с клиньям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предназначены для упора и крепления заготовок при строгании.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В лотк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разованном крышкой верстака и брусками обвязки, размещают инструмент.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Задний зажим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ьзуется для крепления заготовок при строгании и распиливании.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Выдвижные или поворотные пальц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служат для опоры длинномерных заготовок при их строган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25192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Рабочее место комплектуется набором инструментов.</a:t>
            </a:r>
            <a:br>
              <a:rPr sz="4000"/>
            </a:b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1" action="ppaction://hlinksldjump"/>
              </a:rPr>
              <a:t>Рубано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2" action="ppaction://hlinksldjump"/>
              </a:rPr>
              <a:t>Моло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3" action="ppaction://hlinksldjump"/>
              </a:rPr>
              <a:t>Ножов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4" action="ppaction://hlinksldjump"/>
              </a:rPr>
              <a:t>Клещ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5" action="ppaction://hlinksldjump"/>
              </a:rPr>
              <a:t>Стамес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6" action="ppaction://hlinksldjump"/>
              </a:rPr>
              <a:t>Линей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4572000" y="2349360"/>
            <a:ext cx="40384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Работу выполняют в специальной одежде: халатах, или фартуках. При работе соблюдают правила ухода за верстаком.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5280" y="1197000"/>
            <a:ext cx="496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ерегать  крышку  верстака  от  повреждений  режущими инструмент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закручивать сильно передний и задний зажимы верста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 ударять  молотком   по  крышке  верстака   и   зажим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линья   в   отверстия   верстака   забивать   только   киян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рабочем месте не должны находиться лишние предметы и ненужные инструмен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 окончании работы очищать верстак от стружки щет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5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Соблюдайте правила внутреннего распорядка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нимать и оставлять рабочее место только с разрешения учите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ед работой проверить состояние рабочего места и инструментов. Обнаружив не исправные инструменты сообщи уч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тайте  в  спецодежде,   имейте   при  себе  дневник, тетрадь, резинку, карандаш, ручк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чие инструменты на столярном верстаке кладите в лоток режущей частью от себя, на слесарном и уни­версальном — так, чтобы ими было удобно пользовать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 кладите тяжелые предметы на край верстака. Следите за тем,  чтобы  режущие части  инструментов не свисали с верста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тайте только исправным и остро заточенным ин­струментом, не отвлекайтесь во время работы, контро­лируйте ее выполн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рого соблюдайте установленные для каждого вида работы правила безопас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случае недомогания или получения травмы немедленно сообщите об этом уч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ле работы очистите инструменты и поместите их в отведенные для них места, уберите рабочее место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6:02:37Z</dcterms:created>
  <dc:creator>Московченко</dc:creator>
  <dc:description/>
  <dc:language>en-US</dc:language>
  <cp:lastModifiedBy>XTreme</cp:lastModifiedBy>
  <dcterms:modified xsi:type="dcterms:W3CDTF">2009-06-01T09:42:17Z</dcterms:modified>
  <cp:revision>8</cp:revision>
  <dc:subject/>
  <dc:title>Оборудование рабочего места в столярной мастерской.</dc:title>
</cp:coreProperties>
</file>