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CC7-86D2-4658-91E3-F2218F78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8B1-158F-466B-9366-D8FADE3E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259-D2B8-4AA8-BF0E-D2607AB0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35A-540D-4A98-B394-542A76A8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69B7-27A5-4438-B982-E46EDD47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DC11-B37F-4F9D-B6BC-E0A86828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FB15-13DA-4075-8156-EA514082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CF34-30D6-4062-8673-79F5B0A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B488-9D58-4DD4-93FB-1979DC6C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93C6-BC13-45C5-AA98-FF57C92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2150-D095-4696-87B4-E5DA09B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918-BA44-41C4-82F5-7E2AB5AD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83DD-91BF-44C0-8A9D-89AE493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12CF-B8C3-4864-8283-8BE5EB9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03A-1B4D-4973-B5B9-34270391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568-09E9-4C46-BB7C-35D52E12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EA65-BFD0-48FE-9D1A-9176FAEB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059-85EB-46DC-AC57-463BC1AE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0D4-53FB-47A1-892A-28F30022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681-A0D7-4852-84AB-F29D1621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313-D344-4375-A8D0-42B06C7A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FA5-0E1D-43CF-8216-E00E2BC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BC3-F833-4F5D-ADF2-58A77771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3A5-75AB-497F-90CC-41DA97B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A752-D14D-42F4-9E13-FE51D91ED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6CC5-0C67-4FB2-9A41-D1B846313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38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орудование рабочего места в столярной мастерской.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84720" y="4724280"/>
            <a:ext cx="446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техн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сковченко Н. 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400640" cy="6427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00680" cy="613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5191200" cy="641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243320" cy="6202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341960" cy="6335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00280" y="189000"/>
            <a:ext cx="4313160" cy="6275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Литература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хнология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учебник для 5 класса /Под ред. В. Д. Симоненк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нциклопедия работ по дерев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 Альберт Джексон; пер. с английского Ю. Су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ы столярного дел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(инструменты, материалы, приёмы работ, Т. Б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СОШ №45 г. Белгор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dovik45.ucoz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9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ее место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приспособленное для выполнения учебно-трудового задания, размещения работающего, материалов, инструментов и оборудования, готовой проду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45752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ая   зон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  высотой   до   2   м   над   уровнем пола  и расстояние досягаемости рук в пределах рабочего места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343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Основное оборудование рабочего места в школьной мастерской —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верстак: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316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Столярный верстак состоит и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 подверстачь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крышки 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 отверстиями в которые вставляют клинь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 лот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 пере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 за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7 выдвижных или поворотных пальце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4484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50767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ботать у верстака следует стоя, и лишь некоторые виды работ можно выполнять сидя возле него на стуле. Высота верстака должна соответствовать росту уче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веряют это так: нужно встать около верстака, опустить руки вниз и положить на его крышку ладони. Если при этом не требуется наклоняться или сгибать руки, значит, высота верстака соответствует вашему рос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767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789360" cy="323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748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Пере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назначен для закрепления заготов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Отверстия с клинья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едназначены для упора и крепления заготовок при строг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 лот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ном крышкой верстака и брусками обвязки, размещают инструмент.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За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уется для крепления заготовок при строгании и распилив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ыдвижные или поворотные пальц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служат для опоры длинномерных заготовок при их строга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2519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Рабочее место комплектуется набором инструментов.</a:t>
            </a:r>
            <a:br>
              <a:rPr sz="40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1" action="ppaction://hlinksldjump"/>
              </a:rPr>
              <a:t>Рубан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2" action="ppaction://hlinksldjump"/>
              </a:rPr>
              <a:t>Моло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3" action="ppaction://hlinksldjump"/>
              </a:rPr>
              <a:t>Ножо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4" action="ppaction://hlinksldjump"/>
              </a:rPr>
              <a:t>Клещ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5" action="ppaction://hlinksldjump"/>
              </a:rPr>
              <a:t>Стамес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6" action="ppaction://hlinksldjump"/>
              </a:rPr>
              <a:t>Линей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572000" y="2349360"/>
            <a:ext cx="40384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аботу выполняют в специальной одежде: халатах, или фартуках. При работе соблюдают правила ухода за верстаком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5280" y="1197000"/>
            <a:ext cx="49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ерегать  крышку  верстака  от  повреждений  режущими инструмен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закручивать сильно передний и задний зажимы верста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 ударять  молотком   по  крышке  верстака   и   зажим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инья   в   отверстия   верстака   забивать   только   киян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рабочем месте не должны находиться лишние предметы и ненужные инстру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окончании работы очищать верстак от стружки щет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Соблюдайте правила внутреннего распорядка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нимать и оставлять рабочее место только с разрешения учите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ед работой проверить состояние рабочего места и инструментов. Обнаружив не исправные инструменты сообщи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 в  спецодежде,   имейте   при  себе  дневник, тетрадь, резинку, карандаш, ручк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чие инструменты на столярном верстаке кладите в лоток режущей частью от себя, на слесарном и уни­версальном — так, чтобы ими было удобно пользовать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кладите тяжелые предметы на край верстака. Следите за тем,  чтобы  режущие части  инструментов не свисали с верста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только исправным и остро заточенным ин­струментом, не отвлекайтесь во время работы, контро­лируйте ее выполн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ого соблюдайте установленные для каждого вида работы правила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случае недомогания или получения травмы немедленно сообщите об этом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работы очистите инструменты и поместите их в отведенные для них места, уберите рабочее место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6:02:37Z</dcterms:created>
  <dc:creator>Московченко</dc:creator>
  <dc:description/>
  <dc:language>en-US</dc:language>
  <cp:lastModifiedBy>XTreme</cp:lastModifiedBy>
  <dcterms:modified xsi:type="dcterms:W3CDTF">2009-06-01T09:42:17Z</dcterms:modified>
  <cp:revision>8</cp:revision>
  <dc:subject/>
  <dc:title>Оборудование рабочего места в столярной мастерской.</dc:title>
</cp:coreProperties>
</file>