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gif" ContentType="image/gif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D034-BC3F-43B4-B014-49DE0FB69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CE49-A03C-49D1-ACEA-8982AF457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C383-39B2-4AB1-A666-E437A5E2C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632A-CEA8-486C-B8AE-C3A38ED0E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0863F-EE98-40C4-A05E-1DB04BF8E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DEDF0-83B7-4048-80A6-58CDCE682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924CF-E716-41D4-A22A-258E5B7F0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F072B-BDED-4A43-AD23-3E47317A2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3D839-CCB2-440E-86AE-F08C37F34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B78DF-5DEB-4DF8-94C6-58A7AB6EC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2E67D-FB84-4DF9-9F8E-3EA416B77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7724-4525-435D-A0FD-144B58FFA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E8F44-86A3-45AD-AF05-6AE685E0D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D409C-55C2-466D-B78E-28BDBC2CE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59ED9-830F-479C-B325-31045940C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D81DA-E86E-4836-9075-FAF586A8D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9A6B7-3D7A-4CD4-A0E9-B9D047A96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6400-5BF0-479F-A8D3-F02DA74B5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6F73-CF0B-4E7B-B1A7-8596EE60B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D27E-A8CB-4868-9E64-BCF5B3007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CF25-7BCC-4B9B-AF02-A9FFB7C6A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E10A-942D-4703-8273-6BA03B38F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1D4A-826D-4FF1-90E5-44599C5EC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2B1A-6EC2-4B2B-A1F2-67C4E76B0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782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47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E8026-00E4-4A9A-A576-8827B9E6BC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782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47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57FF7-6A0E-4E89-9223-2889BB2734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7.xml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slide" Target="slide13.xml"/><Relationship Id="rId5" Type="http://schemas.openxmlformats.org/officeDocument/2006/relationships/slide" Target="slide14.xml"/><Relationship Id="rId6" Type="http://schemas.openxmlformats.org/officeDocument/2006/relationships/slide" Target="slide15.xml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777384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Оборудование рабочего места в столярной мастерской.</a:t>
            </a:r>
            <a:br>
              <a:rPr sz="4800"/>
            </a:br>
            <a:br>
              <a:rPr sz="4800"/>
            </a:b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284720" y="4724280"/>
            <a:ext cx="44640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Учитель технологи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Московченко Н. Н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8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8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484360" y="260280"/>
            <a:ext cx="4400640" cy="64278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 rot="10800000">
            <a:off x="324000" y="6092640"/>
            <a:ext cx="552240" cy="40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68360" y="260280"/>
            <a:ext cx="4900680" cy="61311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 rot="10800000">
            <a:off x="324000" y="6092640"/>
            <a:ext cx="552240" cy="40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340000" y="189000"/>
            <a:ext cx="5191200" cy="64198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 rot="10800000">
            <a:off x="324000" y="6092640"/>
            <a:ext cx="552240" cy="40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484360" y="260280"/>
            <a:ext cx="4243320" cy="62024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 rot="10800000">
            <a:off x="324000" y="6092640"/>
            <a:ext cx="552240" cy="40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268360" y="260280"/>
            <a:ext cx="4341960" cy="63356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 rot="10800000">
            <a:off x="324000" y="6092640"/>
            <a:ext cx="552240" cy="40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600280" y="189000"/>
            <a:ext cx="4313160" cy="62751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 rot="10800000">
            <a:off x="324000" y="6092640"/>
            <a:ext cx="552240" cy="40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Литература.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Технология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учебник для 5 класса /Под ред. В. Д. Симоненк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Энциклопедия работ по дереву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 Альберт Джексон; пер. с английского Ю. Суслов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Основы столярного дела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(инструменты, материалы, приёмы работ, Т. Б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2500"/>
                            </p:stCondLst>
                            <p:childTnLst>
                              <p:par>
                                <p:cTn id="3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4500"/>
                            </p:stCondLst>
                            <p:childTnLst>
                              <p:par>
                                <p:cTn id="3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3715920"/>
            <a:ext cx="82296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ОУ СОШ №45 г. Белгоро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udovik45.ucoz.r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009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8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8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8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8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8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8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8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8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2000"/>
                            </p:stCondLst>
                            <p:childTnLst>
                              <p:par>
                                <p:cTn id="39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8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8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8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8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68360" y="7646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Рабочее место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— пространство приспособленное для выполнения учебно-трудового задания, размещения работающего, материалов, инструментов и оборудования, готовой продукци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411280" y="2924280"/>
            <a:ext cx="4575240" cy="34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9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Рабочая   зона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— пространство   высотой   до   2   м   над   уровнем пола  и расстояние досягаемости рук в пределах рабочего места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900000" y="2133720"/>
            <a:ext cx="7434360" cy="32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9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Основное оборудование рабочего места в школьной мастерской — </a:t>
            </a:r>
            <a:r>
              <a:rPr b="1" i="1" lang="en-US" sz="3200" spc="-1" strike="noStrike">
                <a:solidFill>
                  <a:srgbClr val="ffffcc"/>
                </a:solidFill>
                <a:latin typeface="Times New Roman"/>
              </a:rPr>
              <a:t>верстак: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48320" y="1483920"/>
            <a:ext cx="4316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Столярный верстак состоит из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1 подверстачья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2 крышки с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3 отверстиями в которые вставляют клинья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4 лотка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5 переднего зажима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6 заднего зажима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7 выдвижных или поворотных пальцев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4344840" cy="37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9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500"/>
                            </p:stCondLst>
                            <p:childTnLst>
                              <p:par>
                                <p:cTn id="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500"/>
                            </p:stCondLst>
                            <p:childTnLst>
                              <p:par>
                                <p:cTn id="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500"/>
                            </p:stCondLst>
                            <p:childTnLst>
                              <p:par>
                                <p:cTn id="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4500"/>
                            </p:stCondLst>
                            <p:childTnLst>
                              <p:par>
                                <p:cTn id="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500"/>
                            </p:stCondLst>
                            <p:childTnLst>
                              <p:par>
                                <p:cTn id="1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6500"/>
                            </p:stCondLst>
                            <p:childTnLst>
                              <p:par>
                                <p:cTn id="1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7500"/>
                            </p:stCondLst>
                            <p:childTnLst>
                              <p:par>
                                <p:cTn id="1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8500"/>
                            </p:stCondLst>
                            <p:childTnLst>
                              <p:par>
                                <p:cTn id="1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0" y="764640"/>
            <a:ext cx="5076720" cy="53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Работать у верстака следует стоя, и лишь некоторые виды работ можно выполнять сидя возле него на стуле. Высота верстака должна соответствовать росту ученик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роверяют это так: нужно встать около верстака, опустить руки вниз и положить на его крышку ладони. Если при этом не требуется наклоняться или сгибать руки, значит, высота верстака соответствует вашему рост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076720" y="765000"/>
            <a:ext cx="37674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9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788000" y="3284640"/>
            <a:ext cx="3789360" cy="323676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8748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fff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00ffff"/>
                </a:solidFill>
                <a:latin typeface="Times New Roman"/>
              </a:rPr>
              <a:t>Передний зажим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редназначен для закрепления заготовок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Отверстия с клиньями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предназначены для упора и крепления заготовок при строгании.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В лотке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бразованном крышкой верстака и брусками обвязки, размещают инструмент. </a:t>
            </a:r>
            <a:r>
              <a:rPr b="0" i="1" lang="en-US" sz="2400" spc="-1" strike="noStrike">
                <a:solidFill>
                  <a:srgbClr val="00ffff"/>
                </a:solidFill>
                <a:latin typeface="Times New Roman"/>
              </a:rPr>
              <a:t>Задний зажим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спользуется для крепления заготовок при строгании и распиливании.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Выдвижные или поворотные пальцы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служат для опоры длинномерных заготовок при их строгани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971640" y="3357720"/>
            <a:ext cx="251928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9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9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Рабочее место комплектуется набором инструментов.</a:t>
            </a:r>
            <a:br>
              <a:rPr sz="4000"/>
            </a:b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ff"/>
                </a:solidFill>
                <a:uFillTx/>
                <a:latin typeface="Times New Roman"/>
                <a:hlinkClick r:id="rId1" action="ppaction://hlinksldjump"/>
              </a:rPr>
              <a:t>Рубанок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ff"/>
                </a:solidFill>
                <a:uFillTx/>
                <a:latin typeface="Times New Roman"/>
                <a:hlinkClick r:id="rId2" action="ppaction://hlinksldjump"/>
              </a:rPr>
              <a:t>Молото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ff"/>
                </a:solidFill>
                <a:uFillTx/>
                <a:latin typeface="Times New Roman"/>
                <a:hlinkClick r:id="rId3" action="ppaction://hlinksldjump"/>
              </a:rPr>
              <a:t>Ножов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ff"/>
                </a:solidFill>
                <a:uFillTx/>
                <a:latin typeface="Times New Roman"/>
                <a:hlinkClick r:id="rId4" action="ppaction://hlinksldjump"/>
              </a:rPr>
              <a:t>Клещ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ff"/>
                </a:solidFill>
                <a:uFillTx/>
                <a:latin typeface="Times New Roman"/>
                <a:hlinkClick r:id="rId5" action="ppaction://hlinksldjump"/>
              </a:rPr>
              <a:t>Стамес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ff"/>
                </a:solidFill>
                <a:uFillTx/>
                <a:latin typeface="Times New Roman"/>
                <a:hlinkClick r:id="rId6" action="ppaction://hlinksldjump"/>
              </a:rPr>
              <a:t>Линей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7"/>
          <a:stretch/>
        </p:blipFill>
        <p:spPr>
          <a:xfrm>
            <a:off x="4572000" y="2349360"/>
            <a:ext cx="403848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500"/>
                            </p:stCondLst>
                            <p:childTnLst>
                              <p:par>
                                <p:cTn id="1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500"/>
                            </p:stCondLst>
                            <p:childTnLst>
                              <p:par>
                                <p:cTn id="1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3500"/>
                            </p:stCondLst>
                            <p:childTnLst>
                              <p:par>
                                <p:cTn id="2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4500"/>
                            </p:stCondLst>
                            <p:childTnLst>
                              <p:par>
                                <p:cTn id="2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500"/>
                            </p:stCondLst>
                            <p:childTnLst>
                              <p:par>
                                <p:cTn id="2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6500"/>
                            </p:stCondLst>
                            <p:childTnLst>
                              <p:par>
                                <p:cTn id="2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Работу выполняют в специальной одежде: халатах, или фартуках. При работе соблюдают правила ухода за верстаком.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95280" y="1197000"/>
            <a:ext cx="4969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берегать  крышку  верстака  от  повреждений  режущими инструментам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е закручивать сильно передний и задний зажимы верстак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е  ударять  молотком   по  крышке  верстака   и   зажима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линья   в   отверстия   верстака   забивать   только   киянко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а рабочем месте не должны находиться лишние предметы и ненужные инструмент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 окончании работы очищать верстак от стружки щетко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50920" y="2205000"/>
            <a:ext cx="367164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500"/>
                            </p:stCondLst>
                            <p:childTnLst>
                              <p:par>
                                <p:cTn id="2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500"/>
                            </p:stCondLst>
                            <p:childTnLst>
                              <p:par>
                                <p:cTn id="2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3500"/>
                            </p:stCondLst>
                            <p:childTnLst>
                              <p:par>
                                <p:cTn id="2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4500"/>
                            </p:stCondLst>
                            <p:childTnLst>
                              <p:par>
                                <p:cTn id="2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500"/>
                            </p:stCondLst>
                            <p:childTnLst>
                              <p:par>
                                <p:cTn id="2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6500"/>
                            </p:stCondLst>
                            <p:childTnLst>
                              <p:par>
                                <p:cTn id="2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Соблюдайте правила внутреннего распорядка.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Занимать и оставлять рабочее место только с разрешения учител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еред работой проверить состояние рабочего места и инструментов. Обнаружив не исправные инструменты сообщи учителю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Работайте  в  спецодежде,   имейте   при  себе  дневник, тетрадь, резинку, карандаш, ручку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Рабочие инструменты на столярном верстаке кладите в лоток режущей частью от себя, на слесарном и уни­версальном — так, чтобы ими было удобно пользоватьс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Не кладите тяжелые предметы на край верстака. Следите за тем,  чтобы  режущие части  инструментов не свисали с верстак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Работайте только исправным и остро заточенным ин­струментом, не отвлекайтесь во время работы, контро­лируйте ее выполнен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Строго соблюдайте установленные для каждого вида работы правила безопасност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В случае недомогания или получения травмы немедленно сообщите об этом учителю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осле работы очистите инструменты и поместите их в отведенные для них места, уберите рабочее место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9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3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3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3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4000"/>
                            </p:stCondLst>
                            <p:childTnLst>
                              <p:par>
                                <p:cTn id="2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3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3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3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7000"/>
                            </p:stCondLst>
                            <p:childTnLst>
                              <p:par>
                                <p:cTn id="3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3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3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3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3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3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3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3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3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3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6000"/>
                            </p:stCondLst>
                            <p:childTnLst>
                              <p:par>
                                <p:cTn id="3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3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3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3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9000"/>
                            </p:stCondLst>
                            <p:childTnLst>
                              <p:par>
                                <p:cTn id="3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30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30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30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2000"/>
                            </p:stCondLst>
                            <p:childTnLst>
                              <p:par>
                                <p:cTn id="3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3000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30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30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5000"/>
                            </p:stCondLst>
                            <p:childTnLst>
                              <p:par>
                                <p:cTn id="3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3000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30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30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9T06:02:37Z</dcterms:created>
  <dc:creator>Московченко</dc:creator>
  <dc:description/>
  <dc:language>en-US</dc:language>
  <cp:lastModifiedBy>XTreme</cp:lastModifiedBy>
  <dcterms:modified xsi:type="dcterms:W3CDTF">2009-06-01T09:42:17Z</dcterms:modified>
  <cp:revision>8</cp:revision>
  <dc:subject/>
  <dc:title>Оборудование рабочего места в столярной мастерской.</dc:title>
</cp:coreProperties>
</file>