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0D2-5A24-43F0-957B-4C95E5BB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B3E-DCDE-4973-8091-1A92A4E9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F3F-B876-4C1F-B19F-A69A5AB0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A49-44E5-42D8-B29D-F5307008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190C-C2BB-4E29-A7F5-3FEEDBAC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E3DA-3899-4DCD-8193-15F02ED3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E958-8D4E-4B76-916F-11EB4579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E70F-C2AF-44E8-A606-8407F6FB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DDAC-4D8F-42F9-8E30-F97DBD70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54AD-8C36-4143-B5C7-5215643D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3AAD-094E-4CB3-BBB2-A5399542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CF1-672C-4BC8-BED1-0014F96A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D2D8-79D6-4A99-A535-60A050C7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F0AC-B850-4D8D-A21F-05066549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48DB-3284-41DA-9EB6-DD180518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5F00-CB14-4B2C-9FDC-4E07FD38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D9C2-5782-427F-8140-84F227F7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F75-4C5A-439B-BB81-80525998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A3C-C036-4346-A3CD-D6D0A3D2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45C-63A4-467C-9FB9-EE0972D0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3E4-1B7D-4A86-9F06-47E09625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028-484F-46D9-B2AA-689F4027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319-59FB-47E3-B92A-7F8BAA29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09B-A4B7-427D-A67F-4673E2C6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A940-2456-412D-AFE7-5276DC829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05E6-FE9D-48EB-8D0B-D2BC79653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38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орудование рабочего места в столярной мастерской.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284720" y="4724280"/>
            <a:ext cx="446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ель техноло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сковченко Н. 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400640" cy="6427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900680" cy="613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5191200" cy="641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243320" cy="6202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341960" cy="6335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600280" y="189000"/>
            <a:ext cx="4313160" cy="6275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Литература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ехнология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учебник для 5 класса /Под ред. В. Д. Симоненк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Энциклопедия работ по дерев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 Альберт Джексон; пер. с английского Ю. Су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новы столярного дел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(инструменты, материалы, приёмы работ, Т. Б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СОШ №45 г. Белгор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dovik45.ucoz.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9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бочее место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пространство приспособленное для выполнения учебно-трудового задания, размещения работающего, материалов, инструментов и оборудования, готовой проду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2924280"/>
            <a:ext cx="45752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бочая   зон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пространство   высотой   до   2   м   над   уровнем пола  и расстояние досягаемости рук в пределах рабочего места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43436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Основное оборудование рабочего места в школьной мастерской —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верстак: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316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Столярный верстак состоит и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 подверстачь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 крышки 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 отверстиями в которые вставляют клинь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 лот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5 переднего зажим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 заднего зажим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7 выдвижных или поворотных пальце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34484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507672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ботать у верстака следует стоя, и лишь некоторые виды работ можно выполнять сидя возле него на стуле. Высота верстака должна соответствовать росту уче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веряют это так: нужно встать около верстака, опустить руки вниз и положить на его крышку ладони. Если при этом не требуется наклоняться или сгибать руки, значит, высота верстака соответствует вашему рос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765000"/>
            <a:ext cx="3767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789360" cy="323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748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Передний зажим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дназначен для закрепления заготово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Отверстия с клиньям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редназначены для упора и крепления заготовок при строгании.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В лотк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зованном крышкой верстака и брусками обвязки, размещают инструмент.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Задний зажим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ьзуется для крепления заготовок при строгании и распиливании.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Выдвижные или поворотные пальц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служат для опоры длинномерных заготовок при их строган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25192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Рабочее место комплектуется набором инструментов.</a:t>
            </a:r>
            <a:br>
              <a:rPr sz="40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1" action="ppaction://hlinksldjump"/>
              </a:rPr>
              <a:t>Рубано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2" action="ppaction://hlinksldjump"/>
              </a:rPr>
              <a:t>Моло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3" action="ppaction://hlinksldjump"/>
              </a:rPr>
              <a:t>Ножов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4" action="ppaction://hlinksldjump"/>
              </a:rPr>
              <a:t>Клещ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5" action="ppaction://hlinksldjump"/>
              </a:rPr>
              <a:t>Стамес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6" action="ppaction://hlinksldjump"/>
              </a:rPr>
              <a:t>Линей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4572000" y="2349360"/>
            <a:ext cx="40384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Работу выполняют в специальной одежде: халатах, или фартуках. При работе соблюдают правила ухода за верстаком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5280" y="1197000"/>
            <a:ext cx="49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ерегать  крышку  верстака  от  повреждений  режущими инструмент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закручивать сильно передний и задний зажимы верста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 ударять  молотком   по  крышке  верстака   и   зажим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линья   в   отверстия   верстака   забивать   только   киян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рабочем месте не должны находиться лишние предметы и ненужные инструм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 окончании работы очищать верстак от стружки щет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Соблюдайте правила внутреннего распорядка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нимать и оставлять рабочее место только с разрешения учите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ед работой проверить состояние рабочего места и инструментов. Обнаружив не исправные инструменты сообщи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тайте  в  спецодежде,   имейте   при  себе  дневник, тетрадь, резинку, карандаш, ручк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чие инструменты на столярном верстаке кладите в лоток режущей частью от себя, на слесарном и уни­версальном — так, чтобы ими было удобно пользовать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 кладите тяжелые предметы на край верстака. Следите за тем,  чтобы  режущие части  инструментов не свисали с верста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тайте только исправным и остро заточенным ин­струментом, не отвлекайтесь во время работы, контро­лируйте ее выполн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рого соблюдайте установленные для каждого вида работы правила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случае недомогания или получения травмы немедленно сообщите об этом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работы очистите инструменты и поместите их в отведенные для них места, уберите рабочее место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6:02:37Z</dcterms:created>
  <dc:creator>Московченко</dc:creator>
  <dc:description/>
  <dc:language>en-US</dc:language>
  <cp:lastModifiedBy>XTreme</cp:lastModifiedBy>
  <dcterms:modified xsi:type="dcterms:W3CDTF">2009-06-01T09:42:17Z</dcterms:modified>
  <cp:revision>8</cp:revision>
  <dc:subject/>
  <dc:title>Оборудование рабочего места в столярной мастерской.</dc:title>
</cp:coreProperties>
</file>