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2C3-FF39-42B8-960F-356F5608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6792-4ABE-494F-9234-534121E3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3CE-E4A7-41BB-ABE1-13B977E4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F17-B3F0-45DB-B153-3FCE949E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5F1E-D0C5-42A8-A273-DAEFED65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F670-6B8C-4681-8D05-075BD233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591A-6302-4BB5-9197-41FF0744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4496-DC5B-4DF8-ABF6-A77EDDC8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0B94-D7C3-4B3B-B96F-36ED7ABD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B69B-7479-4812-881F-87C76C7E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5407-7C95-40A7-8573-9868E289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16AC-7492-4E76-B7DD-5764F7B2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73F7-C261-4EC8-9E95-B20012CD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4FB8-9EE6-4A22-82C2-940CA4A6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E921-64DB-4B3F-862C-D7AA9714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F865-CF89-4FE5-B30B-74A042D3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E58E-F08D-4D9E-92C4-F31CE803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CAE-C446-40D3-90DE-05290EF6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609-616B-4C99-9B3A-0C000D30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D60-6E95-4EAF-9C63-6265ABD9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982-2E09-4D66-B874-0748D3C7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C71-DAC2-445D-8E8A-E4DDFF94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2F9-561F-47E5-86E4-E9C46B44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6FC-A750-4870-A182-92A05FAD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8AD-64D0-4DEC-935A-5F89672FCAC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19B4-B3E5-4C7A-9F47-B0089DCAA8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EA23-0452-497F-B1A2-6AD1EE5C2AA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2D06-4F2E-4D61-AEEE-EB4348AB6D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980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Выполнение проектов на уроках технологии.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1640" y="3789360"/>
            <a:ext cx="360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012000" y="608004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Организационный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8200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. Выбери актуальную для себя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. Найди как можно больше информации по эт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. Четко сформулируй и запиши, что ты хочешь сдел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4. Определись и подумай 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времен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– как долго ты будешь решать эту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материалах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– какие имеются в твоем распоря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стоимости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колько это будет сто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функция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– для выполнения каких функций нужен данный объек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внешнем виде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– как он будет выгляде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5. Развивая свои идеи, помни, что простые идеи часто – лучшие ид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4572000" y="60796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Технологический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6. Тщательно продумай и запиши технологическую последовательность решения твоей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7. Приступай к практическому воплощению выбранной 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Заключительный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8.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Решил ли ты проблему? Подумай сам и спроси об этом других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9. Выполни практическое испытание своего изделия (услуг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0. При необходимости внеси изменения и дополнения в свой проек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1. Оформи пояснительную записку, соблюдая установленные треб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12. Подготовка к защите творческого проек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3772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Georgia"/>
              </a:rPr>
              <a:t>Проект состоит из двух ча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Изделие.               Пояснитель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запис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867280" y="3500280"/>
            <a:ext cx="2160720" cy="1986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71640" y="30686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63280" y="188640"/>
            <a:ext cx="482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Georgia"/>
              </a:rPr>
              <a:t>Изделие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Должно быть посильно в изгото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С использованием доступны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Безопасно в изготовлении и исполь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Отражать творчество и индивид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Быть эстетически красивым, модным, практичным и функциона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Должно быть полезно для общества и конкретной лич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59280" y="5122800"/>
            <a:ext cx="2158920" cy="173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Пояснительная  записка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Это своеобразный отчёт вашей деятельности, где отражается вся работа над проектом,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«от возникновения идеи до испытания и оценки издел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Пояснительная записка выполняется в специальной тетради или на стандартных листах белой бумаги печатным способом с рисунками, чертежами, таблицами,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19280" y="532620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0" y="580500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451640" y="5805360"/>
            <a:ext cx="129564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250920" y="60796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853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Разделы пояснительной  записки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316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ыбор и обоснование темы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Банк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ыбор и описание базов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Дизайн- спецификация. Выбор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Технология изгот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Техника безопасности при выполнении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Экологическое обосн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Экономическое обоснование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амо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ловарь тер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524720" y="587700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28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Творческий проект –</a:t>
            </a: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самостоятельно разработанное и изготовленное изделие от идеи до воплощения, обладающее объективной или субъективной новизной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96360" y="580536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Виды проектов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95280" y="1557000"/>
            <a:ext cx="842472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1" action="ppaction://hlinksldjump"/>
              </a:rPr>
              <a:t>Интеллектуа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2" action="ppaction://hlinksldjump"/>
              </a:rPr>
              <a:t>Материаль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3" action="ppaction://hlinksldjump"/>
              </a:rPr>
              <a:t>Экологическ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4" action="ppaction://hlinksldjump"/>
              </a:rPr>
              <a:t>Серви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ff"/>
                </a:solidFill>
                <a:uFillTx/>
                <a:latin typeface="Georgia"/>
                <a:hlinkClick r:id="rId5" action="ppaction://hlinksldjump"/>
              </a:rPr>
              <a:t>Комплексн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Интеллектуаль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исание модернизированных, оригинальных технологий обработки, конструкционных материалов, продуктов, почвы; разработка программ  для ЭВМ;  дизайнерские разработки оформления   интерьера помещений; рекламные девизы, слоганы, ярлыки и товарные знаки промышленной продукции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Материаль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готовление инструментов  и  приспособлений,  наглядных  пособий, бытовых устройств, пошив одежды, изготовление упаковок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Экологически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ы очистки загрязненных производственных помещений, лесных и сельскохозяйственных угодий, водоемов, разработка вариантов сбора и использования вторичного сырья, как для объектов труда учащихся, так и для промышленной перерабо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Сервис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ы, направленные на  сбор и предоставление информации, обслуживание и ремонт оборудования, ремонт и благоустройство жилья, оказание различных услуг населению, организацию  праздников,  торжеств и т.д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eorgia"/>
              </a:rPr>
              <a:t>Комплексные</a:t>
            </a: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лючающие интеллектуальные, материальные,  экологические и сервисные составляющие. Например, оформление деловых бумаг, сервировка стола, оформление интерьера квартиры, моделирование причесок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59464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Georgia"/>
              </a:rPr>
              <a:t>Работу над проектом можно разделить на три этап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Технологиче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Организацион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Заключительн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324000" y="573372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24720" y="573408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udovik45.ucoz.ru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4:21:13Z</dcterms:created>
  <dc:creator>1</dc:creator>
  <dc:description/>
  <dc:language>en-US</dc:language>
  <cp:lastModifiedBy>Московченко</cp:lastModifiedBy>
  <dcterms:modified xsi:type="dcterms:W3CDTF">2009-03-09T16:01:43Z</dcterms:modified>
  <cp:revision>13</cp:revision>
  <dc:subject/>
  <dc:title>Выполнение проектов на уроках технологии.</dc:title>
</cp:coreProperties>
</file>