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5.wmf" ContentType="image/x-wmf"/>
  <Override PartName="/ppt/media/image3.gif" ContentType="image/gif"/>
  <Override PartName="/ppt/media/image6.wmf" ContentType="image/x-wmf"/>
  <Override PartName="/ppt/media/image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DEF5-BC9F-4333-9A52-BFB740314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5348-773D-4631-9A0B-7978335CA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0740-847A-4B62-999D-48F7CBC61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784C-3C62-4B9E-B6F9-0CA6096B7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7F7BA-800D-4D8F-BB7B-C95F7A795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D1D1E-D3FE-4509-8ACF-3915E4D9F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3BB2E-A5E9-49F2-8D5B-C80D44603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3B16B-76B6-4417-B731-FB0FF9D1C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39010-AFFD-4B59-8081-86926E9D3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A0E0F-D897-4D9C-81A7-BEC7135A6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C9450-C16E-4FF1-8606-3C891EC8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6EE0-4471-4926-B67B-AC415B953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76A32-5C2F-4B4A-A803-6DE4B1DD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EC4B3-DE2A-40E2-B36F-428C1FF6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872BC-944D-4A95-8A11-2C2EB085A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8F284-1847-4573-A504-C491A3DFF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F77D3-4E10-44FB-8F9D-E07295918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F4FA-9668-47AA-9885-640B9FD82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9C60-DE83-46B5-8BD8-E75A55D74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3D55-7687-48BD-812A-330852AB8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17CB-D9DD-4680-A305-F268E8462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66DE-A3CB-408D-8980-AB73E298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1B34-2A7C-40D5-8009-01EEAA50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FE3D-D3B7-4856-AA40-501701CD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12CF5-385E-4C60-A3DF-C046EDD292E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E63B7-6574-410C-8D62-F045947A495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A2752-69F6-423F-9EE8-33C75B7142D1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46491-2E5C-431C-9C9B-DA10D0E5FF1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980640"/>
            <a:ext cx="77724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Georgia"/>
              </a:rPr>
              <a:t>Выполнение проектов на уроках технологии.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771640" y="3789360"/>
            <a:ext cx="3600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6012000" y="6080040"/>
            <a:ext cx="1295280" cy="7779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Georgia"/>
              </a:rPr>
              <a:t>Организационный</a:t>
            </a:r>
            <a:br>
              <a:rPr sz="6000"/>
            </a:br>
            <a:endParaRPr b="1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8200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. Выбери актуальную для себя т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2. Найди как можно больше информации по этой те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3. Четко сформулируй и запиши, что ты хочешь сдел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4. Определись и подумай 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времени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– как долго ты будешь решать эту пробл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материалах</a:t>
            </a:r>
            <a:r>
              <a:rPr b="1" lang="en-US" sz="24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– какие имеются в твоем распоряжен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стоимости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 –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сколько это будет стои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функциях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– для выполнения каких функций нужен данный объек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внешнем виде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– как он будет выгляде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5. Развивая свои идеи, помни, что простые идеи часто – лучшие иде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4572000" y="6079680"/>
            <a:ext cx="1295280" cy="77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udovik45.ucoz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Georgia"/>
              </a:rPr>
              <a:t>Технологический</a:t>
            </a:r>
            <a:endParaRPr b="1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6. Тщательно продумай и запиши технологическую последовательность решения твоей пробл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7. Приступай к практическому воплощению выбранной т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 rot="10800000">
            <a:off x="324000" y="5733720"/>
            <a:ext cx="1295280" cy="7779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524720" y="5734080"/>
            <a:ext cx="1295280" cy="77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udovik45.ucoz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 rot="10800000">
            <a:off x="324000" y="5733720"/>
            <a:ext cx="1295280" cy="7779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524720" y="5734080"/>
            <a:ext cx="1295280" cy="77796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Georgia"/>
              </a:rPr>
              <a:t>Заключительный</a:t>
            </a:r>
            <a:br>
              <a:rPr sz="6000"/>
            </a:br>
            <a:endParaRPr b="1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4247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8. 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Решил ли ты проблему? Подумай сам и спроси об этом других люд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9. Выполни практическое испытание своего изделия (услуги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10. При необходимости внеси изменения и дополнения в свой проек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11. Оформи пояснительную записку, соблюдая установленные требова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12. Подготовка к защите творческого проект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udovik45.ucoz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3772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Georgia"/>
              </a:rPr>
              <a:t>Проект состоит из двух част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Изделие.               Пояснительна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    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запис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867280" y="3500280"/>
            <a:ext cx="2160720" cy="1986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971640" y="306864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 rot="10800000">
            <a:off x="324000" y="5733720"/>
            <a:ext cx="1295280" cy="7779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7524720" y="5734080"/>
            <a:ext cx="1295280" cy="77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udovik45.ucoz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63280" y="188640"/>
            <a:ext cx="482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Georgia"/>
              </a:rPr>
              <a:t>Изделие.</a:t>
            </a:r>
            <a:endParaRPr b="1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96472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Должно быть посильно в изготовл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С использованием доступных материа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Безопасно в изготовлении и использова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Отражать творчество и индивидуа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Быть эстетически красивым, модным, практичным и функциональн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Должно быть полезно для общества и конкретной лич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524720" y="5734080"/>
            <a:ext cx="1295280" cy="7779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324000" y="5733720"/>
            <a:ext cx="1295280" cy="77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udovik45.ucoz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859280" y="5122800"/>
            <a:ext cx="2158920" cy="17352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3851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eorgia"/>
              </a:rPr>
              <a:t>Пояснительная  записка.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7138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Это своеобразный отчёт вашей деятельности, где отражается вся работа над проектом, </a:t>
            </a:r>
            <a:r>
              <a:rPr b="0" lang="en-US" sz="3200" spc="-1" strike="noStrike">
                <a:solidFill>
                  <a:srgbClr val="ff0000"/>
                </a:solidFill>
                <a:latin typeface="Georgia"/>
              </a:rPr>
              <a:t>«от возникновения идеи до испытания и оценки издел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Пояснительная записка выполняется в специальной тетради или на стандартных листах белой бумаги печатным способом с рисунками, чертежами, таблицами, и т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619280" y="5326200"/>
            <a:ext cx="1752480" cy="15318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 rot="10800000">
            <a:off x="0" y="5805000"/>
            <a:ext cx="1295280" cy="7779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7451640" y="5805360"/>
            <a:ext cx="1295640" cy="77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udovik45.ucoz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 rot="10800000">
            <a:off x="250920" y="6079680"/>
            <a:ext cx="1295280" cy="77796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8853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eorgia"/>
              </a:rPr>
              <a:t>Разделы пояснительной  записки.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316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Выбор и обоснование темы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Историческая спра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Банк и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Выбор и описание базового вариан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Дизайн- спецификация. Выбор матери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Технология изгото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Техника безопасности при выполнении раб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Экологическое обосн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Экономическое обоснование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Рекл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Самооц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Словарь терми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Список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524720" y="5877000"/>
            <a:ext cx="1295280" cy="77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udovik45.ucoz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28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eorgia"/>
              </a:rPr>
              <a:t>Творческий проект –</a:t>
            </a: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самостоятельно разработанное и изготовленное изделие от идеи до воплощения, обладающее объективной или субъективной новизной.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596360" y="5805360"/>
            <a:ext cx="1295280" cy="7779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324000" y="5733720"/>
            <a:ext cx="1295280" cy="77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udovik45.ucoz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Georgia"/>
              </a:rPr>
              <a:t>Виды проектов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395280" y="1557000"/>
            <a:ext cx="842472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ff"/>
                </a:solidFill>
                <a:uFillTx/>
                <a:latin typeface="Georgia"/>
                <a:hlinkClick r:id="rId1" action="ppaction://hlinksldjump"/>
              </a:rPr>
              <a:t>Интеллектуальны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ff"/>
                </a:solidFill>
                <a:uFillTx/>
                <a:latin typeface="Georgia"/>
                <a:hlinkClick r:id="rId2" action="ppaction://hlinksldjump"/>
              </a:rPr>
              <a:t>Материальны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ff"/>
                </a:solidFill>
                <a:uFillTx/>
                <a:latin typeface="Georgia"/>
                <a:hlinkClick r:id="rId3" action="ppaction://hlinksldjump"/>
              </a:rPr>
              <a:t>Экологическ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ff"/>
                </a:solidFill>
                <a:uFillTx/>
                <a:latin typeface="Georgia"/>
                <a:hlinkClick r:id="rId4" action="ppaction://hlinksldjump"/>
              </a:rPr>
              <a:t>Сервисны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ff"/>
                </a:solidFill>
                <a:uFillTx/>
                <a:latin typeface="Georgia"/>
                <a:hlinkClick r:id="rId5" action="ppaction://hlinksldjump"/>
              </a:rPr>
              <a:t>Комплексны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 rot="10800000">
            <a:off x="324000" y="5733720"/>
            <a:ext cx="1295280" cy="777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7524720" y="5734080"/>
            <a:ext cx="12952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Georgia"/>
              </a:rPr>
              <a:t>Интеллектуальные</a:t>
            </a:r>
            <a:br>
              <a:rPr sz="6000"/>
            </a:br>
            <a:endParaRPr b="1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исание модернизированных, оригинальных технологий обработки, конструкционных материалов, продуктов, почвы; разработка программ  для ЭВМ;  дизайнерские разработки оформления   интерьера помещений; рекламные девизы, слоганы, ярлыки и товарные знаки промышленной продукции и т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 rot="10800000">
            <a:off x="324000" y="5733720"/>
            <a:ext cx="1295280" cy="7779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524720" y="5734080"/>
            <a:ext cx="1295280" cy="77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udovik45.ucoz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Georgia"/>
              </a:rPr>
              <a:t>Материальные</a:t>
            </a:r>
            <a:br>
              <a:rPr sz="6000"/>
            </a:br>
            <a:endParaRPr b="1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готовление инструментов  и  приспособлений,  наглядных  пособий, бытовых устройств, пошив одежды, изготовление упаковок и т.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 rot="10800000">
            <a:off x="324000" y="5733720"/>
            <a:ext cx="1295280" cy="7779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524720" y="5734080"/>
            <a:ext cx="1295280" cy="77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udovik45.ucoz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 rot="10800000">
            <a:off x="324000" y="5733720"/>
            <a:ext cx="1295280" cy="7779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Georgia"/>
              </a:rPr>
              <a:t>Экологические</a:t>
            </a:r>
            <a:br>
              <a:rPr sz="6000"/>
            </a:br>
            <a:endParaRPr b="1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особы очистки загрязненных производственных помещений, лесных и сельскохозяйственных угодий, водоемов, разработка вариантов сбора и использования вторичного сырья, как для объектов труда учащихся, так и для промышленной переработ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524720" y="5734080"/>
            <a:ext cx="1295280" cy="77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udovik45.ucoz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Georgia"/>
              </a:rPr>
              <a:t>Сервисные</a:t>
            </a:r>
            <a:br>
              <a:rPr sz="6000"/>
            </a:br>
            <a:endParaRPr b="1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екты, направленные на  сбор и предоставление информации, обслуживание и ремонт оборудования, ремонт и благоустройство жилья, оказание различных услуг населению, организацию  праздников,  торжеств и т.д.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 rot="10800000">
            <a:off x="324000" y="5733720"/>
            <a:ext cx="1295280" cy="7779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524720" y="5734080"/>
            <a:ext cx="1295280" cy="77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udovik45.ucoz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Georgia"/>
              </a:rPr>
              <a:t>Комплексные</a:t>
            </a:r>
            <a:br>
              <a:rPr sz="6000"/>
            </a:br>
            <a:endParaRPr b="1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ключающие интеллектуальные, материальные,  экологические и сервисные составляющие. Например, оформление деловых бумаг, сервировка стола, оформление интерьера квартиры, моделирование причесок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 rot="10800000">
            <a:off x="324000" y="5733720"/>
            <a:ext cx="1295280" cy="7779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524720" y="5734080"/>
            <a:ext cx="1295280" cy="77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udovik45.ucoz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59464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Georgia"/>
              </a:rPr>
              <a:t>Работу над проектом можно разделить на три этап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eorgia"/>
              </a:rPr>
              <a:t>Технологическ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eorgia"/>
              </a:rPr>
              <a:t>Организационн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eorgia"/>
              </a:rPr>
              <a:t>Заключительн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 rot="10800000">
            <a:off x="324000" y="5733720"/>
            <a:ext cx="1295280" cy="7779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524720" y="5734080"/>
            <a:ext cx="1295280" cy="77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udovik45.ucoz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0T14:21:13Z</dcterms:created>
  <dc:creator>1</dc:creator>
  <dc:description/>
  <dc:language>en-US</dc:language>
  <cp:lastModifiedBy>Московченко</cp:lastModifiedBy>
  <dcterms:modified xsi:type="dcterms:W3CDTF">2009-03-09T16:01:43Z</dcterms:modified>
  <cp:revision>13</cp:revision>
  <dc:subject/>
  <dc:title>Выполнение проектов на уроках технологии.</dc:title>
</cp:coreProperties>
</file>